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  <p:sldId id="336" r:id="rId88"/>
    <p:sldId id="337" r:id="rId89"/>
    <p:sldId id="338" r:id="rId90"/>
    <p:sldId id="339" r:id="rId91"/>
    <p:sldId id="340" r:id="rId92"/>
    <p:sldId id="341" r:id="rId93"/>
    <p:sldId id="342" r:id="rId94"/>
    <p:sldId id="343" r:id="rId95"/>
    <p:sldId id="344" r:id="rId96"/>
    <p:sldId id="345" r:id="rId97"/>
    <p:sldId id="346" r:id="rId98"/>
    <p:sldId id="347" r:id="rId99"/>
    <p:sldId id="348" r:id="rId100"/>
    <p:sldId id="349" r:id="rId101"/>
    <p:sldId id="350" r:id="rId102"/>
    <p:sldId id="351" r:id="rId103"/>
    <p:sldId id="352" r:id="rId104"/>
    <p:sldId id="353" r:id="rId105"/>
    <p:sldId id="354" r:id="rId106"/>
    <p:sldId id="355" r:id="rId107"/>
    <p:sldId id="356" r:id="rId108"/>
    <p:sldId id="357" r:id="rId109"/>
    <p:sldId id="358" r:id="rId110"/>
    <p:sldId id="359" r:id="rId111"/>
    <p:sldId id="360" r:id="rId112"/>
    <p:sldId id="361" r:id="rId113"/>
    <p:sldId id="362" r:id="rId114"/>
    <p:sldId id="363" r:id="rId115"/>
    <p:sldId id="364" r:id="rId116"/>
    <p:sldId id="365" r:id="rId117"/>
    <p:sldId id="366" r:id="rId118"/>
    <p:sldId id="367" r:id="rId119"/>
    <p:sldId id="368" r:id="rId120"/>
    <p:sldId id="369" r:id="rId121"/>
    <p:sldId id="370" r:id="rId122"/>
    <p:sldId id="371" r:id="rId123"/>
    <p:sldId id="372" r:id="rId124"/>
    <p:sldId id="373" r:id="rId125"/>
    <p:sldId id="374" r:id="rId126"/>
    <p:sldId id="375" r:id="rId127"/>
    <p:sldId id="376" r:id="rId128"/>
    <p:sldId id="377" r:id="rId129"/>
    <p:sldId id="378" r:id="rId130"/>
    <p:sldId id="379" r:id="rId131"/>
    <p:sldId id="380" r:id="rId132"/>
    <p:sldId id="381" r:id="rId133"/>
    <p:sldId id="382" r:id="rId134"/>
    <p:sldId id="383" r:id="rId135"/>
    <p:sldId id="384" r:id="rId136"/>
    <p:sldId id="385" r:id="rId137"/>
    <p:sldId id="386" r:id="rId138"/>
    <p:sldId id="387" r:id="rId139"/>
    <p:sldId id="388" r:id="rId140"/>
    <p:sldId id="389" r:id="rId1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slide" Target="slides/slide81.xml"/><Relationship Id="rId89" Type="http://schemas.openxmlformats.org/officeDocument/2006/relationships/slide" Target="slides/slide82.xml"/><Relationship Id="rId90" Type="http://schemas.openxmlformats.org/officeDocument/2006/relationships/slide" Target="slides/slide83.xml"/><Relationship Id="rId91" Type="http://schemas.openxmlformats.org/officeDocument/2006/relationships/slide" Target="slides/slide84.xml"/><Relationship Id="rId92" Type="http://schemas.openxmlformats.org/officeDocument/2006/relationships/slide" Target="slides/slide85.xml"/><Relationship Id="rId93" Type="http://schemas.openxmlformats.org/officeDocument/2006/relationships/slide" Target="slides/slide86.xml"/><Relationship Id="rId94" Type="http://schemas.openxmlformats.org/officeDocument/2006/relationships/slide" Target="slides/slide87.xml"/><Relationship Id="rId95" Type="http://schemas.openxmlformats.org/officeDocument/2006/relationships/slide" Target="slides/slide88.xml"/><Relationship Id="rId96" Type="http://schemas.openxmlformats.org/officeDocument/2006/relationships/slide" Target="slides/slide89.xml"/><Relationship Id="rId97" Type="http://schemas.openxmlformats.org/officeDocument/2006/relationships/slide" Target="slides/slide90.xml"/><Relationship Id="rId98" Type="http://schemas.openxmlformats.org/officeDocument/2006/relationships/slide" Target="slides/slide91.xml"/><Relationship Id="rId99" Type="http://schemas.openxmlformats.org/officeDocument/2006/relationships/slide" Target="slides/slide92.xml"/><Relationship Id="rId100" Type="http://schemas.openxmlformats.org/officeDocument/2006/relationships/slide" Target="slides/slide93.xml"/><Relationship Id="rId101" Type="http://schemas.openxmlformats.org/officeDocument/2006/relationships/slide" Target="slides/slide94.xml"/><Relationship Id="rId102" Type="http://schemas.openxmlformats.org/officeDocument/2006/relationships/slide" Target="slides/slide95.xml"/><Relationship Id="rId103" Type="http://schemas.openxmlformats.org/officeDocument/2006/relationships/slide" Target="slides/slide96.xml"/><Relationship Id="rId104" Type="http://schemas.openxmlformats.org/officeDocument/2006/relationships/slide" Target="slides/slide97.xml"/><Relationship Id="rId105" Type="http://schemas.openxmlformats.org/officeDocument/2006/relationships/slide" Target="slides/slide98.xml"/><Relationship Id="rId106" Type="http://schemas.openxmlformats.org/officeDocument/2006/relationships/slide" Target="slides/slide99.xml"/><Relationship Id="rId107" Type="http://schemas.openxmlformats.org/officeDocument/2006/relationships/slide" Target="slides/slide100.xml"/><Relationship Id="rId108" Type="http://schemas.openxmlformats.org/officeDocument/2006/relationships/slide" Target="slides/slide101.xml"/><Relationship Id="rId109" Type="http://schemas.openxmlformats.org/officeDocument/2006/relationships/slide" Target="slides/slide102.xml"/><Relationship Id="rId110" Type="http://schemas.openxmlformats.org/officeDocument/2006/relationships/slide" Target="slides/slide103.xml"/><Relationship Id="rId111" Type="http://schemas.openxmlformats.org/officeDocument/2006/relationships/slide" Target="slides/slide104.xml"/><Relationship Id="rId112" Type="http://schemas.openxmlformats.org/officeDocument/2006/relationships/slide" Target="slides/slide105.xml"/><Relationship Id="rId113" Type="http://schemas.openxmlformats.org/officeDocument/2006/relationships/slide" Target="slides/slide106.xml"/><Relationship Id="rId114" Type="http://schemas.openxmlformats.org/officeDocument/2006/relationships/slide" Target="slides/slide107.xml"/><Relationship Id="rId115" Type="http://schemas.openxmlformats.org/officeDocument/2006/relationships/slide" Target="slides/slide108.xml"/><Relationship Id="rId116" Type="http://schemas.openxmlformats.org/officeDocument/2006/relationships/slide" Target="slides/slide109.xml"/><Relationship Id="rId117" Type="http://schemas.openxmlformats.org/officeDocument/2006/relationships/slide" Target="slides/slide110.xml"/><Relationship Id="rId118" Type="http://schemas.openxmlformats.org/officeDocument/2006/relationships/slide" Target="slides/slide111.xml"/><Relationship Id="rId119" Type="http://schemas.openxmlformats.org/officeDocument/2006/relationships/slide" Target="slides/slide112.xml"/><Relationship Id="rId120" Type="http://schemas.openxmlformats.org/officeDocument/2006/relationships/slide" Target="slides/slide113.xml"/><Relationship Id="rId121" Type="http://schemas.openxmlformats.org/officeDocument/2006/relationships/slide" Target="slides/slide114.xml"/><Relationship Id="rId122" Type="http://schemas.openxmlformats.org/officeDocument/2006/relationships/slide" Target="slides/slide115.xml"/><Relationship Id="rId123" Type="http://schemas.openxmlformats.org/officeDocument/2006/relationships/slide" Target="slides/slide116.xml"/><Relationship Id="rId124" Type="http://schemas.openxmlformats.org/officeDocument/2006/relationships/slide" Target="slides/slide117.xml"/><Relationship Id="rId125" Type="http://schemas.openxmlformats.org/officeDocument/2006/relationships/slide" Target="slides/slide118.xml"/><Relationship Id="rId126" Type="http://schemas.openxmlformats.org/officeDocument/2006/relationships/slide" Target="slides/slide119.xml"/><Relationship Id="rId127" Type="http://schemas.openxmlformats.org/officeDocument/2006/relationships/slide" Target="slides/slide120.xml"/><Relationship Id="rId128" Type="http://schemas.openxmlformats.org/officeDocument/2006/relationships/slide" Target="slides/slide121.xml"/><Relationship Id="rId129" Type="http://schemas.openxmlformats.org/officeDocument/2006/relationships/slide" Target="slides/slide122.xml"/><Relationship Id="rId130" Type="http://schemas.openxmlformats.org/officeDocument/2006/relationships/slide" Target="slides/slide123.xml"/><Relationship Id="rId131" Type="http://schemas.openxmlformats.org/officeDocument/2006/relationships/slide" Target="slides/slide124.xml"/><Relationship Id="rId132" Type="http://schemas.openxmlformats.org/officeDocument/2006/relationships/slide" Target="slides/slide125.xml"/><Relationship Id="rId133" Type="http://schemas.openxmlformats.org/officeDocument/2006/relationships/slide" Target="slides/slide126.xml"/><Relationship Id="rId134" Type="http://schemas.openxmlformats.org/officeDocument/2006/relationships/slide" Target="slides/slide127.xml"/><Relationship Id="rId135" Type="http://schemas.openxmlformats.org/officeDocument/2006/relationships/slide" Target="slides/slide128.xml"/><Relationship Id="rId136" Type="http://schemas.openxmlformats.org/officeDocument/2006/relationships/slide" Target="slides/slide129.xml"/><Relationship Id="rId137" Type="http://schemas.openxmlformats.org/officeDocument/2006/relationships/slide" Target="slides/slide130.xml"/><Relationship Id="rId138" Type="http://schemas.openxmlformats.org/officeDocument/2006/relationships/slide" Target="slides/slide131.xml"/><Relationship Id="rId139" Type="http://schemas.openxmlformats.org/officeDocument/2006/relationships/slide" Target="slides/slide132.xml"/><Relationship Id="rId140" Type="http://schemas.openxmlformats.org/officeDocument/2006/relationships/slide" Target="slides/slide133.xml"/><Relationship Id="rId141" Type="http://schemas.openxmlformats.org/officeDocument/2006/relationships/slide" Target="slides/slide134.xml"/><Relationship Id="rId1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1887-441C-4AED-859E-D17BF9ED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F6DD-16B3-4384-8026-529E71CE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AE91-3308-4667-92F3-D34E9372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C841-7360-40BA-B19A-06FE8A93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F63B-211F-4B7D-A182-E71ABB38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64A2-FEC8-47AE-B3FC-681334A2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EDE3-64EB-4C5F-921D-298DB469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A94B-79CF-4C80-A8E3-FB896993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2FEC-D76C-463B-930A-A2B28B18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72BF-7143-4AB3-9723-31CCD2E2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8E6C-466F-400A-B602-7E4D1C17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C5E1-8FA4-4938-A4AD-3E922DB4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244E-C5DC-4254-A0A9-ED29D3B7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CB93-ECB6-4677-B1B7-84255097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18EA-4E19-4082-8153-916BD412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1EC6-772F-4A34-9534-CEC88EA6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7BAD-4B61-4345-8781-7574E338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1C395-C15C-4E84-A7C0-5CD98DFD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CAE72-C1AF-48A4-96C6-2130C932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E21DE-B8A2-4D3F-8DF0-E9DE8D25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2666B-F968-4EE4-A5C0-4FA04FFE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F62C4-3634-40C0-8F92-12548F0C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18C0-5502-4FD0-BF26-7C941B21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10229-BDDD-4F21-9D8A-DC1E3C07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B7882-28AD-4C3D-9CEF-976118D5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114DB-64A5-46ED-9A46-3209B343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13561-2FD9-4334-BB20-75E17082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E4A13-6C3F-4819-94EF-5FFADA2D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AF6EA-CD14-483B-9945-D4F8BB84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B8E29-CFEA-4128-B6A7-D6CE45EF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0F784-6BB6-4F30-977F-2542979FE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009BA-1170-473C-AD4C-B84707CD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609C4-2D6C-4158-AF12-FA6AAABC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B22A-46AB-4EB4-884F-F4706F45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037A6-0A09-40C6-AB87-652097A7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D58EC-4DC7-49BE-9000-975D47F8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FD09B-6CFA-48F0-A281-7E45CFB2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EA2A8-F883-4BCC-857E-175CD00C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A0C94-5B35-4B37-848C-4757ACAD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F61BC-F930-4D9F-ABC5-E20E37F3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CC5F1-9A4F-4EA0-814B-45BFE93E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73133-E306-4B1F-8446-AD6449F6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2CFE7-505B-4EAD-9C99-489FFB2F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1FCF4-1759-44DA-8C15-B5CEC662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0762-468A-4FD6-8A67-B2C28EF8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0303C-FD27-4B10-B3E7-A00937A6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000FD-5DF5-4FD0-B35B-A76E3A1A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9AEA9-4CCF-46AA-9BF3-DC3F45D4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E00A3-EE51-43E2-AC02-65F72B89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395D4-5F45-4687-84BE-16D9D314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3643A-730D-4D23-9A2D-146BAAAA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079DE-361B-40F8-8B2B-3638D5F1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ABA8A-9B21-4B52-9D2D-4314B437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D314B-C44B-4ACF-95CA-F99D9CAD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A9ADE-AF4E-43E0-88F2-FDFD9A50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7848-63B9-4AC8-8D01-D94076F4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29D48-6ECC-421A-BF53-CB7956F0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D146F-3EB5-4D22-B935-02AC12F6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9D1D7-E324-4AB7-AD13-5D2E7FEB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72F02-BA61-4753-B37B-374385E8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89B85-C34D-46BB-A2B6-F19BA864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DB659-E759-4236-AA20-82617FE0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E4AF7-5874-4026-B043-2C27E728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9462D-0A3C-499F-A898-9017F3A5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8925B-2A52-409E-A089-06BD8469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15F25-3ACB-4B0D-857E-7868A4C2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1536-00A0-4365-ABD3-E29EEAEC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BE77A-BBD9-4AD6-934B-A9859C42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53A58-32CE-41D7-AC77-3849F90A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FE01C-AA99-476A-BAA7-0D7C1FF1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9B00-DAAA-4CBD-8099-64F15709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2550-7887-4078-9547-6F82164A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9328-6F63-48F5-8427-66566B6168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2456-D059-4A19-AC54-B16A3CC2B7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D0EA-7EEE-442B-954F-4633AED453C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F355-FEBD-4396-AF44-8C91B3D4D0F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301E-02A2-4939-84A7-CCA239E5C1BA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dt" idx="16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ftr" idx="17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8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1D41-7204-4757-B87F-905AA8542461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38.xml"/><Relationship Id="rId3" Type="http://schemas.openxmlformats.org/officeDocument/2006/relationships/slide" Target="slide49.xml"/><Relationship Id="rId4" Type="http://schemas.openxmlformats.org/officeDocument/2006/relationships/slide" Target="slide57.xml"/><Relationship Id="rId5" Type="http://schemas.openxmlformats.org/officeDocument/2006/relationships/slide" Target="slide57.xml"/><Relationship Id="rId6" Type="http://schemas.openxmlformats.org/officeDocument/2006/relationships/slide" Target="slide69.xml"/><Relationship Id="rId7" Type="http://schemas.openxmlformats.org/officeDocument/2006/relationships/slide" Target="slide82.xml"/><Relationship Id="rId8" Type="http://schemas.openxmlformats.org/officeDocument/2006/relationships/slide" Target="slide91.xml"/><Relationship Id="rId9" Type="http://schemas.openxmlformats.org/officeDocument/2006/relationships/slide" Target="slide101.xml"/><Relationship Id="rId10" Type="http://schemas.openxmlformats.org/officeDocument/2006/relationships/slide" Target="slide113.xml"/><Relationship Id="rId11" Type="http://schemas.openxmlformats.org/officeDocument/2006/relationships/slide" Target="slide124.xml"/><Relationship Id="rId1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" Target="slide26.xml"/><Relationship Id="rId4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93800" y="1926720"/>
            <a:ext cx="6703920" cy="12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6633"/>
                </a:solidFill>
                <a:latin typeface="Garamond"/>
              </a:rPr>
              <a:t>                    </a:t>
            </a:r>
            <a:endParaRPr b="0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"/>
          <p:cNvSpPr/>
          <p:nvPr/>
        </p:nvSpPr>
        <p:spPr>
          <a:xfrm>
            <a:off x="250920" y="692280"/>
            <a:ext cx="8642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doni MT"/>
              </a:rPr>
              <a:t>«Сечения многогранников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 flipV="1">
            <a:off x="1217520" y="2150640"/>
            <a:ext cx="1725840" cy="20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611280" y="2357280"/>
            <a:ext cx="606240" cy="35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41560" y="2155680"/>
            <a:ext cx="723960" cy="5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01560" y="2716200"/>
            <a:ext cx="19130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514240" y="2716200"/>
            <a:ext cx="11509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2708280"/>
            <a:ext cx="0" cy="267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504880" y="3506760"/>
            <a:ext cx="6120" cy="265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201680" y="2371680"/>
            <a:ext cx="4680" cy="2649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941560" y="2149560"/>
            <a:ext cx="0" cy="2673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660840" y="2724120"/>
            <a:ext cx="0" cy="264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1193760" y="4804920"/>
            <a:ext cx="1749600" cy="206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10920" y="5025960"/>
            <a:ext cx="571320" cy="347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9200" y="5383080"/>
            <a:ext cx="1884240" cy="78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2508120" y="5376960"/>
            <a:ext cx="114624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963880" y="4809960"/>
            <a:ext cx="71928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70000" y="51609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09520" y="25732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30240" y="4734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57160" y="19969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916360" y="450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85880" y="1781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635280" y="515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635280" y="2492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41520" y="6100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195640" y="342900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71640" y="5210280"/>
            <a:ext cx="54000" cy="5400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470320" y="4564080"/>
            <a:ext cx="5364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627360" y="3375000"/>
            <a:ext cx="54000" cy="5400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903400" y="2793960"/>
            <a:ext cx="54000" cy="5400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94240" y="3149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873520" y="250020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124000" y="450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932200" y="2813040"/>
            <a:ext cx="728640" cy="58104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493720" y="3403440"/>
            <a:ext cx="1174680" cy="11862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2505240" y="2852640"/>
            <a:ext cx="403200" cy="171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2503080" y="4797360"/>
            <a:ext cx="438120" cy="13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71640" y="494172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1195200" y="5014440"/>
            <a:ext cx="243972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1182240" y="3043080"/>
            <a:ext cx="2482920" cy="34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746440" y="3368520"/>
            <a:ext cx="54000" cy="5400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782800" y="3243240"/>
            <a:ext cx="54000" cy="5400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2555280" y="292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610920" y="5370120"/>
            <a:ext cx="304308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611280" y="3357360"/>
            <a:ext cx="3062160" cy="37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747880" y="5349960"/>
            <a:ext cx="54000" cy="5400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82920" y="33336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00360" y="5300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170000" y="3005280"/>
            <a:ext cx="54000" cy="5400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92200" y="33354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98320" y="3033360"/>
            <a:ext cx="597240" cy="33660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593280" y="3365640"/>
            <a:ext cx="1917720" cy="1231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181160" y="2809440"/>
            <a:ext cx="1768320" cy="22860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0920" y="321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168560" y="26798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84360" y="2602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троение сечения методом внутреннего проец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4000" y="907920"/>
            <a:ext cx="417492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ан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приз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CDF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точки Р – на ребре СС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на ребр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; М – на ребр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Построить сечение, проходящее через данные точ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427640" y="674640"/>
            <a:ext cx="471636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тро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единим т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т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Получим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). Соединим т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т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Получим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)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единим т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т.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). Спроецируем точки Р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, M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Они спроектируются на точки С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, F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).  Соединим т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т.В. Получим, что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ересекаются в т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). Спроецируем т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на плоскост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N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Получим т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7). Спроецируем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а плоскост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N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Получим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Q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). Соединим т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т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Получим, что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ересекаются в т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9). Спроецируем т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а плоскост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N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Получим т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0). Соединим т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т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Получим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1). Спроецируем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а плоскост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N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Получим отрезок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K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который наложится на отрезок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V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т.е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K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является продолжением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V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ятиугольник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QPN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искомое сечение данного ку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805120" y="3281400"/>
            <a:ext cx="0" cy="197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776680" y="3381480"/>
            <a:ext cx="0" cy="1992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9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9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9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9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900" fill="hold"/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3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900" fill="hold"/>
                                        <p:tgtEl>
                                          <p:spTgt spid="3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3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"/>
          <p:cNvSpPr/>
          <p:nvPr/>
        </p:nvSpPr>
        <p:spPr>
          <a:xfrm>
            <a:off x="3852720" y="25653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5437080" y="2565360"/>
            <a:ext cx="287280" cy="28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 flipH="1">
            <a:off x="4571640" y="2852640"/>
            <a:ext cx="115236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 flipH="1" flipV="1">
            <a:off x="3060720" y="2924280"/>
            <a:ext cx="151128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 flipV="1">
            <a:off x="3060720" y="141300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 flipV="1">
            <a:off x="4572000" y="184464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"/>
          <p:cNvSpPr/>
          <p:nvPr/>
        </p:nvSpPr>
        <p:spPr>
          <a:xfrm flipV="1">
            <a:off x="5724360" y="133992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/>
          <p:cNvSpPr/>
          <p:nvPr/>
        </p:nvSpPr>
        <p:spPr>
          <a:xfrm flipV="1">
            <a:off x="3852720" y="105264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 flipV="1">
            <a:off x="5437080" y="105264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3060720" y="1413000"/>
            <a:ext cx="151128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 flipV="1">
            <a:off x="4572000" y="1339920"/>
            <a:ext cx="115236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 flipV="1">
            <a:off x="3060720" y="1052280"/>
            <a:ext cx="79200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"/>
          <p:cNvSpPr/>
          <p:nvPr/>
        </p:nvSpPr>
        <p:spPr>
          <a:xfrm flipH="1" flipV="1">
            <a:off x="5437080" y="1052640"/>
            <a:ext cx="2872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>
            <a:off x="3852720" y="105264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>
            <a:off x="2556000" y="2781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>
            <a:off x="4140360" y="3357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"/>
          <p:cNvSpPr/>
          <p:nvPr/>
        </p:nvSpPr>
        <p:spPr>
          <a:xfrm>
            <a:off x="5292720" y="2708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>
            <a:off x="4572000" y="2205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>
            <a:off x="3276720" y="2276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>
            <a:off x="2484360" y="1268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>
            <a:off x="4284720" y="1773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>
            <a:off x="5364000" y="1197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4643280" y="6922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>
            <a:off x="3276720" y="692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"/>
          <p:cNvSpPr/>
          <p:nvPr/>
        </p:nvSpPr>
        <p:spPr>
          <a:xfrm>
            <a:off x="1692360" y="1773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"/>
          <p:cNvSpPr/>
          <p:nvPr/>
        </p:nvSpPr>
        <p:spPr>
          <a:xfrm>
            <a:off x="2195640" y="1916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/>
          <p:nvPr/>
        </p:nvSpPr>
        <p:spPr>
          <a:xfrm>
            <a:off x="4067280" y="17002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/>
          <p:cNvSpPr/>
          <p:nvPr/>
        </p:nvSpPr>
        <p:spPr>
          <a:xfrm>
            <a:off x="6012000" y="177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2340000" y="9079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>
            <a:off x="3276720" y="105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/>
          <p:cNvSpPr/>
          <p:nvPr/>
        </p:nvSpPr>
        <p:spPr>
          <a:xfrm flipV="1">
            <a:off x="3059280" y="2565000"/>
            <a:ext cx="792000" cy="358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 flipV="1">
            <a:off x="3059280" y="1268280"/>
            <a:ext cx="792000" cy="86544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 flipV="1">
            <a:off x="1084320" y="2133360"/>
            <a:ext cx="1976400" cy="21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 flipV="1">
            <a:off x="684360" y="2924280"/>
            <a:ext cx="2376360" cy="1076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1258920" y="306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3851280" y="2576520"/>
            <a:ext cx="1873080" cy="276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5724360" y="2852640"/>
            <a:ext cx="30956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3851280" y="1268280"/>
            <a:ext cx="1873080" cy="81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5724360" y="2060640"/>
            <a:ext cx="2951280" cy="128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8244000" y="2924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 flipV="1">
            <a:off x="1835280" y="3282840"/>
            <a:ext cx="669744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687708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>
            <a:off x="3059280" y="2924280"/>
            <a:ext cx="2520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>
            <a:off x="471636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"/>
          <p:cNvSpPr/>
          <p:nvPr/>
        </p:nvSpPr>
        <p:spPr>
          <a:xfrm flipH="1" flipV="1">
            <a:off x="3059280" y="2133720"/>
            <a:ext cx="172872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"/>
          <p:cNvSpPr/>
          <p:nvPr/>
        </p:nvSpPr>
        <p:spPr>
          <a:xfrm>
            <a:off x="4356000" y="2924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"/>
          <p:cNvSpPr/>
          <p:nvPr/>
        </p:nvSpPr>
        <p:spPr>
          <a:xfrm flipH="1">
            <a:off x="4355640" y="2565360"/>
            <a:ext cx="107964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>
            <a:off x="392436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 flipV="1">
            <a:off x="4500720" y="1557000"/>
            <a:ext cx="934920" cy="187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>
            <a:off x="4788000" y="1197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 flipH="1" flipV="1">
            <a:off x="3059280" y="2133720"/>
            <a:ext cx="1512720" cy="1133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 flipV="1">
            <a:off x="4572000" y="2060640"/>
            <a:ext cx="1152360" cy="1224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3851280" y="1268280"/>
            <a:ext cx="1584360" cy="216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5435640" y="1484280"/>
            <a:ext cx="288720" cy="57636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3276720" y="1916280"/>
            <a:ext cx="415800" cy="720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>
            <a:off x="3492360" y="1700280"/>
            <a:ext cx="747720" cy="1297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3708360" y="1413000"/>
            <a:ext cx="955800" cy="1655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>
            <a:off x="4067280" y="1268280"/>
            <a:ext cx="914400" cy="1584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>
            <a:off x="4572000" y="1341360"/>
            <a:ext cx="665280" cy="1150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/>
          <p:cNvSpPr/>
          <p:nvPr/>
        </p:nvSpPr>
        <p:spPr>
          <a:xfrm>
            <a:off x="4962600" y="1413000"/>
            <a:ext cx="498240" cy="863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>
            <a:off x="5292720" y="1484280"/>
            <a:ext cx="374760" cy="649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">
            <a:hlinkClick r:id="rId1" action="ppaction://hlinksldjump"/>
          </p:cNvPr>
          <p:cNvSpPr/>
          <p:nvPr/>
        </p:nvSpPr>
        <p:spPr>
          <a:xfrm>
            <a:off x="7740720" y="54936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10800"/>
                </a:moveTo>
                <a:lnTo>
                  <a:pt x="24566" y="3794"/>
                </a:lnTo>
                <a:lnTo>
                  <a:pt x="245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/>
          <p:cNvSpPr/>
          <p:nvPr/>
        </p:nvSpPr>
        <p:spPr>
          <a:xfrm>
            <a:off x="611280" y="5516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)MNPQR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КОМОЕ С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"/>
          <p:cNvSpPr/>
          <p:nvPr/>
        </p:nvSpPr>
        <p:spPr>
          <a:xfrm>
            <a:off x="1116000" y="2492280"/>
            <a:ext cx="76233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330066"/>
                </a:solidFill>
                <a:latin typeface="Arial"/>
              </a:rPr>
              <a:t>ЗАДАЧА №8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3" dur="indefinite" restart="never" nodeType="tmRoot">
          <p:childTnLst>
            <p:seq>
              <p:cTn id="2944" dur="indefinite" nodeType="mainSeq">
                <p:childTnLst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9" dur="500"/>
                                        <p:tgtEl>
                                          <p:spTgt spid="3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ча 8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ройте сечение пирамиды РАВ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лоскостью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F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),если точк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являются внутренними точками ребер соответственн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,РС и 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0" dur="indefinite" restart="never" nodeType="tmRoot">
          <p:childTnLst>
            <p:seq>
              <p:cTn id="2951" dur="indefinite" nodeType="mainSeq">
                <p:childTnLst>
                  <p:par>
                    <p:cTn id="2952" fill="hold">
                      <p:stCondLst>
                        <p:cond delay="indefinite"/>
                      </p:stCondLst>
                      <p:childTnLst>
                        <p:par>
                          <p:cTn id="2953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56" dur="2000"/>
                                        <p:tgtEl>
                                          <p:spTgt spid="3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1" dur="1000"/>
                                        <p:tgtEl>
                                          <p:spTgt spid="3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2" dur="1000" fill="hold"/>
                                        <p:tgtEl>
                                          <p:spTgt spid="3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3" dur="900" fill="hold"/>
                                        <p:tgtEl>
                                          <p:spTgt spid="3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"/>
          <p:cNvSpPr/>
          <p:nvPr/>
        </p:nvSpPr>
        <p:spPr>
          <a:xfrm>
            <a:off x="3346560" y="2709720"/>
            <a:ext cx="2449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 flipH="1">
            <a:off x="5362560" y="2709720"/>
            <a:ext cx="43344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 flipH="1">
            <a:off x="4427280" y="3284640"/>
            <a:ext cx="93492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"/>
          <p:cNvSpPr/>
          <p:nvPr/>
        </p:nvSpPr>
        <p:spPr>
          <a:xfrm flipH="1" flipV="1">
            <a:off x="3922200" y="3357360"/>
            <a:ext cx="50508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 flipH="1" flipV="1">
            <a:off x="3346560" y="2709720"/>
            <a:ext cx="57600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 flipV="1">
            <a:off x="4427640" y="836640"/>
            <a:ext cx="0" cy="27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>
            <a:off x="4427640" y="836640"/>
            <a:ext cx="93492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4427640" y="836640"/>
            <a:ext cx="1368360" cy="18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 flipH="1">
            <a:off x="3922200" y="836640"/>
            <a:ext cx="505080" cy="252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 flipH="1">
            <a:off x="3346200" y="836640"/>
            <a:ext cx="1081080" cy="18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>
            <a:off x="4211640" y="549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3635280" y="3357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4067280" y="357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>
            <a:off x="4859280" y="328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>
            <a:off x="5292720" y="256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2556000" y="256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4500720" y="24210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>
            <a:off x="3419640" y="14842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3348000" y="7650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370836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3564000" y="184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4643280" y="2852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"/>
          <p:cNvSpPr/>
          <p:nvPr/>
        </p:nvSpPr>
        <p:spPr>
          <a:xfrm>
            <a:off x="3346560" y="2709720"/>
            <a:ext cx="2449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 flipH="1">
            <a:off x="5362560" y="2709720"/>
            <a:ext cx="43344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 flipH="1">
            <a:off x="4427280" y="3284640"/>
            <a:ext cx="93492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 flipH="1" flipV="1">
            <a:off x="3922200" y="3357360"/>
            <a:ext cx="50508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 flipH="1" flipV="1">
            <a:off x="3346560" y="2709720"/>
            <a:ext cx="57600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 flipV="1">
            <a:off x="4427640" y="836640"/>
            <a:ext cx="0" cy="27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4427640" y="836640"/>
            <a:ext cx="93492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4427640" y="836640"/>
            <a:ext cx="1368360" cy="18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"/>
          <p:cNvSpPr/>
          <p:nvPr/>
        </p:nvSpPr>
        <p:spPr>
          <a:xfrm flipH="1">
            <a:off x="3922200" y="836640"/>
            <a:ext cx="505080" cy="252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"/>
          <p:cNvSpPr/>
          <p:nvPr/>
        </p:nvSpPr>
        <p:spPr>
          <a:xfrm flipH="1">
            <a:off x="3346200" y="836640"/>
            <a:ext cx="1081080" cy="18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>
            <a:off x="4211640" y="549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>
            <a:off x="3635280" y="3357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>
            <a:off x="4067280" y="357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"/>
          <p:cNvSpPr/>
          <p:nvPr/>
        </p:nvSpPr>
        <p:spPr>
          <a:xfrm>
            <a:off x="4859280" y="328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"/>
          <p:cNvSpPr/>
          <p:nvPr/>
        </p:nvSpPr>
        <p:spPr>
          <a:xfrm>
            <a:off x="5292720" y="256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"/>
          <p:cNvSpPr/>
          <p:nvPr/>
        </p:nvSpPr>
        <p:spPr>
          <a:xfrm>
            <a:off x="2556000" y="256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>
            <a:off x="4500720" y="24210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>
            <a:off x="3419640" y="14842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"/>
          <p:cNvSpPr/>
          <p:nvPr/>
        </p:nvSpPr>
        <p:spPr>
          <a:xfrm>
            <a:off x="3348000" y="7650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>
            <a:off x="370836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"/>
          <p:cNvSpPr/>
          <p:nvPr/>
        </p:nvSpPr>
        <p:spPr>
          <a:xfrm>
            <a:off x="3564000" y="184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>
            <a:off x="4643280" y="2852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"/>
          <p:cNvSpPr/>
          <p:nvPr/>
        </p:nvSpPr>
        <p:spPr>
          <a:xfrm>
            <a:off x="4140360" y="1341360"/>
            <a:ext cx="71280" cy="719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3348000" y="2708280"/>
            <a:ext cx="2016000" cy="5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 flipH="1">
            <a:off x="3924000" y="2708280"/>
            <a:ext cx="1871640" cy="649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435600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>
            <a:off x="611280" y="55166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K=AD    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 rot="10800000">
            <a:off x="1835280" y="55152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"/>
          <p:cNvSpPr/>
          <p:nvPr/>
        </p:nvSpPr>
        <p:spPr>
          <a:xfrm>
            <a:off x="3346560" y="2709720"/>
            <a:ext cx="2449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"/>
          <p:cNvSpPr/>
          <p:nvPr/>
        </p:nvSpPr>
        <p:spPr>
          <a:xfrm flipH="1">
            <a:off x="5362560" y="2709720"/>
            <a:ext cx="43344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"/>
          <p:cNvSpPr/>
          <p:nvPr/>
        </p:nvSpPr>
        <p:spPr>
          <a:xfrm flipH="1">
            <a:off x="4427280" y="3284640"/>
            <a:ext cx="93492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/>
          <p:cNvSpPr/>
          <p:nvPr/>
        </p:nvSpPr>
        <p:spPr>
          <a:xfrm flipH="1" flipV="1">
            <a:off x="3922200" y="3357360"/>
            <a:ext cx="50508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 flipH="1" flipV="1">
            <a:off x="3346560" y="2709720"/>
            <a:ext cx="57600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/>
          <p:cNvSpPr/>
          <p:nvPr/>
        </p:nvSpPr>
        <p:spPr>
          <a:xfrm flipV="1">
            <a:off x="4427640" y="836640"/>
            <a:ext cx="0" cy="27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>
            <a:off x="4427640" y="836640"/>
            <a:ext cx="93492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>
            <a:off x="4427640" y="836640"/>
            <a:ext cx="1368360" cy="18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 flipH="1">
            <a:off x="3922200" y="836640"/>
            <a:ext cx="505080" cy="252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"/>
          <p:cNvSpPr/>
          <p:nvPr/>
        </p:nvSpPr>
        <p:spPr>
          <a:xfrm flipH="1">
            <a:off x="3346200" y="836640"/>
            <a:ext cx="1081080" cy="18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"/>
          <p:cNvSpPr/>
          <p:nvPr/>
        </p:nvSpPr>
        <p:spPr>
          <a:xfrm>
            <a:off x="4211640" y="549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"/>
          <p:cNvSpPr/>
          <p:nvPr/>
        </p:nvSpPr>
        <p:spPr>
          <a:xfrm>
            <a:off x="3635280" y="3357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"/>
          <p:cNvSpPr/>
          <p:nvPr/>
        </p:nvSpPr>
        <p:spPr>
          <a:xfrm>
            <a:off x="4067280" y="357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>
            <a:off x="4859280" y="328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>
            <a:off x="5292720" y="256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"/>
          <p:cNvSpPr/>
          <p:nvPr/>
        </p:nvSpPr>
        <p:spPr>
          <a:xfrm>
            <a:off x="2556000" y="256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"/>
          <p:cNvSpPr/>
          <p:nvPr/>
        </p:nvSpPr>
        <p:spPr>
          <a:xfrm>
            <a:off x="4500720" y="24210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"/>
          <p:cNvSpPr/>
          <p:nvPr/>
        </p:nvSpPr>
        <p:spPr>
          <a:xfrm>
            <a:off x="3419640" y="14842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"/>
          <p:cNvSpPr/>
          <p:nvPr/>
        </p:nvSpPr>
        <p:spPr>
          <a:xfrm>
            <a:off x="3348000" y="7650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"/>
          <p:cNvSpPr/>
          <p:nvPr/>
        </p:nvSpPr>
        <p:spPr>
          <a:xfrm>
            <a:off x="370836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"/>
          <p:cNvSpPr/>
          <p:nvPr/>
        </p:nvSpPr>
        <p:spPr>
          <a:xfrm>
            <a:off x="3564000" y="184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"/>
          <p:cNvSpPr/>
          <p:nvPr/>
        </p:nvSpPr>
        <p:spPr>
          <a:xfrm>
            <a:off x="4643280" y="2852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"/>
          <p:cNvSpPr/>
          <p:nvPr/>
        </p:nvSpPr>
        <p:spPr>
          <a:xfrm>
            <a:off x="4140360" y="1341360"/>
            <a:ext cx="71280" cy="719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"/>
          <p:cNvSpPr/>
          <p:nvPr/>
        </p:nvSpPr>
        <p:spPr>
          <a:xfrm>
            <a:off x="3348000" y="2708280"/>
            <a:ext cx="2016000" cy="5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"/>
          <p:cNvSpPr/>
          <p:nvPr/>
        </p:nvSpPr>
        <p:spPr>
          <a:xfrm flipH="1">
            <a:off x="3924000" y="2708280"/>
            <a:ext cx="1871640" cy="649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"/>
          <p:cNvSpPr/>
          <p:nvPr/>
        </p:nvSpPr>
        <p:spPr>
          <a:xfrm>
            <a:off x="435600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"/>
          <p:cNvSpPr/>
          <p:nvPr/>
        </p:nvSpPr>
        <p:spPr>
          <a:xfrm>
            <a:off x="4140360" y="1341360"/>
            <a:ext cx="1079280" cy="165600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5" dur="indefinite" restart="never" nodeType="tmRoot">
          <p:childTnLst>
            <p:seq>
              <p:cTn id="2966" dur="indefinite" nodeType="mainSeq">
                <p:childTnLst>
                  <p:par>
                    <p:cTn id="2967" fill="hold">
                      <p:stCondLst>
                        <p:cond delay="indefinite"/>
                      </p:stCondLst>
                      <p:childTnLst>
                        <p:par>
                          <p:cTn id="2968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1" dur="500"/>
                                        <p:tgtEl>
                                          <p:spTgt spid="3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"/>
          <p:cNvSpPr/>
          <p:nvPr/>
        </p:nvSpPr>
        <p:spPr>
          <a:xfrm>
            <a:off x="3346560" y="2709720"/>
            <a:ext cx="2449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 flipH="1">
            <a:off x="5362560" y="2709720"/>
            <a:ext cx="43344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 flipH="1">
            <a:off x="4427280" y="3284640"/>
            <a:ext cx="93492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 flipH="1" flipV="1">
            <a:off x="3922200" y="3357360"/>
            <a:ext cx="50508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 flipH="1" flipV="1">
            <a:off x="3346560" y="2709720"/>
            <a:ext cx="57600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 flipV="1">
            <a:off x="4427640" y="836640"/>
            <a:ext cx="0" cy="27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4427640" y="836640"/>
            <a:ext cx="93492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4427640" y="836640"/>
            <a:ext cx="1368360" cy="18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 flipH="1">
            <a:off x="3922200" y="836640"/>
            <a:ext cx="505080" cy="252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 flipH="1">
            <a:off x="3346200" y="836640"/>
            <a:ext cx="1081080" cy="18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4211640" y="549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3635280" y="3357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"/>
          <p:cNvSpPr/>
          <p:nvPr/>
        </p:nvSpPr>
        <p:spPr>
          <a:xfrm>
            <a:off x="4067280" y="357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"/>
          <p:cNvSpPr/>
          <p:nvPr/>
        </p:nvSpPr>
        <p:spPr>
          <a:xfrm>
            <a:off x="4859280" y="328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"/>
          <p:cNvSpPr/>
          <p:nvPr/>
        </p:nvSpPr>
        <p:spPr>
          <a:xfrm>
            <a:off x="5292720" y="256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>
            <a:off x="2556000" y="256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4500720" y="24210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"/>
          <p:cNvSpPr/>
          <p:nvPr/>
        </p:nvSpPr>
        <p:spPr>
          <a:xfrm>
            <a:off x="3419640" y="14842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>
            <a:off x="3348000" y="7650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>
            <a:off x="370836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3564000" y="184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4643280" y="2852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4140360" y="1341360"/>
            <a:ext cx="71280" cy="719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3348000" y="2708280"/>
            <a:ext cx="2016000" cy="5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"/>
          <p:cNvSpPr/>
          <p:nvPr/>
        </p:nvSpPr>
        <p:spPr>
          <a:xfrm flipH="1">
            <a:off x="3924000" y="2708280"/>
            <a:ext cx="1871640" cy="649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"/>
          <p:cNvSpPr/>
          <p:nvPr/>
        </p:nvSpPr>
        <p:spPr>
          <a:xfrm>
            <a:off x="435600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"/>
          <p:cNvSpPr/>
          <p:nvPr/>
        </p:nvSpPr>
        <p:spPr>
          <a:xfrm>
            <a:off x="4140360" y="1341360"/>
            <a:ext cx="1079280" cy="165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"/>
          <p:cNvSpPr/>
          <p:nvPr/>
        </p:nvSpPr>
        <p:spPr>
          <a:xfrm flipH="1" flipV="1">
            <a:off x="4427280" y="907920"/>
            <a:ext cx="215640" cy="216072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"/>
          <p:cNvSpPr/>
          <p:nvPr/>
        </p:nvSpPr>
        <p:spPr>
          <a:xfrm>
            <a:off x="3635280" y="141300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"/>
          <p:cNvSpPr/>
          <p:nvPr/>
        </p:nvSpPr>
        <p:spPr>
          <a:xfrm>
            <a:off x="4211640" y="1700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"/>
          <p:cNvSpPr/>
          <p:nvPr/>
        </p:nvSpPr>
        <p:spPr>
          <a:xfrm>
            <a:off x="684360" y="55166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PK    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"/>
          <p:cNvSpPr/>
          <p:nvPr/>
        </p:nvSpPr>
        <p:spPr>
          <a:xfrm rot="10800000">
            <a:off x="2195640" y="55152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2" dur="indefinite" restart="never" nodeType="tmRoot">
          <p:childTnLst>
            <p:seq>
              <p:cTn id="2973" dur="indefinite" nodeType="mainSeq">
                <p:childTnLst>
                  <p:par>
                    <p:cTn id="2974" fill="hold">
                      <p:stCondLst>
                        <p:cond delay="indefinite"/>
                      </p:stCondLst>
                      <p:childTnLst>
                        <p:par>
                          <p:cTn id="2975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8" dur="500"/>
                                        <p:tgtEl>
                                          <p:spTgt spid="3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"/>
          <p:cNvSpPr/>
          <p:nvPr/>
        </p:nvSpPr>
        <p:spPr>
          <a:xfrm>
            <a:off x="3346560" y="2709720"/>
            <a:ext cx="2449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"/>
          <p:cNvSpPr/>
          <p:nvPr/>
        </p:nvSpPr>
        <p:spPr>
          <a:xfrm flipH="1">
            <a:off x="5362560" y="2709720"/>
            <a:ext cx="43344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"/>
          <p:cNvSpPr/>
          <p:nvPr/>
        </p:nvSpPr>
        <p:spPr>
          <a:xfrm flipH="1">
            <a:off x="4427280" y="3284640"/>
            <a:ext cx="93492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"/>
          <p:cNvSpPr/>
          <p:nvPr/>
        </p:nvSpPr>
        <p:spPr>
          <a:xfrm flipH="1" flipV="1">
            <a:off x="3922200" y="3357360"/>
            <a:ext cx="50508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"/>
          <p:cNvSpPr/>
          <p:nvPr/>
        </p:nvSpPr>
        <p:spPr>
          <a:xfrm flipH="1" flipV="1">
            <a:off x="3346560" y="2709720"/>
            <a:ext cx="57600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"/>
          <p:cNvSpPr/>
          <p:nvPr/>
        </p:nvSpPr>
        <p:spPr>
          <a:xfrm flipV="1">
            <a:off x="4427640" y="836640"/>
            <a:ext cx="0" cy="27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"/>
          <p:cNvSpPr/>
          <p:nvPr/>
        </p:nvSpPr>
        <p:spPr>
          <a:xfrm>
            <a:off x="4427640" y="836640"/>
            <a:ext cx="93492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"/>
          <p:cNvSpPr/>
          <p:nvPr/>
        </p:nvSpPr>
        <p:spPr>
          <a:xfrm>
            <a:off x="4427640" y="836640"/>
            <a:ext cx="1368360" cy="18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"/>
          <p:cNvSpPr/>
          <p:nvPr/>
        </p:nvSpPr>
        <p:spPr>
          <a:xfrm flipH="1">
            <a:off x="3922200" y="836640"/>
            <a:ext cx="505080" cy="252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"/>
          <p:cNvSpPr/>
          <p:nvPr/>
        </p:nvSpPr>
        <p:spPr>
          <a:xfrm flipH="1">
            <a:off x="3346200" y="836640"/>
            <a:ext cx="1081080" cy="18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"/>
          <p:cNvSpPr/>
          <p:nvPr/>
        </p:nvSpPr>
        <p:spPr>
          <a:xfrm>
            <a:off x="4211640" y="549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"/>
          <p:cNvSpPr/>
          <p:nvPr/>
        </p:nvSpPr>
        <p:spPr>
          <a:xfrm>
            <a:off x="3635280" y="3357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"/>
          <p:cNvSpPr/>
          <p:nvPr/>
        </p:nvSpPr>
        <p:spPr>
          <a:xfrm>
            <a:off x="4067280" y="357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"/>
          <p:cNvSpPr/>
          <p:nvPr/>
        </p:nvSpPr>
        <p:spPr>
          <a:xfrm>
            <a:off x="4859280" y="328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>
            <a:off x="5292720" y="256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>
            <a:off x="2556000" y="256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"/>
          <p:cNvSpPr/>
          <p:nvPr/>
        </p:nvSpPr>
        <p:spPr>
          <a:xfrm>
            <a:off x="4500720" y="24210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>
            <a:off x="3419640" y="14842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>
            <a:off x="3348000" y="7650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370836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3564000" y="184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4643280" y="2852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4140360" y="1341360"/>
            <a:ext cx="71280" cy="719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3348000" y="2708280"/>
            <a:ext cx="2016000" cy="5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 flipH="1">
            <a:off x="3924000" y="2708280"/>
            <a:ext cx="1871640" cy="649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435600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4140360" y="1341360"/>
            <a:ext cx="1079280" cy="165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 flipH="1" flipV="1">
            <a:off x="4427280" y="907920"/>
            <a:ext cx="215640" cy="216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3635280" y="141300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>
            <a:off x="428472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 flipV="1">
            <a:off x="4211640" y="1699920"/>
            <a:ext cx="865080" cy="36036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>
            <a:off x="4140360" y="1341360"/>
            <a:ext cx="936360" cy="3589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4859280" y="148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>
            <a:off x="611280" y="5516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Q=M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P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 rot="10800000">
            <a:off x="2123640" y="55152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9" dur="indefinite" restart="never" nodeType="tmRoot">
          <p:childTnLst>
            <p:seq>
              <p:cTn id="2980" dur="indefinite" nodeType="mainSeq">
                <p:childTnLst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5" dur="500"/>
                                        <p:tgtEl>
                                          <p:spTgt spid="3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"/>
          <p:cNvSpPr/>
          <p:nvPr/>
        </p:nvSpPr>
        <p:spPr>
          <a:xfrm>
            <a:off x="3346560" y="2709720"/>
            <a:ext cx="2449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 flipH="1">
            <a:off x="5362560" y="2709720"/>
            <a:ext cx="43344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 flipH="1">
            <a:off x="4427280" y="3284640"/>
            <a:ext cx="93492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 flipH="1" flipV="1">
            <a:off x="3922200" y="3357360"/>
            <a:ext cx="50508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 flipH="1" flipV="1">
            <a:off x="3346560" y="2709720"/>
            <a:ext cx="57600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 flipV="1">
            <a:off x="4427640" y="836640"/>
            <a:ext cx="0" cy="27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>
            <a:off x="4427640" y="836640"/>
            <a:ext cx="93492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"/>
          <p:cNvSpPr/>
          <p:nvPr/>
        </p:nvSpPr>
        <p:spPr>
          <a:xfrm>
            <a:off x="4427640" y="836640"/>
            <a:ext cx="1368360" cy="18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 flipH="1">
            <a:off x="3922200" y="836640"/>
            <a:ext cx="505080" cy="252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"/>
          <p:cNvSpPr/>
          <p:nvPr/>
        </p:nvSpPr>
        <p:spPr>
          <a:xfrm flipH="1">
            <a:off x="3346200" y="836640"/>
            <a:ext cx="1081080" cy="18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"/>
          <p:cNvSpPr/>
          <p:nvPr/>
        </p:nvSpPr>
        <p:spPr>
          <a:xfrm>
            <a:off x="4211640" y="549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"/>
          <p:cNvSpPr/>
          <p:nvPr/>
        </p:nvSpPr>
        <p:spPr>
          <a:xfrm>
            <a:off x="3635280" y="3357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"/>
          <p:cNvSpPr/>
          <p:nvPr/>
        </p:nvSpPr>
        <p:spPr>
          <a:xfrm>
            <a:off x="4067280" y="357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4859280" y="328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5292720" y="256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2556000" y="256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4500720" y="24210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3419640" y="14842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3348000" y="7650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370836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"/>
          <p:cNvSpPr/>
          <p:nvPr/>
        </p:nvSpPr>
        <p:spPr>
          <a:xfrm>
            <a:off x="3564000" y="184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"/>
          <p:cNvSpPr/>
          <p:nvPr/>
        </p:nvSpPr>
        <p:spPr>
          <a:xfrm>
            <a:off x="4643280" y="2852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"/>
          <p:cNvSpPr/>
          <p:nvPr/>
        </p:nvSpPr>
        <p:spPr>
          <a:xfrm>
            <a:off x="4140360" y="1341360"/>
            <a:ext cx="71280" cy="719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"/>
          <p:cNvSpPr/>
          <p:nvPr/>
        </p:nvSpPr>
        <p:spPr>
          <a:xfrm>
            <a:off x="3348000" y="2708280"/>
            <a:ext cx="2016000" cy="5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"/>
          <p:cNvSpPr/>
          <p:nvPr/>
        </p:nvSpPr>
        <p:spPr>
          <a:xfrm flipH="1">
            <a:off x="3924000" y="2708280"/>
            <a:ext cx="1871640" cy="649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"/>
          <p:cNvSpPr/>
          <p:nvPr/>
        </p:nvSpPr>
        <p:spPr>
          <a:xfrm>
            <a:off x="435600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"/>
          <p:cNvSpPr/>
          <p:nvPr/>
        </p:nvSpPr>
        <p:spPr>
          <a:xfrm>
            <a:off x="4140360" y="1341360"/>
            <a:ext cx="1079280" cy="165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"/>
          <p:cNvSpPr/>
          <p:nvPr/>
        </p:nvSpPr>
        <p:spPr>
          <a:xfrm flipH="1" flipV="1">
            <a:off x="4427280" y="907920"/>
            <a:ext cx="215640" cy="216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"/>
          <p:cNvSpPr/>
          <p:nvPr/>
        </p:nvSpPr>
        <p:spPr>
          <a:xfrm>
            <a:off x="3635280" y="141300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"/>
          <p:cNvSpPr/>
          <p:nvPr/>
        </p:nvSpPr>
        <p:spPr>
          <a:xfrm>
            <a:off x="428472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"/>
          <p:cNvSpPr/>
          <p:nvPr/>
        </p:nvSpPr>
        <p:spPr>
          <a:xfrm flipV="1">
            <a:off x="4211640" y="1699920"/>
            <a:ext cx="86508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>
            <a:off x="4140360" y="1341360"/>
            <a:ext cx="936360" cy="3589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"/>
          <p:cNvSpPr/>
          <p:nvPr/>
        </p:nvSpPr>
        <p:spPr>
          <a:xfrm>
            <a:off x="4859280" y="148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/>
          <p:nvPr/>
        </p:nvSpPr>
        <p:spPr>
          <a:xfrm>
            <a:off x="5003640" y="1628640"/>
            <a:ext cx="216000" cy="1368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>
            <a:off x="3348000" y="2708280"/>
            <a:ext cx="1079640" cy="86508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>
            <a:off x="3851280" y="3429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>
            <a:off x="611280" y="551664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H=BE   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 rot="10800000">
            <a:off x="1907640" y="55152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6" dur="indefinite" restart="never" nodeType="tmRoot">
          <p:childTnLst>
            <p:seq>
              <p:cTn id="2987" dur="indefinite" nodeType="mainSeq">
                <p:childTnLst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2" dur="500"/>
                                        <p:tgtEl>
                                          <p:spTgt spid="3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9" name=""/>
          <p:cNvSpPr/>
          <p:nvPr/>
        </p:nvSpPr>
        <p:spPr>
          <a:xfrm>
            <a:off x="3346560" y="2709720"/>
            <a:ext cx="2449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 flipH="1">
            <a:off x="5362560" y="2709720"/>
            <a:ext cx="43344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/>
          <p:cNvSpPr/>
          <p:nvPr/>
        </p:nvSpPr>
        <p:spPr>
          <a:xfrm flipH="1">
            <a:off x="4427280" y="3284640"/>
            <a:ext cx="93492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/>
          <p:cNvSpPr/>
          <p:nvPr/>
        </p:nvSpPr>
        <p:spPr>
          <a:xfrm flipH="1" flipV="1">
            <a:off x="3922200" y="3357360"/>
            <a:ext cx="50508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 flipH="1" flipV="1">
            <a:off x="3346560" y="2709720"/>
            <a:ext cx="57600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/>
          <p:nvPr/>
        </p:nvSpPr>
        <p:spPr>
          <a:xfrm flipV="1">
            <a:off x="4427640" y="836640"/>
            <a:ext cx="0" cy="27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/>
          <p:nvPr/>
        </p:nvSpPr>
        <p:spPr>
          <a:xfrm>
            <a:off x="4427640" y="836640"/>
            <a:ext cx="93492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/>
          <p:nvPr/>
        </p:nvSpPr>
        <p:spPr>
          <a:xfrm>
            <a:off x="4427640" y="836640"/>
            <a:ext cx="1368360" cy="18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/>
          <p:nvPr/>
        </p:nvSpPr>
        <p:spPr>
          <a:xfrm flipH="1">
            <a:off x="3922200" y="836640"/>
            <a:ext cx="505080" cy="252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 flipH="1">
            <a:off x="3346200" y="836640"/>
            <a:ext cx="1081080" cy="18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4211640" y="549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3635280" y="3357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4067280" y="357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4859280" y="328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5292720" y="256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2556000" y="256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4500720" y="24210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3419640" y="14842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3348000" y="7650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370836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"/>
          <p:cNvSpPr/>
          <p:nvPr/>
        </p:nvSpPr>
        <p:spPr>
          <a:xfrm>
            <a:off x="3564000" y="184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>
            <a:off x="4643280" y="2852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>
            <a:off x="4140360" y="1341360"/>
            <a:ext cx="71280" cy="719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>
            <a:off x="3348000" y="2708280"/>
            <a:ext cx="2016000" cy="5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 flipH="1">
            <a:off x="3924000" y="2708280"/>
            <a:ext cx="1871640" cy="649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>
            <a:off x="435600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/>
          <p:cNvSpPr/>
          <p:nvPr/>
        </p:nvSpPr>
        <p:spPr>
          <a:xfrm>
            <a:off x="4140360" y="1341360"/>
            <a:ext cx="1079280" cy="165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 flipH="1" flipV="1">
            <a:off x="4427280" y="907920"/>
            <a:ext cx="215640" cy="216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>
            <a:off x="3635280" y="141300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428472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 flipV="1">
            <a:off x="4211640" y="1699920"/>
            <a:ext cx="86508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4140360" y="1341360"/>
            <a:ext cx="936360" cy="3589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>
            <a:off x="4859280" y="148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/>
          <p:nvPr/>
        </p:nvSpPr>
        <p:spPr>
          <a:xfrm>
            <a:off x="5003640" y="1628640"/>
            <a:ext cx="216000" cy="1368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/>
          <p:nvPr/>
        </p:nvSpPr>
        <p:spPr>
          <a:xfrm>
            <a:off x="3348000" y="2708280"/>
            <a:ext cx="1079640" cy="865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>
            <a:off x="3851280" y="3429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 flipV="1">
            <a:off x="4067280" y="836640"/>
            <a:ext cx="360360" cy="244800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"/>
          <p:cNvSpPr/>
          <p:nvPr/>
        </p:nvSpPr>
        <p:spPr>
          <a:xfrm>
            <a:off x="3564000" y="162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>
            <a:off x="539640" y="55166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PH   M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 rot="10800000">
            <a:off x="2123640" y="55152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3" dur="indefinite" restart="never" nodeType="tmRoot">
          <p:childTnLst>
            <p:seq>
              <p:cTn id="2994" dur="indefinite" nodeType="mainSeq">
                <p:childTnLst>
                  <p:par>
                    <p:cTn id="2995" fill="hold">
                      <p:stCondLst>
                        <p:cond delay="indefinite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9" dur="500"/>
                                        <p:tgtEl>
                                          <p:spTgt spid="3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Метод след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7993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ямая, по которой секущая плоскость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ересекает плоскость какой-либо грани многогранника, называется следом плоскости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этой гран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з определения следует, что в каждой его точке пересекаются прямые, одна из которых лежит в секущей плоскости, другая – в плоскости основания. Именно это свойство следов используется при построении плоских сечений многогранников методом следов. Причем в секущей плоскости удобно использовать такие прямые, которые пересекают ребра многогранни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9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"/>
          <p:cNvSpPr/>
          <p:nvPr/>
        </p:nvSpPr>
        <p:spPr>
          <a:xfrm>
            <a:off x="3346560" y="2709720"/>
            <a:ext cx="2449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 flipH="1">
            <a:off x="5362560" y="2709720"/>
            <a:ext cx="43344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 flipH="1">
            <a:off x="4427280" y="3284640"/>
            <a:ext cx="93492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 flipH="1" flipV="1">
            <a:off x="3922200" y="3357360"/>
            <a:ext cx="50508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 flipH="1" flipV="1">
            <a:off x="3346560" y="2709720"/>
            <a:ext cx="57600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 flipV="1">
            <a:off x="4427640" y="836640"/>
            <a:ext cx="0" cy="27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>
            <a:off x="4427640" y="836640"/>
            <a:ext cx="93492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>
            <a:off x="4427640" y="836640"/>
            <a:ext cx="1368360" cy="18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/>
          <p:cNvSpPr/>
          <p:nvPr/>
        </p:nvSpPr>
        <p:spPr>
          <a:xfrm flipH="1">
            <a:off x="3922200" y="836640"/>
            <a:ext cx="505080" cy="252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"/>
          <p:cNvSpPr/>
          <p:nvPr/>
        </p:nvSpPr>
        <p:spPr>
          <a:xfrm flipH="1">
            <a:off x="3346200" y="836640"/>
            <a:ext cx="1081080" cy="18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"/>
          <p:cNvSpPr/>
          <p:nvPr/>
        </p:nvSpPr>
        <p:spPr>
          <a:xfrm>
            <a:off x="4211640" y="549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"/>
          <p:cNvSpPr/>
          <p:nvPr/>
        </p:nvSpPr>
        <p:spPr>
          <a:xfrm>
            <a:off x="3635280" y="3357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"/>
          <p:cNvSpPr/>
          <p:nvPr/>
        </p:nvSpPr>
        <p:spPr>
          <a:xfrm>
            <a:off x="4067280" y="357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4859280" y="328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5292720" y="256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>
            <a:off x="2556000" y="256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>
            <a:off x="4500720" y="24210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3419640" y="14842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3348000" y="7650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370836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3564000" y="184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>
            <a:off x="4643280" y="2852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4140360" y="1341360"/>
            <a:ext cx="71280" cy="719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3348000" y="2708280"/>
            <a:ext cx="2016000" cy="5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 flipH="1">
            <a:off x="3924000" y="2708280"/>
            <a:ext cx="1871640" cy="649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435600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4140360" y="1341360"/>
            <a:ext cx="1079280" cy="165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 flipH="1" flipV="1">
            <a:off x="4427280" y="907920"/>
            <a:ext cx="215640" cy="216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3635280" y="141300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>
            <a:off x="428472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 flipV="1">
            <a:off x="4211640" y="1699920"/>
            <a:ext cx="86508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>
            <a:off x="4140360" y="1341360"/>
            <a:ext cx="936360" cy="3589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4859280" y="148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5003640" y="1628640"/>
            <a:ext cx="216000" cy="1368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>
            <a:off x="3348000" y="2708280"/>
            <a:ext cx="1079640" cy="865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3851280" y="3429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 flipV="1">
            <a:off x="4067280" y="836640"/>
            <a:ext cx="360360" cy="244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>
            <a:off x="3564000" y="162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>
            <a:off x="4140360" y="1341360"/>
            <a:ext cx="287280" cy="172728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4284720" y="270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>
            <a:off x="4211640" y="2060640"/>
            <a:ext cx="216000" cy="936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>
            <a:off x="684360" y="5516640"/>
            <a:ext cx="331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) N=R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 rot="10800000">
            <a:off x="2123640" y="55152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0" dur="indefinite" restart="never" nodeType="tmRoot">
          <p:childTnLst>
            <p:seq>
              <p:cTn id="3001" dur="indefinite" nodeType="mainSeq">
                <p:childTnLst>
                  <p:par>
                    <p:cTn id="3002" fill="hold">
                      <p:stCondLst>
                        <p:cond delay="indefinite"/>
                      </p:stCondLst>
                      <p:childTnLst>
                        <p:par>
                          <p:cTn id="3003" fill="hold">
                            <p:stCondLst>
                              <p:cond delay="0"/>
                            </p:stCondLst>
                            <p:childTnLst>
                              <p:par>
                                <p:cTn id="30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6" dur="500"/>
                                        <p:tgtEl>
                                          <p:spTgt spid="3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"/>
          <p:cNvSpPr/>
          <p:nvPr/>
        </p:nvSpPr>
        <p:spPr>
          <a:xfrm>
            <a:off x="3346560" y="2709720"/>
            <a:ext cx="2449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"/>
          <p:cNvSpPr/>
          <p:nvPr/>
        </p:nvSpPr>
        <p:spPr>
          <a:xfrm flipH="1">
            <a:off x="5362560" y="2709720"/>
            <a:ext cx="43344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"/>
          <p:cNvSpPr/>
          <p:nvPr/>
        </p:nvSpPr>
        <p:spPr>
          <a:xfrm flipH="1">
            <a:off x="4427280" y="3284640"/>
            <a:ext cx="93492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"/>
          <p:cNvSpPr/>
          <p:nvPr/>
        </p:nvSpPr>
        <p:spPr>
          <a:xfrm flipH="1" flipV="1">
            <a:off x="3922200" y="3357360"/>
            <a:ext cx="50508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"/>
          <p:cNvSpPr/>
          <p:nvPr/>
        </p:nvSpPr>
        <p:spPr>
          <a:xfrm flipH="1" flipV="1">
            <a:off x="3346560" y="2709720"/>
            <a:ext cx="57600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 flipV="1">
            <a:off x="4427640" y="836640"/>
            <a:ext cx="0" cy="27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4427640" y="836640"/>
            <a:ext cx="93492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4427640" y="836640"/>
            <a:ext cx="1368360" cy="18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 flipH="1">
            <a:off x="3922200" y="836640"/>
            <a:ext cx="505080" cy="252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 flipH="1">
            <a:off x="3346200" y="836640"/>
            <a:ext cx="1081080" cy="18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4211640" y="549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3635280" y="3357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>
            <a:off x="4067280" y="357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4859280" y="328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5292720" y="256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2556000" y="256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>
            <a:off x="4500720" y="24210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3419640" y="14842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>
            <a:off x="3348000" y="7650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>
            <a:off x="370836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3564000" y="184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>
            <a:off x="4643280" y="2852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4140360" y="1341360"/>
            <a:ext cx="71280" cy="719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3348000" y="2708280"/>
            <a:ext cx="2016000" cy="5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 flipH="1">
            <a:off x="3924000" y="2708280"/>
            <a:ext cx="1871640" cy="649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>
            <a:off x="435600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/>
          <p:cNvSpPr/>
          <p:nvPr/>
        </p:nvSpPr>
        <p:spPr>
          <a:xfrm>
            <a:off x="4140360" y="1341360"/>
            <a:ext cx="1079280" cy="165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 flipH="1" flipV="1">
            <a:off x="4427280" y="907920"/>
            <a:ext cx="215640" cy="216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>
            <a:off x="3635280" y="141300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428472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 flipV="1">
            <a:off x="4211640" y="1699920"/>
            <a:ext cx="86508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>
            <a:off x="4140360" y="1341360"/>
            <a:ext cx="936360" cy="3589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>
            <a:off x="4859280" y="148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>
            <a:off x="5003640" y="1628640"/>
            <a:ext cx="216000" cy="1368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3348000" y="2708280"/>
            <a:ext cx="1079640" cy="865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3851280" y="3429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 flipV="1">
            <a:off x="4067280" y="836640"/>
            <a:ext cx="360360" cy="244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>
            <a:off x="3564000" y="162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4140360" y="1341360"/>
            <a:ext cx="287280" cy="1727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4284720" y="270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4211640" y="2060640"/>
            <a:ext cx="216000" cy="936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6" name=""/>
          <p:cNvSpPr/>
          <p:nvPr/>
        </p:nvSpPr>
        <p:spPr>
          <a:xfrm>
            <a:off x="3346560" y="2709720"/>
            <a:ext cx="2449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 flipH="1">
            <a:off x="5362560" y="2709720"/>
            <a:ext cx="43344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 flipH="1">
            <a:off x="4427280" y="3284640"/>
            <a:ext cx="93492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 flipH="1" flipV="1">
            <a:off x="3922200" y="3357360"/>
            <a:ext cx="50508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 flipH="1" flipV="1">
            <a:off x="3346560" y="2709720"/>
            <a:ext cx="57600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 flipV="1">
            <a:off x="4427640" y="836640"/>
            <a:ext cx="0" cy="27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4427640" y="836640"/>
            <a:ext cx="93492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4427640" y="836640"/>
            <a:ext cx="1368360" cy="18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 flipH="1">
            <a:off x="3922200" y="836640"/>
            <a:ext cx="505080" cy="252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 flipH="1">
            <a:off x="3346200" y="836640"/>
            <a:ext cx="1081080" cy="18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4211640" y="549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3635280" y="3357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>
            <a:off x="4067280" y="357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>
            <a:off x="4859280" y="328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>
            <a:off x="5292720" y="256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>
            <a:off x="2556000" y="256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>
            <a:off x="4500720" y="24210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3419640" y="14842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3348000" y="7650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370836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3564000" y="184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4643280" y="2852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4140360" y="1341360"/>
            <a:ext cx="71280" cy="719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3348000" y="2708280"/>
            <a:ext cx="2016000" cy="5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 flipH="1">
            <a:off x="3924000" y="2708280"/>
            <a:ext cx="1871640" cy="649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435600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4140360" y="1341360"/>
            <a:ext cx="1079280" cy="165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 flipH="1" flipV="1">
            <a:off x="4427280" y="907920"/>
            <a:ext cx="215640" cy="216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>
            <a:off x="3635280" y="141300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>
            <a:off x="428472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 flipV="1">
            <a:off x="4211640" y="1699920"/>
            <a:ext cx="86508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4140360" y="1341360"/>
            <a:ext cx="936360" cy="3589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4859280" y="148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>
            <a:off x="5003640" y="1628640"/>
            <a:ext cx="216000" cy="1368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3348000" y="2708280"/>
            <a:ext cx="1079640" cy="865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>
            <a:off x="3851280" y="3429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 flipV="1">
            <a:off x="4067280" y="836640"/>
            <a:ext cx="360360" cy="244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3564000" y="162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4140360" y="1341360"/>
            <a:ext cx="287280" cy="1727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4284720" y="270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4211640" y="2060640"/>
            <a:ext cx="216000" cy="936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4427640" y="2997360"/>
            <a:ext cx="792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4284720" y="2492280"/>
            <a:ext cx="503280" cy="505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>
            <a:off x="4284720" y="2205000"/>
            <a:ext cx="792000" cy="792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>
            <a:off x="4211640" y="1844640"/>
            <a:ext cx="936720" cy="936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>
            <a:off x="4140360" y="1557360"/>
            <a:ext cx="1008000" cy="1008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 flipH="1" flipV="1">
            <a:off x="4284720" y="1413000"/>
            <a:ext cx="792000" cy="792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 flipH="1" flipV="1">
            <a:off x="4858920" y="1626840"/>
            <a:ext cx="144360" cy="144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>
            <a:hlinkClick r:id="rId1" action="ppaction://hlinksldjump"/>
          </p:cNvPr>
          <p:cNvSpPr/>
          <p:nvPr/>
        </p:nvSpPr>
        <p:spPr>
          <a:xfrm>
            <a:off x="7740720" y="54936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10800"/>
                </a:moveTo>
                <a:lnTo>
                  <a:pt x="24566" y="3794"/>
                </a:lnTo>
                <a:lnTo>
                  <a:pt x="245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611280" y="551664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) MNFQR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КОМОЕ С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"/>
          <p:cNvSpPr/>
          <p:nvPr/>
        </p:nvSpPr>
        <p:spPr>
          <a:xfrm>
            <a:off x="1116000" y="2492280"/>
            <a:ext cx="76233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330066"/>
                </a:solidFill>
                <a:latin typeface="Arial"/>
              </a:rPr>
              <a:t>ЗАДАЧА №9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7" dur="indefinite" restart="never" nodeType="tmRoot">
          <p:childTnLst>
            <p:seq>
              <p:cTn id="3008" dur="indefinite" nodeType="mainSeq">
                <p:childTnLst>
                  <p:par>
                    <p:cTn id="3009" fill="hold">
                      <p:stCondLst>
                        <p:cond delay="indefinite"/>
                      </p:stCondLst>
                      <p:childTnLst>
                        <p:par>
                          <p:cTn id="3010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3" dur="500"/>
                                        <p:tgtEl>
                                          <p:spTgt spid="3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ча 9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Постройте сечение призмы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АВС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Е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плоскостью </a:t>
            </a:r>
            <a:r>
              <a:rPr b="0" lang="el-GR" sz="35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 ,заданной точками 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ВВ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,Р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DD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EE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4" dur="indefinite" restart="never" nodeType="tmRoot">
          <p:childTnLst>
            <p:seq>
              <p:cTn id="3015" dur="indefinite" nodeType="mainSeq">
                <p:childTnLst>
                  <p:par>
                    <p:cTn id="3016" fill="hold">
                      <p:stCondLst>
                        <p:cond delay="indefinite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20" dur="2000"/>
                                        <p:tgtEl>
                                          <p:spTgt spid="3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1" fill="hold">
                      <p:stCondLst>
                        <p:cond delay="indefinite"/>
                      </p:stCondLst>
                      <p:childTnLst>
                        <p:par>
                          <p:cTn id="3022" fill="hold">
                            <p:stCondLst>
                              <p:cond delay="0"/>
                            </p:stCondLst>
                            <p:childTnLst>
                              <p:par>
                                <p:cTn id="30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5" dur="1000"/>
                                        <p:tgtEl>
                                          <p:spTgt spid="3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6" dur="1000" fill="hold"/>
                                        <p:tgtEl>
                                          <p:spTgt spid="3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7" dur="900" fill="hold"/>
                                        <p:tgtEl>
                                          <p:spTgt spid="3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fill="hold">
                      <p:stCondLst>
                        <p:cond delay="indefinite"/>
                      </p:stCondLst>
                      <p:childTnLst>
                        <p:par>
                          <p:cTn id="3030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3" dur="1000"/>
                                        <p:tgtEl>
                                          <p:spTgt spid="3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4" dur="1000" fill="hold"/>
                                        <p:tgtEl>
                                          <p:spTgt spid="3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5" dur="900" fill="hold"/>
                                        <p:tgtEl>
                                          <p:spTgt spid="3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"/>
          <p:cNvSpPr/>
          <p:nvPr/>
        </p:nvSpPr>
        <p:spPr>
          <a:xfrm flipV="1">
            <a:off x="4140360" y="3501720"/>
            <a:ext cx="936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 flipV="1">
            <a:off x="5076720" y="3068640"/>
            <a:ext cx="71928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 flipH="1" flipV="1">
            <a:off x="3203640" y="3285720"/>
            <a:ext cx="93672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 flipV="1">
            <a:off x="3203640" y="2781360"/>
            <a:ext cx="1152360" cy="504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4356000" y="2781360"/>
            <a:ext cx="1440000" cy="28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 flipV="1">
            <a:off x="3203640" y="162864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flipV="1">
            <a:off x="4140360" y="198900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 flipV="1">
            <a:off x="5076720" y="184464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 flipV="1">
            <a:off x="4356000" y="112536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 flipV="1">
            <a:off x="5796000" y="1412640"/>
            <a:ext cx="0" cy="165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>
            <a:off x="3203640" y="1628640"/>
            <a:ext cx="9367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 flipV="1">
            <a:off x="4140360" y="1844280"/>
            <a:ext cx="936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 flipV="1">
            <a:off x="5076720" y="1412640"/>
            <a:ext cx="71928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 flipH="1" flipV="1">
            <a:off x="4356000" y="1125000"/>
            <a:ext cx="144000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 flipH="1">
            <a:off x="3203280" y="1125360"/>
            <a:ext cx="115236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2918160" y="321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>
            <a:off x="3926160" y="364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493416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5726520" y="29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4356000" y="24210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2702160" y="1484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3926160" y="1628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>
            <a:off x="5005800" y="17733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5798160" y="1268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>
            <a:off x="4142160" y="76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2987640" y="7650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3851280" y="112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2771640" y="263700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4427640" y="162864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>
            <a:off x="3419640" y="31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5435640" y="198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"/>
          <p:cNvSpPr/>
          <p:nvPr/>
        </p:nvSpPr>
        <p:spPr>
          <a:xfrm flipV="1">
            <a:off x="4140360" y="3501720"/>
            <a:ext cx="936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 flipV="1">
            <a:off x="5076720" y="3068640"/>
            <a:ext cx="71928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 flipH="1" flipV="1">
            <a:off x="3203640" y="3285720"/>
            <a:ext cx="93672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 flipV="1">
            <a:off x="3203640" y="2781360"/>
            <a:ext cx="1152360" cy="504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>
            <a:off x="4356000" y="2781360"/>
            <a:ext cx="1440000" cy="28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 flipV="1">
            <a:off x="3203640" y="162864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 flipV="1">
            <a:off x="4140360" y="198900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 flipV="1">
            <a:off x="5076720" y="184464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 flipV="1">
            <a:off x="4356000" y="112536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 flipV="1">
            <a:off x="5796000" y="1412640"/>
            <a:ext cx="0" cy="165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>
            <a:off x="3203640" y="1628640"/>
            <a:ext cx="9367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 flipV="1">
            <a:off x="4140360" y="1844280"/>
            <a:ext cx="936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 flipV="1">
            <a:off x="5076720" y="1412640"/>
            <a:ext cx="71928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 flipH="1" flipV="1">
            <a:off x="4356000" y="1125000"/>
            <a:ext cx="144000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 flipH="1">
            <a:off x="3203280" y="1125360"/>
            <a:ext cx="115236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>
            <a:off x="2918160" y="321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>
            <a:off x="3926160" y="364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>
            <a:off x="493416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>
            <a:off x="5726520" y="29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>
            <a:off x="4356000" y="24210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>
            <a:off x="2702160" y="1484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>
            <a:off x="3926160" y="1628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>
            <a:off x="5005800" y="17733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>
            <a:off x="5798160" y="1268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>
            <a:off x="4142160" y="76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2987640" y="7650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>
            <a:off x="3851280" y="112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>
            <a:off x="4427640" y="162864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5435640" y="198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 flipV="1">
            <a:off x="3203640" y="3068640"/>
            <a:ext cx="2592360" cy="21600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 flipH="1">
            <a:off x="4140000" y="2781360"/>
            <a:ext cx="215640" cy="86364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4140360" y="292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2771640" y="263700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3419640" y="31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611280" y="5516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=AD  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 rot="10800000">
            <a:off x="1835280" y="55152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7" dur="indefinite" restart="never" nodeType="tmRoot">
          <p:childTnLst>
            <p:seq>
              <p:cTn id="3038" dur="indefinite" nodeType="mainSeq">
                <p:childTnLst>
                  <p:par>
                    <p:cTn id="3039" fill="hold">
                      <p:stCondLst>
                        <p:cond delay="indefinite"/>
                      </p:stCondLst>
                      <p:childTnLst>
                        <p:par>
                          <p:cTn id="3040" fill="hold">
                            <p:stCondLst>
                              <p:cond delay="0"/>
                            </p:stCondLst>
                            <p:childTnLst>
                              <p:par>
                                <p:cTn id="30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3" dur="500" fill="hold"/>
                                        <p:tgtEl>
                                          <p:spTgt spid="3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4" dur="500" fill="hold"/>
                                        <p:tgtEl>
                                          <p:spTgt spid="3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5" fill="hold">
                      <p:stCondLst>
                        <p:cond delay="indefinite"/>
                      </p:stCondLst>
                      <p:childTnLst>
                        <p:par>
                          <p:cTn id="3046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9" dur="500" fill="hold"/>
                                        <p:tgtEl>
                                          <p:spTgt spid="3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0" dur="500" fill="hold"/>
                                        <p:tgtEl>
                                          <p:spTgt spid="3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"/>
          <p:cNvSpPr/>
          <p:nvPr/>
        </p:nvSpPr>
        <p:spPr>
          <a:xfrm flipV="1">
            <a:off x="4140360" y="3501720"/>
            <a:ext cx="936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 flipV="1">
            <a:off x="5076720" y="3068640"/>
            <a:ext cx="71928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"/>
          <p:cNvSpPr/>
          <p:nvPr/>
        </p:nvSpPr>
        <p:spPr>
          <a:xfrm flipH="1" flipV="1">
            <a:off x="3203640" y="3285720"/>
            <a:ext cx="93672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"/>
          <p:cNvSpPr/>
          <p:nvPr/>
        </p:nvSpPr>
        <p:spPr>
          <a:xfrm flipV="1">
            <a:off x="3203640" y="2781360"/>
            <a:ext cx="1152360" cy="504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"/>
          <p:cNvSpPr/>
          <p:nvPr/>
        </p:nvSpPr>
        <p:spPr>
          <a:xfrm>
            <a:off x="4356000" y="2781360"/>
            <a:ext cx="1440000" cy="28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 flipV="1">
            <a:off x="3203640" y="162864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 flipV="1">
            <a:off x="4140360" y="198900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/>
          <p:nvPr/>
        </p:nvSpPr>
        <p:spPr>
          <a:xfrm flipV="1">
            <a:off x="5076720" y="184464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/>
          <p:nvPr/>
        </p:nvSpPr>
        <p:spPr>
          <a:xfrm flipV="1">
            <a:off x="4356000" y="112536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/>
          <p:cNvSpPr/>
          <p:nvPr/>
        </p:nvSpPr>
        <p:spPr>
          <a:xfrm flipV="1">
            <a:off x="5796000" y="1412640"/>
            <a:ext cx="0" cy="165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"/>
          <p:cNvSpPr/>
          <p:nvPr/>
        </p:nvSpPr>
        <p:spPr>
          <a:xfrm>
            <a:off x="3203640" y="1628640"/>
            <a:ext cx="9367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 flipV="1">
            <a:off x="4140360" y="1844280"/>
            <a:ext cx="936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 flipV="1">
            <a:off x="5076720" y="1412640"/>
            <a:ext cx="71928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 flipH="1" flipV="1">
            <a:off x="4356000" y="1125000"/>
            <a:ext cx="144000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"/>
          <p:cNvSpPr/>
          <p:nvPr/>
        </p:nvSpPr>
        <p:spPr>
          <a:xfrm flipH="1">
            <a:off x="3203280" y="1125360"/>
            <a:ext cx="115236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"/>
          <p:cNvSpPr/>
          <p:nvPr/>
        </p:nvSpPr>
        <p:spPr>
          <a:xfrm>
            <a:off x="2918160" y="321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"/>
          <p:cNvSpPr/>
          <p:nvPr/>
        </p:nvSpPr>
        <p:spPr>
          <a:xfrm>
            <a:off x="3926160" y="364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"/>
          <p:cNvSpPr/>
          <p:nvPr/>
        </p:nvSpPr>
        <p:spPr>
          <a:xfrm>
            <a:off x="493416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5726520" y="29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>
            <a:off x="4356000" y="24210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"/>
          <p:cNvSpPr/>
          <p:nvPr/>
        </p:nvSpPr>
        <p:spPr>
          <a:xfrm>
            <a:off x="2702160" y="1484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"/>
          <p:cNvSpPr/>
          <p:nvPr/>
        </p:nvSpPr>
        <p:spPr>
          <a:xfrm>
            <a:off x="3926160" y="1628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"/>
          <p:cNvSpPr/>
          <p:nvPr/>
        </p:nvSpPr>
        <p:spPr>
          <a:xfrm>
            <a:off x="5005800" y="17733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"/>
          <p:cNvSpPr/>
          <p:nvPr/>
        </p:nvSpPr>
        <p:spPr>
          <a:xfrm>
            <a:off x="5798160" y="1268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"/>
          <p:cNvSpPr/>
          <p:nvPr/>
        </p:nvSpPr>
        <p:spPr>
          <a:xfrm>
            <a:off x="4142160" y="76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"/>
          <p:cNvSpPr/>
          <p:nvPr/>
        </p:nvSpPr>
        <p:spPr>
          <a:xfrm>
            <a:off x="2987640" y="7650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"/>
          <p:cNvSpPr/>
          <p:nvPr/>
        </p:nvSpPr>
        <p:spPr>
          <a:xfrm>
            <a:off x="3851280" y="112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"/>
          <p:cNvSpPr/>
          <p:nvPr/>
        </p:nvSpPr>
        <p:spPr>
          <a:xfrm>
            <a:off x="4427640" y="162864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"/>
          <p:cNvSpPr/>
          <p:nvPr/>
        </p:nvSpPr>
        <p:spPr>
          <a:xfrm>
            <a:off x="5435640" y="198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"/>
          <p:cNvSpPr/>
          <p:nvPr/>
        </p:nvSpPr>
        <p:spPr>
          <a:xfrm flipV="1">
            <a:off x="3203640" y="3068640"/>
            <a:ext cx="2592360" cy="2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/>
          <p:cNvSpPr/>
          <p:nvPr/>
        </p:nvSpPr>
        <p:spPr>
          <a:xfrm flipH="1">
            <a:off x="4140000" y="2781360"/>
            <a:ext cx="215640" cy="863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"/>
          <p:cNvSpPr/>
          <p:nvPr/>
        </p:nvSpPr>
        <p:spPr>
          <a:xfrm>
            <a:off x="4140360" y="292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"/>
          <p:cNvSpPr/>
          <p:nvPr/>
        </p:nvSpPr>
        <p:spPr>
          <a:xfrm>
            <a:off x="2771640" y="263700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"/>
          <p:cNvSpPr/>
          <p:nvPr/>
        </p:nvSpPr>
        <p:spPr>
          <a:xfrm>
            <a:off x="3419640" y="31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 flipV="1">
            <a:off x="4140360" y="1341000"/>
            <a:ext cx="215640" cy="187164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"/>
          <p:cNvSpPr/>
          <p:nvPr/>
        </p:nvSpPr>
        <p:spPr>
          <a:xfrm flipV="1">
            <a:off x="4284720" y="2060280"/>
            <a:ext cx="0" cy="108108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"/>
          <p:cNvSpPr/>
          <p:nvPr/>
        </p:nvSpPr>
        <p:spPr>
          <a:xfrm>
            <a:off x="3780000" y="20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"/>
          <p:cNvSpPr/>
          <p:nvPr/>
        </p:nvSpPr>
        <p:spPr>
          <a:xfrm>
            <a:off x="684360" y="551664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ц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1" dur="indefinite" restart="never" nodeType="tmRoot">
          <p:childTnLst>
            <p:seq>
              <p:cTn id="3052" dur="indefinite" nodeType="mainSeq">
                <p:childTnLst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7" dur="500" fill="hold"/>
                                        <p:tgtEl>
                                          <p:spTgt spid="3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8" dur="500" fill="hold"/>
                                        <p:tgtEl>
                                          <p:spTgt spid="3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9" fill="hold">
                      <p:stCondLst>
                        <p:cond delay="indefinite"/>
                      </p:stCondLst>
                      <p:childTnLst>
                        <p:par>
                          <p:cTn id="3060" fill="hold">
                            <p:stCondLst>
                              <p:cond delay="0"/>
                            </p:stCondLst>
                            <p:childTnLst>
                              <p:par>
                                <p:cTn id="3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3" dur="500" fill="hold"/>
                                        <p:tgtEl>
                                          <p:spTgt spid="3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4" dur="500" fill="hold"/>
                                        <p:tgtEl>
                                          <p:spTgt spid="3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"/>
          <p:cNvSpPr/>
          <p:nvPr/>
        </p:nvSpPr>
        <p:spPr>
          <a:xfrm flipV="1">
            <a:off x="4140360" y="3501720"/>
            <a:ext cx="936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"/>
          <p:cNvSpPr/>
          <p:nvPr/>
        </p:nvSpPr>
        <p:spPr>
          <a:xfrm flipV="1">
            <a:off x="5076720" y="3068640"/>
            <a:ext cx="71928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"/>
          <p:cNvSpPr/>
          <p:nvPr/>
        </p:nvSpPr>
        <p:spPr>
          <a:xfrm flipH="1" flipV="1">
            <a:off x="3203640" y="3285720"/>
            <a:ext cx="93672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 flipV="1">
            <a:off x="3203640" y="2781360"/>
            <a:ext cx="1152360" cy="504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4356000" y="2781360"/>
            <a:ext cx="1440000" cy="28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 flipV="1">
            <a:off x="3203640" y="162864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 flipV="1">
            <a:off x="4140360" y="198900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 flipV="1">
            <a:off x="5076720" y="184464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 flipV="1">
            <a:off x="4356000" y="112536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 flipV="1">
            <a:off x="5796000" y="1412640"/>
            <a:ext cx="0" cy="165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3203640" y="1628640"/>
            <a:ext cx="9367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 flipV="1">
            <a:off x="4140360" y="1844280"/>
            <a:ext cx="936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 flipV="1">
            <a:off x="5076720" y="1412640"/>
            <a:ext cx="71928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 flipH="1" flipV="1">
            <a:off x="4356000" y="1125000"/>
            <a:ext cx="144000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 flipH="1">
            <a:off x="3203280" y="1125360"/>
            <a:ext cx="115236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>
            <a:off x="2918160" y="321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3926160" y="364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493416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"/>
          <p:cNvSpPr/>
          <p:nvPr/>
        </p:nvSpPr>
        <p:spPr>
          <a:xfrm>
            <a:off x="5726520" y="29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"/>
          <p:cNvSpPr/>
          <p:nvPr/>
        </p:nvSpPr>
        <p:spPr>
          <a:xfrm>
            <a:off x="4356000" y="24210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"/>
          <p:cNvSpPr/>
          <p:nvPr/>
        </p:nvSpPr>
        <p:spPr>
          <a:xfrm>
            <a:off x="2702160" y="1484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"/>
          <p:cNvSpPr/>
          <p:nvPr/>
        </p:nvSpPr>
        <p:spPr>
          <a:xfrm>
            <a:off x="3926160" y="1628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"/>
          <p:cNvSpPr/>
          <p:nvPr/>
        </p:nvSpPr>
        <p:spPr>
          <a:xfrm>
            <a:off x="5005800" y="17733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"/>
          <p:cNvSpPr/>
          <p:nvPr/>
        </p:nvSpPr>
        <p:spPr>
          <a:xfrm>
            <a:off x="5798160" y="1268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"/>
          <p:cNvSpPr/>
          <p:nvPr/>
        </p:nvSpPr>
        <p:spPr>
          <a:xfrm>
            <a:off x="4142160" y="76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>
            <a:off x="2987640" y="7650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>
            <a:off x="3851280" y="112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>
            <a:off x="4427640" y="162864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"/>
          <p:cNvSpPr/>
          <p:nvPr/>
        </p:nvSpPr>
        <p:spPr>
          <a:xfrm>
            <a:off x="5435640" y="198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"/>
          <p:cNvSpPr/>
          <p:nvPr/>
        </p:nvSpPr>
        <p:spPr>
          <a:xfrm flipV="1">
            <a:off x="3203640" y="3068640"/>
            <a:ext cx="2592360" cy="2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"/>
          <p:cNvSpPr/>
          <p:nvPr/>
        </p:nvSpPr>
        <p:spPr>
          <a:xfrm flipH="1">
            <a:off x="4140000" y="2781360"/>
            <a:ext cx="215640" cy="863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"/>
          <p:cNvSpPr/>
          <p:nvPr/>
        </p:nvSpPr>
        <p:spPr>
          <a:xfrm>
            <a:off x="4140360" y="292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"/>
          <p:cNvSpPr/>
          <p:nvPr/>
        </p:nvSpPr>
        <p:spPr>
          <a:xfrm>
            <a:off x="2771640" y="263700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3419640" y="31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 flipV="1">
            <a:off x="4140360" y="1341000"/>
            <a:ext cx="215640" cy="187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 flipV="1">
            <a:off x="4284720" y="2060280"/>
            <a:ext cx="0" cy="1081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3780000" y="20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 flipH="1" flipV="1">
            <a:off x="3203280" y="1989000"/>
            <a:ext cx="2592360" cy="21600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2771640" y="1844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"/>
          <p:cNvSpPr/>
          <p:nvPr/>
        </p:nvSpPr>
        <p:spPr>
          <a:xfrm>
            <a:off x="611280" y="55166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R=P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"/>
          <p:cNvSpPr/>
          <p:nvPr/>
        </p:nvSpPr>
        <p:spPr>
          <a:xfrm rot="10800000">
            <a:off x="1907640" y="55152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5" dur="indefinite" restart="never" nodeType="tmRoot">
          <p:childTnLst>
            <p:seq>
              <p:cTn id="3066" dur="indefinite" nodeType="mainSeq">
                <p:childTnLst>
                  <p:par>
                    <p:cTn id="3067" fill="hold">
                      <p:stCondLst>
                        <p:cond delay="indefinite"/>
                      </p:stCondLst>
                      <p:childTnLst>
                        <p:par>
                          <p:cTn id="3068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1" dur="500" fill="hold"/>
                                        <p:tgtEl>
                                          <p:spTgt spid="3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3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0" name=""/>
          <p:cNvSpPr/>
          <p:nvPr/>
        </p:nvSpPr>
        <p:spPr>
          <a:xfrm flipV="1">
            <a:off x="4140360" y="3501720"/>
            <a:ext cx="936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"/>
          <p:cNvSpPr/>
          <p:nvPr/>
        </p:nvSpPr>
        <p:spPr>
          <a:xfrm flipV="1">
            <a:off x="5076720" y="3068640"/>
            <a:ext cx="71928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"/>
          <p:cNvSpPr/>
          <p:nvPr/>
        </p:nvSpPr>
        <p:spPr>
          <a:xfrm flipH="1" flipV="1">
            <a:off x="3203640" y="3285720"/>
            <a:ext cx="93672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"/>
          <p:cNvSpPr/>
          <p:nvPr/>
        </p:nvSpPr>
        <p:spPr>
          <a:xfrm flipV="1">
            <a:off x="3203640" y="2781360"/>
            <a:ext cx="1152360" cy="504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"/>
          <p:cNvSpPr/>
          <p:nvPr/>
        </p:nvSpPr>
        <p:spPr>
          <a:xfrm>
            <a:off x="4356000" y="2781360"/>
            <a:ext cx="1440000" cy="28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"/>
          <p:cNvSpPr/>
          <p:nvPr/>
        </p:nvSpPr>
        <p:spPr>
          <a:xfrm flipV="1">
            <a:off x="3203640" y="162864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"/>
          <p:cNvSpPr/>
          <p:nvPr/>
        </p:nvSpPr>
        <p:spPr>
          <a:xfrm flipV="1">
            <a:off x="4140360" y="198900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"/>
          <p:cNvSpPr/>
          <p:nvPr/>
        </p:nvSpPr>
        <p:spPr>
          <a:xfrm flipV="1">
            <a:off x="5076720" y="184464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"/>
          <p:cNvSpPr/>
          <p:nvPr/>
        </p:nvSpPr>
        <p:spPr>
          <a:xfrm flipV="1">
            <a:off x="4356000" y="112536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"/>
          <p:cNvSpPr/>
          <p:nvPr/>
        </p:nvSpPr>
        <p:spPr>
          <a:xfrm flipV="1">
            <a:off x="5796000" y="1412640"/>
            <a:ext cx="0" cy="165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"/>
          <p:cNvSpPr/>
          <p:nvPr/>
        </p:nvSpPr>
        <p:spPr>
          <a:xfrm>
            <a:off x="3203640" y="1628640"/>
            <a:ext cx="9367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"/>
          <p:cNvSpPr/>
          <p:nvPr/>
        </p:nvSpPr>
        <p:spPr>
          <a:xfrm flipV="1">
            <a:off x="4140360" y="1844280"/>
            <a:ext cx="936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"/>
          <p:cNvSpPr/>
          <p:nvPr/>
        </p:nvSpPr>
        <p:spPr>
          <a:xfrm flipV="1">
            <a:off x="5076720" y="1412640"/>
            <a:ext cx="71928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"/>
          <p:cNvSpPr/>
          <p:nvPr/>
        </p:nvSpPr>
        <p:spPr>
          <a:xfrm flipH="1" flipV="1">
            <a:off x="4356000" y="1125000"/>
            <a:ext cx="144000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"/>
          <p:cNvSpPr/>
          <p:nvPr/>
        </p:nvSpPr>
        <p:spPr>
          <a:xfrm flipH="1">
            <a:off x="3203280" y="1125360"/>
            <a:ext cx="115236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"/>
          <p:cNvSpPr/>
          <p:nvPr/>
        </p:nvSpPr>
        <p:spPr>
          <a:xfrm>
            <a:off x="2918160" y="321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"/>
          <p:cNvSpPr/>
          <p:nvPr/>
        </p:nvSpPr>
        <p:spPr>
          <a:xfrm>
            <a:off x="3926160" y="364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"/>
          <p:cNvSpPr/>
          <p:nvPr/>
        </p:nvSpPr>
        <p:spPr>
          <a:xfrm>
            <a:off x="493416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>
            <a:off x="5726520" y="29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"/>
          <p:cNvSpPr/>
          <p:nvPr/>
        </p:nvSpPr>
        <p:spPr>
          <a:xfrm>
            <a:off x="4356000" y="24210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"/>
          <p:cNvSpPr/>
          <p:nvPr/>
        </p:nvSpPr>
        <p:spPr>
          <a:xfrm>
            <a:off x="2702160" y="1484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"/>
          <p:cNvSpPr/>
          <p:nvPr/>
        </p:nvSpPr>
        <p:spPr>
          <a:xfrm>
            <a:off x="3926160" y="1628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"/>
          <p:cNvSpPr/>
          <p:nvPr/>
        </p:nvSpPr>
        <p:spPr>
          <a:xfrm>
            <a:off x="5005800" y="17733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"/>
          <p:cNvSpPr/>
          <p:nvPr/>
        </p:nvSpPr>
        <p:spPr>
          <a:xfrm>
            <a:off x="5798160" y="1268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"/>
          <p:cNvSpPr/>
          <p:nvPr/>
        </p:nvSpPr>
        <p:spPr>
          <a:xfrm>
            <a:off x="4142160" y="76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"/>
          <p:cNvSpPr/>
          <p:nvPr/>
        </p:nvSpPr>
        <p:spPr>
          <a:xfrm>
            <a:off x="2987640" y="7650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3851280" y="112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4427640" y="162864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5435640" y="198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 flipV="1">
            <a:off x="3203640" y="3068640"/>
            <a:ext cx="2592360" cy="2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 flipH="1">
            <a:off x="4140000" y="2781360"/>
            <a:ext cx="215640" cy="863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4140360" y="292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2771640" y="263700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3419640" y="31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 flipV="1">
            <a:off x="4140360" y="1341000"/>
            <a:ext cx="215640" cy="187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 flipV="1">
            <a:off x="4284720" y="2060280"/>
            <a:ext cx="0" cy="1081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3780000" y="20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"/>
          <p:cNvSpPr/>
          <p:nvPr/>
        </p:nvSpPr>
        <p:spPr>
          <a:xfrm flipH="1" flipV="1">
            <a:off x="3203280" y="1989000"/>
            <a:ext cx="2592360" cy="2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"/>
          <p:cNvSpPr/>
          <p:nvPr/>
        </p:nvSpPr>
        <p:spPr>
          <a:xfrm>
            <a:off x="2771640" y="1844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"/>
          <p:cNvSpPr/>
          <p:nvPr/>
        </p:nvSpPr>
        <p:spPr>
          <a:xfrm>
            <a:off x="4356000" y="2781360"/>
            <a:ext cx="720720" cy="71892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"/>
          <p:cNvSpPr/>
          <p:nvPr/>
        </p:nvSpPr>
        <p:spPr>
          <a:xfrm>
            <a:off x="457200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"/>
          <p:cNvSpPr/>
          <p:nvPr/>
        </p:nvSpPr>
        <p:spPr>
          <a:xfrm>
            <a:off x="611280" y="551664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H=EC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"/>
          <p:cNvSpPr/>
          <p:nvPr/>
        </p:nvSpPr>
        <p:spPr>
          <a:xfrm rot="10800000">
            <a:off x="1835280" y="55152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3" dur="indefinite" restart="never" nodeType="tmRoot">
          <p:childTnLst>
            <p:seq>
              <p:cTn id="3074" dur="indefinite" nodeType="mainSeq">
                <p:childTnLst>
                  <p:par>
                    <p:cTn id="3075" fill="hold">
                      <p:stCondLst>
                        <p:cond delay="indefinite"/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3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0" dur="500" fill="hold"/>
                                        <p:tgtEl>
                                          <p:spTgt spid="3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998800" y="3284640"/>
            <a:ext cx="2868480" cy="3603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133360" y="3284640"/>
            <a:ext cx="865080" cy="6476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133720" y="3932280"/>
            <a:ext cx="1008000" cy="7207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3141720" y="3645000"/>
            <a:ext cx="2736720" cy="10080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133720" y="3932280"/>
            <a:ext cx="0" cy="12240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132000" y="4664160"/>
            <a:ext cx="0" cy="12240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990880" y="2708280"/>
            <a:ext cx="12600" cy="1793880"/>
          </a:xfrm>
          <a:prstGeom prst="line">
            <a:avLst/>
          </a:prstGeom>
          <a:ln w="9360">
            <a:solidFill>
              <a:srgbClr val="33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870520" y="3651120"/>
            <a:ext cx="0" cy="12146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36600" y="5167440"/>
            <a:ext cx="1008360" cy="7207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514080" y="4510080"/>
            <a:ext cx="2492280" cy="1822320"/>
          </a:xfrm>
          <a:prstGeom prst="line">
            <a:avLst/>
          </a:prstGeom>
          <a:ln w="9360">
            <a:solidFill>
              <a:srgbClr val="33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3132000" y="4869000"/>
            <a:ext cx="2737080" cy="10080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014640" y="4506840"/>
            <a:ext cx="2863800" cy="360360"/>
          </a:xfrm>
          <a:prstGeom prst="line">
            <a:avLst/>
          </a:prstGeom>
          <a:ln w="9360">
            <a:solidFill>
              <a:srgbClr val="33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510080" y="47545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635280" y="33307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101680" y="480384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37893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3366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979640" y="50846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(Q</a:t>
            </a:r>
            <a:r>
              <a:rPr b="0" lang="en-US" sz="1800" spc="-1" strike="noStrike" baseline="30000">
                <a:solidFill>
                  <a:srgbClr val="336666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808280" y="4618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492360" y="2997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543560" y="4624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797440" y="342900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3366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796000" y="3645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3366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797440" y="4726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789280" y="57038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773440" y="45813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3366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989440" y="42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916360" y="321300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3366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535640" y="4149720"/>
            <a:ext cx="0" cy="12333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637080" y="3357720"/>
            <a:ext cx="0" cy="1223640"/>
          </a:xfrm>
          <a:prstGeom prst="line">
            <a:avLst/>
          </a:prstGeom>
          <a:ln w="9360">
            <a:solidFill>
              <a:srgbClr val="33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64080" y="3348000"/>
            <a:ext cx="1761840" cy="28954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618000" y="4575240"/>
            <a:ext cx="1886040" cy="16509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348000" y="4581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R</a:t>
            </a:r>
            <a:r>
              <a:rPr b="0" lang="en-US" sz="1800" spc="-1" strike="noStrike" baseline="30000">
                <a:solidFill>
                  <a:srgbClr val="336666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84720" y="537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P</a:t>
            </a:r>
            <a:r>
              <a:rPr b="0" lang="en-US" sz="1800" spc="-1" strike="noStrike" baseline="30000">
                <a:solidFill>
                  <a:srgbClr val="336666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68960" y="60213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495680" y="531828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11520" y="45403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53760" y="3357720"/>
            <a:ext cx="3003480" cy="29224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02120" y="57643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80920" y="60213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743040" y="6032160"/>
            <a:ext cx="4782960" cy="46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003640" y="59500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3366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1280" y="56610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3366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20760" y="5159520"/>
            <a:ext cx="1548000" cy="10983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138400" y="4826160"/>
            <a:ext cx="1441440" cy="14349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3122640" y="3814560"/>
            <a:ext cx="2754360" cy="199692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348000" y="60213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829480" y="379260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987640" y="6021360"/>
            <a:ext cx="501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3366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2555640" y="3141720"/>
            <a:ext cx="3321000" cy="681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139840" y="2928960"/>
            <a:ext cx="1006560" cy="19080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62728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916360" y="33037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976480" y="31971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03280" y="549360"/>
            <a:ext cx="72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54280" y="28432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3366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943360" y="3330720"/>
            <a:ext cx="711000" cy="2700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3634920" y="3357720"/>
            <a:ext cx="2243160" cy="47304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2128680" y="3333240"/>
            <a:ext cx="811440" cy="149724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22560" y="4824360"/>
            <a:ext cx="1006560" cy="98604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476360" y="18900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Times New Roman"/>
              </a:rPr>
              <a:t>Построение сечения методом сле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5280" y="549360"/>
            <a:ext cx="1873080" cy="23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66"/>
                </a:solidFill>
                <a:latin typeface="Times New Roman"/>
              </a:rPr>
              <a:t>Дано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: четырёхугольная призма 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ABCDA</a:t>
            </a:r>
            <a:r>
              <a:rPr b="0" lang="en-US" sz="1400" spc="-1" strike="noStrike" baseline="-25000">
                <a:solidFill>
                  <a:srgbClr val="336666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B</a:t>
            </a:r>
            <a:r>
              <a:rPr b="0" lang="en-US" sz="1400" spc="-1" strike="noStrike" baseline="-25000">
                <a:solidFill>
                  <a:srgbClr val="336666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C</a:t>
            </a:r>
            <a:r>
              <a:rPr b="0" lang="en-US" sz="1400" spc="-1" strike="noStrike" baseline="-25000">
                <a:solidFill>
                  <a:srgbClr val="336666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D</a:t>
            </a:r>
            <a:r>
              <a:rPr b="0" lang="en-US" sz="1400" spc="-1" strike="noStrike" baseline="-25000">
                <a:solidFill>
                  <a:srgbClr val="336666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 и точки Р – на грани 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CC</a:t>
            </a:r>
            <a:r>
              <a:rPr b="0" lang="en-US" sz="1400" spc="-1" strike="noStrike" baseline="-25000">
                <a:solidFill>
                  <a:srgbClr val="336666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D</a:t>
            </a:r>
            <a:r>
              <a:rPr b="0" lang="en-US" sz="1400" spc="-1" strike="noStrike" baseline="-25000">
                <a:solidFill>
                  <a:srgbClr val="336666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D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, 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Q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 – на ребре АА</a:t>
            </a:r>
            <a:r>
              <a:rPr b="0" lang="ru-RU" sz="1400" spc="-1" strike="noStrike" baseline="-25000">
                <a:solidFill>
                  <a:srgbClr val="336666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, 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R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 – на ребре В</a:t>
            </a:r>
            <a:r>
              <a:rPr b="0" lang="ru-RU" sz="1400" spc="-1" strike="noStrike" baseline="-25000">
                <a:solidFill>
                  <a:srgbClr val="336666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С</a:t>
            </a:r>
            <a:r>
              <a:rPr b="0" lang="ru-RU" sz="1400" spc="-1" strike="noStrike" baseline="-25000">
                <a:solidFill>
                  <a:srgbClr val="336666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. Построить сечение, проходящее через данные точки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1280" y="476280"/>
            <a:ext cx="604836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Times New Roman"/>
              </a:rPr>
              <a:t>Постро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1). Проецируем точки 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P, Q, R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. Они проецируются на точки 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P’, Q’, R’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2). Строим т.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S</a:t>
            </a:r>
            <a:r>
              <a:rPr b="0" lang="en-US" sz="1400" spc="-1" strike="noStrike" baseline="-25000">
                <a:solidFill>
                  <a:srgbClr val="336666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 – точка пересечения 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PR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 и 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P</a:t>
            </a:r>
            <a:r>
              <a:rPr b="0" lang="en-US" sz="1400" spc="-1" strike="noStrike" baseline="30000">
                <a:solidFill>
                  <a:srgbClr val="336666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R’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 и т.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S</a:t>
            </a:r>
            <a:r>
              <a:rPr b="0" lang="en-US" sz="1400" spc="-1" strike="noStrike" baseline="-25000">
                <a:solidFill>
                  <a:srgbClr val="336666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 – точка пересечения 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QR 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и 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Q</a:t>
            </a:r>
            <a:r>
              <a:rPr b="0" lang="en-US" sz="1400" spc="-1" strike="noStrike" baseline="30000">
                <a:solidFill>
                  <a:srgbClr val="336666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R</a:t>
            </a:r>
            <a:r>
              <a:rPr b="0" lang="en-US" sz="1400" spc="-1" strike="noStrike" baseline="30000">
                <a:solidFill>
                  <a:srgbClr val="336666"/>
                </a:solidFill>
                <a:latin typeface="Times New Roman"/>
              </a:rPr>
              <a:t>’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3)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. Строим прямую 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S</a:t>
            </a:r>
            <a:r>
              <a:rPr b="0" lang="en-US" sz="1400" spc="-1" strike="noStrike" baseline="-25000">
                <a:solidFill>
                  <a:srgbClr val="336666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S</a:t>
            </a:r>
            <a:r>
              <a:rPr b="0" lang="en-US" sz="1400" spc="-1" strike="noStrike" baseline="-25000">
                <a:solidFill>
                  <a:srgbClr val="336666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 – линия пересечения плоскостей 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PQR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 и 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ABC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4).  Проведем прямую 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Q</a:t>
            </a:r>
            <a:r>
              <a:rPr b="0" lang="en-US" sz="1400" spc="-1" strike="noStrike" baseline="30000">
                <a:solidFill>
                  <a:srgbClr val="336666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D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 и найдем точку 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S</a:t>
            </a:r>
            <a:r>
              <a:rPr b="0" lang="en-US" sz="1400" spc="-1" strike="noStrike" baseline="-25000">
                <a:solidFill>
                  <a:srgbClr val="336666"/>
                </a:solidFill>
                <a:latin typeface="Times New Roman"/>
              </a:rPr>
              <a:t>3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, в которой пересекаются прямые 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Q</a:t>
            </a:r>
            <a:r>
              <a:rPr b="0" lang="en-US" sz="1400" spc="-1" strike="noStrike" baseline="30000">
                <a:solidFill>
                  <a:srgbClr val="336666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D 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и 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S</a:t>
            </a:r>
            <a:r>
              <a:rPr b="0" lang="en-US" sz="1400" spc="-1" strike="noStrike" baseline="-25000">
                <a:solidFill>
                  <a:srgbClr val="336666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S</a:t>
            </a:r>
            <a:r>
              <a:rPr b="0" lang="en-US" sz="1400" spc="-1" strike="noStrike" baseline="-25000">
                <a:solidFill>
                  <a:srgbClr val="336666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5). Строим т.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D</a:t>
            </a:r>
            <a:r>
              <a:rPr b="0" lang="en-US" sz="1400" spc="-1" strike="noStrike" baseline="-25000">
                <a:solidFill>
                  <a:srgbClr val="336666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 – точка пересечения 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QS</a:t>
            </a:r>
            <a:r>
              <a:rPr b="0" lang="en-US" sz="1400" spc="-1" strike="noStrike" baseline="-25000">
                <a:solidFill>
                  <a:srgbClr val="336666"/>
                </a:solidFill>
                <a:latin typeface="Times New Roman"/>
              </a:rPr>
              <a:t>3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 и 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DD</a:t>
            </a:r>
            <a:r>
              <a:rPr b="0" lang="en-US" sz="1400" spc="-1" strike="noStrike" baseline="-25000">
                <a:solidFill>
                  <a:srgbClr val="336666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6). Проведем 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D</a:t>
            </a:r>
            <a:r>
              <a:rPr b="0" lang="ru-RU" sz="1400" spc="-1" strike="noStrike" baseline="-25000">
                <a:solidFill>
                  <a:srgbClr val="336666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P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. Получим т.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C</a:t>
            </a:r>
            <a:r>
              <a:rPr b="0" lang="ru-RU" sz="1400" spc="-1" strike="noStrike" baseline="-25000">
                <a:solidFill>
                  <a:srgbClr val="336666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 – точка пересечения 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CC</a:t>
            </a:r>
            <a:r>
              <a:rPr b="0" lang="ru-RU" sz="1400" spc="-1" strike="noStrike" baseline="-25000">
                <a:solidFill>
                  <a:srgbClr val="336666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 и 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D</a:t>
            </a:r>
            <a:r>
              <a:rPr b="0" lang="ru-RU" sz="1400" spc="-1" strike="noStrike" baseline="-25000">
                <a:solidFill>
                  <a:srgbClr val="336666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P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300720" y="3860640"/>
            <a:ext cx="262728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7). Проведем С</a:t>
            </a:r>
            <a:r>
              <a:rPr b="0" lang="ru-RU" sz="1400" spc="-1" strike="noStrike" baseline="-25000">
                <a:solidFill>
                  <a:srgbClr val="336666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R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. Получим т.В</a:t>
            </a:r>
            <a:r>
              <a:rPr b="0" lang="ru-RU" sz="1400" spc="-1" strike="noStrike" baseline="-25000">
                <a:solidFill>
                  <a:srgbClr val="336666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 – точка пересечения ВВ</a:t>
            </a:r>
            <a:r>
              <a:rPr b="0" lang="ru-RU" sz="1400" spc="-1" strike="noStrike" baseline="-25000">
                <a:solidFill>
                  <a:srgbClr val="336666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 и С</a:t>
            </a:r>
            <a:r>
              <a:rPr b="0" lang="ru-RU" sz="1400" spc="-1" strike="noStrike" baseline="-25000">
                <a:solidFill>
                  <a:srgbClr val="336666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R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8). Проведем В</a:t>
            </a:r>
            <a:r>
              <a:rPr b="0" lang="ru-RU" sz="1400" spc="-1" strike="noStrike" baseline="-25000">
                <a:solidFill>
                  <a:srgbClr val="336666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Q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. Получим т.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V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 – точка пересечения 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336666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В</a:t>
            </a:r>
            <a:r>
              <a:rPr b="0" lang="ru-RU" sz="1400" spc="-1" strike="noStrike" baseline="-25000">
                <a:solidFill>
                  <a:srgbClr val="336666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 и 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B</a:t>
            </a:r>
            <a:r>
              <a:rPr b="0" lang="en-US" sz="1400" spc="-1" strike="noStrike" baseline="-25000">
                <a:solidFill>
                  <a:srgbClr val="336666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Q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9). Соединим т. 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V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 и т.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R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. Получим 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VR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66"/>
                </a:solidFill>
                <a:latin typeface="Times New Roman"/>
              </a:rPr>
              <a:t>Пятиугольник </a:t>
            </a:r>
            <a:r>
              <a:rPr b="1" lang="en-US" sz="1400" spc="-1" strike="noStrike">
                <a:solidFill>
                  <a:srgbClr val="336666"/>
                </a:solidFill>
                <a:latin typeface="Times New Roman"/>
              </a:rPr>
              <a:t>QD</a:t>
            </a:r>
            <a:r>
              <a:rPr b="1" lang="en-US" sz="1400" spc="-1" strike="noStrike" baseline="-25000">
                <a:solidFill>
                  <a:srgbClr val="336666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336666"/>
                </a:solidFill>
                <a:latin typeface="Times New Roman"/>
              </a:rPr>
              <a:t>C</a:t>
            </a:r>
            <a:r>
              <a:rPr b="1" lang="en-US" sz="1400" spc="-1" strike="noStrike" baseline="-25000">
                <a:solidFill>
                  <a:srgbClr val="336666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336666"/>
                </a:solidFill>
                <a:latin typeface="Times New Roman"/>
              </a:rPr>
              <a:t>RV</a:t>
            </a:r>
            <a:r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 – искомое сеч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124000" y="4797360"/>
            <a:ext cx="0" cy="360360"/>
          </a:xfrm>
          <a:prstGeom prst="line">
            <a:avLst/>
          </a:prstGeom>
          <a:ln w="3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125880" y="4653000"/>
            <a:ext cx="0" cy="12193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059280" y="544500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3366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36720" y="50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128320" y="4503600"/>
            <a:ext cx="878040" cy="649440"/>
          </a:xfrm>
          <a:prstGeom prst="line">
            <a:avLst/>
          </a:prstGeom>
          <a:ln w="9360">
            <a:solidFill>
              <a:srgbClr val="33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9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9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9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9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8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900" fill="hold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0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900" fill="hold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5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2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9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4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9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6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1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9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3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3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9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"/>
          <p:cNvSpPr/>
          <p:nvPr/>
        </p:nvSpPr>
        <p:spPr>
          <a:xfrm flipV="1">
            <a:off x="4140360" y="3501720"/>
            <a:ext cx="936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"/>
          <p:cNvSpPr/>
          <p:nvPr/>
        </p:nvSpPr>
        <p:spPr>
          <a:xfrm flipV="1">
            <a:off x="5076720" y="3068640"/>
            <a:ext cx="71928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 flipH="1" flipV="1">
            <a:off x="3203640" y="3285720"/>
            <a:ext cx="93672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 flipV="1">
            <a:off x="3203640" y="2781360"/>
            <a:ext cx="1152360" cy="504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4356000" y="2781360"/>
            <a:ext cx="1440000" cy="28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"/>
          <p:cNvSpPr/>
          <p:nvPr/>
        </p:nvSpPr>
        <p:spPr>
          <a:xfrm flipV="1">
            <a:off x="3203640" y="162864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"/>
          <p:cNvSpPr/>
          <p:nvPr/>
        </p:nvSpPr>
        <p:spPr>
          <a:xfrm flipV="1">
            <a:off x="4140360" y="198900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"/>
          <p:cNvSpPr/>
          <p:nvPr/>
        </p:nvSpPr>
        <p:spPr>
          <a:xfrm flipV="1">
            <a:off x="5076720" y="184464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"/>
          <p:cNvSpPr/>
          <p:nvPr/>
        </p:nvSpPr>
        <p:spPr>
          <a:xfrm flipV="1">
            <a:off x="4356000" y="112536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"/>
          <p:cNvSpPr/>
          <p:nvPr/>
        </p:nvSpPr>
        <p:spPr>
          <a:xfrm flipV="1">
            <a:off x="5796000" y="1412640"/>
            <a:ext cx="0" cy="165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"/>
          <p:cNvSpPr/>
          <p:nvPr/>
        </p:nvSpPr>
        <p:spPr>
          <a:xfrm>
            <a:off x="3203640" y="1628640"/>
            <a:ext cx="9367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"/>
          <p:cNvSpPr/>
          <p:nvPr/>
        </p:nvSpPr>
        <p:spPr>
          <a:xfrm flipV="1">
            <a:off x="4140360" y="1844280"/>
            <a:ext cx="936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"/>
          <p:cNvSpPr/>
          <p:nvPr/>
        </p:nvSpPr>
        <p:spPr>
          <a:xfrm flipV="1">
            <a:off x="5076720" y="1412640"/>
            <a:ext cx="71928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"/>
          <p:cNvSpPr/>
          <p:nvPr/>
        </p:nvSpPr>
        <p:spPr>
          <a:xfrm flipH="1" flipV="1">
            <a:off x="4356000" y="1125000"/>
            <a:ext cx="144000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"/>
          <p:cNvSpPr/>
          <p:nvPr/>
        </p:nvSpPr>
        <p:spPr>
          <a:xfrm flipH="1">
            <a:off x="3203280" y="1125360"/>
            <a:ext cx="115236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"/>
          <p:cNvSpPr/>
          <p:nvPr/>
        </p:nvSpPr>
        <p:spPr>
          <a:xfrm>
            <a:off x="2918160" y="321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"/>
          <p:cNvSpPr/>
          <p:nvPr/>
        </p:nvSpPr>
        <p:spPr>
          <a:xfrm>
            <a:off x="3926160" y="364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"/>
          <p:cNvSpPr/>
          <p:nvPr/>
        </p:nvSpPr>
        <p:spPr>
          <a:xfrm>
            <a:off x="493416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"/>
          <p:cNvSpPr/>
          <p:nvPr/>
        </p:nvSpPr>
        <p:spPr>
          <a:xfrm>
            <a:off x="5726520" y="29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"/>
          <p:cNvSpPr/>
          <p:nvPr/>
        </p:nvSpPr>
        <p:spPr>
          <a:xfrm>
            <a:off x="4356000" y="24210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"/>
          <p:cNvSpPr/>
          <p:nvPr/>
        </p:nvSpPr>
        <p:spPr>
          <a:xfrm>
            <a:off x="2702160" y="1484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"/>
          <p:cNvSpPr/>
          <p:nvPr/>
        </p:nvSpPr>
        <p:spPr>
          <a:xfrm>
            <a:off x="3926160" y="1628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"/>
          <p:cNvSpPr/>
          <p:nvPr/>
        </p:nvSpPr>
        <p:spPr>
          <a:xfrm>
            <a:off x="5005800" y="17733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"/>
          <p:cNvSpPr/>
          <p:nvPr/>
        </p:nvSpPr>
        <p:spPr>
          <a:xfrm>
            <a:off x="5798160" y="1268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"/>
          <p:cNvSpPr/>
          <p:nvPr/>
        </p:nvSpPr>
        <p:spPr>
          <a:xfrm>
            <a:off x="4142160" y="76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"/>
          <p:cNvSpPr/>
          <p:nvPr/>
        </p:nvSpPr>
        <p:spPr>
          <a:xfrm>
            <a:off x="2987640" y="7650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"/>
          <p:cNvSpPr/>
          <p:nvPr/>
        </p:nvSpPr>
        <p:spPr>
          <a:xfrm>
            <a:off x="3851280" y="112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"/>
          <p:cNvSpPr/>
          <p:nvPr/>
        </p:nvSpPr>
        <p:spPr>
          <a:xfrm>
            <a:off x="4427640" y="162864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"/>
          <p:cNvSpPr/>
          <p:nvPr/>
        </p:nvSpPr>
        <p:spPr>
          <a:xfrm>
            <a:off x="5435640" y="198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"/>
          <p:cNvSpPr/>
          <p:nvPr/>
        </p:nvSpPr>
        <p:spPr>
          <a:xfrm flipV="1">
            <a:off x="3203640" y="3068640"/>
            <a:ext cx="2592360" cy="2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"/>
          <p:cNvSpPr/>
          <p:nvPr/>
        </p:nvSpPr>
        <p:spPr>
          <a:xfrm flipH="1">
            <a:off x="4140000" y="2781360"/>
            <a:ext cx="215640" cy="863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"/>
          <p:cNvSpPr/>
          <p:nvPr/>
        </p:nvSpPr>
        <p:spPr>
          <a:xfrm>
            <a:off x="4140360" y="292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"/>
          <p:cNvSpPr/>
          <p:nvPr/>
        </p:nvSpPr>
        <p:spPr>
          <a:xfrm>
            <a:off x="2771640" y="263700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"/>
          <p:cNvSpPr/>
          <p:nvPr/>
        </p:nvSpPr>
        <p:spPr>
          <a:xfrm>
            <a:off x="3419640" y="31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"/>
          <p:cNvSpPr/>
          <p:nvPr/>
        </p:nvSpPr>
        <p:spPr>
          <a:xfrm flipV="1">
            <a:off x="4140360" y="1341000"/>
            <a:ext cx="215640" cy="187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"/>
          <p:cNvSpPr/>
          <p:nvPr/>
        </p:nvSpPr>
        <p:spPr>
          <a:xfrm flipV="1">
            <a:off x="4284720" y="2060280"/>
            <a:ext cx="0" cy="1081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"/>
          <p:cNvSpPr/>
          <p:nvPr/>
        </p:nvSpPr>
        <p:spPr>
          <a:xfrm>
            <a:off x="3780000" y="20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"/>
          <p:cNvSpPr/>
          <p:nvPr/>
        </p:nvSpPr>
        <p:spPr>
          <a:xfrm flipH="1" flipV="1">
            <a:off x="3203280" y="1989000"/>
            <a:ext cx="2592360" cy="2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"/>
          <p:cNvSpPr/>
          <p:nvPr/>
        </p:nvSpPr>
        <p:spPr>
          <a:xfrm>
            <a:off x="2771640" y="1844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"/>
          <p:cNvSpPr/>
          <p:nvPr/>
        </p:nvSpPr>
        <p:spPr>
          <a:xfrm>
            <a:off x="4356000" y="278136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"/>
          <p:cNvSpPr/>
          <p:nvPr/>
        </p:nvSpPr>
        <p:spPr>
          <a:xfrm>
            <a:off x="457200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"/>
          <p:cNvSpPr/>
          <p:nvPr/>
        </p:nvSpPr>
        <p:spPr>
          <a:xfrm flipV="1">
            <a:off x="4716360" y="2133720"/>
            <a:ext cx="0" cy="100800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"/>
          <p:cNvSpPr/>
          <p:nvPr/>
        </p:nvSpPr>
        <p:spPr>
          <a:xfrm>
            <a:off x="4500720" y="14842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"/>
          <p:cNvSpPr/>
          <p:nvPr/>
        </p:nvSpPr>
        <p:spPr>
          <a:xfrm>
            <a:off x="611280" y="5516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ц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1" dur="indefinite" restart="never" nodeType="tmRoot">
          <p:childTnLst>
            <p:seq>
              <p:cTn id="3082" dur="indefinite" nodeType="mainSeq">
                <p:childTnLst>
                  <p:par>
                    <p:cTn id="3083" fill="hold">
                      <p:stCondLst>
                        <p:cond delay="indefinite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7" dur="500" fill="hold"/>
                                        <p:tgtEl>
                                          <p:spTgt spid="3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8" dur="500" fill="hold"/>
                                        <p:tgtEl>
                                          <p:spTgt spid="3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9" name=""/>
          <p:cNvSpPr/>
          <p:nvPr/>
        </p:nvSpPr>
        <p:spPr>
          <a:xfrm flipV="1">
            <a:off x="4140360" y="3501720"/>
            <a:ext cx="936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"/>
          <p:cNvSpPr/>
          <p:nvPr/>
        </p:nvSpPr>
        <p:spPr>
          <a:xfrm flipV="1">
            <a:off x="5076720" y="3068640"/>
            <a:ext cx="71928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"/>
          <p:cNvSpPr/>
          <p:nvPr/>
        </p:nvSpPr>
        <p:spPr>
          <a:xfrm flipH="1" flipV="1">
            <a:off x="3203640" y="3285720"/>
            <a:ext cx="93672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"/>
          <p:cNvSpPr/>
          <p:nvPr/>
        </p:nvSpPr>
        <p:spPr>
          <a:xfrm flipV="1">
            <a:off x="3203640" y="2781360"/>
            <a:ext cx="1152360" cy="504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"/>
          <p:cNvSpPr/>
          <p:nvPr/>
        </p:nvSpPr>
        <p:spPr>
          <a:xfrm>
            <a:off x="4356000" y="2781360"/>
            <a:ext cx="1440000" cy="28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"/>
          <p:cNvSpPr/>
          <p:nvPr/>
        </p:nvSpPr>
        <p:spPr>
          <a:xfrm flipV="1">
            <a:off x="3203640" y="162864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"/>
          <p:cNvSpPr/>
          <p:nvPr/>
        </p:nvSpPr>
        <p:spPr>
          <a:xfrm flipV="1">
            <a:off x="4140360" y="198900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"/>
          <p:cNvSpPr/>
          <p:nvPr/>
        </p:nvSpPr>
        <p:spPr>
          <a:xfrm flipV="1">
            <a:off x="5076720" y="184464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 flipV="1">
            <a:off x="4356000" y="112536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"/>
          <p:cNvSpPr/>
          <p:nvPr/>
        </p:nvSpPr>
        <p:spPr>
          <a:xfrm flipV="1">
            <a:off x="5796000" y="1412640"/>
            <a:ext cx="0" cy="165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"/>
          <p:cNvSpPr/>
          <p:nvPr/>
        </p:nvSpPr>
        <p:spPr>
          <a:xfrm>
            <a:off x="3203640" y="1628640"/>
            <a:ext cx="9367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"/>
          <p:cNvSpPr/>
          <p:nvPr/>
        </p:nvSpPr>
        <p:spPr>
          <a:xfrm flipV="1">
            <a:off x="4140360" y="1844280"/>
            <a:ext cx="936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"/>
          <p:cNvSpPr/>
          <p:nvPr/>
        </p:nvSpPr>
        <p:spPr>
          <a:xfrm flipV="1">
            <a:off x="5076720" y="1412640"/>
            <a:ext cx="71928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"/>
          <p:cNvSpPr/>
          <p:nvPr/>
        </p:nvSpPr>
        <p:spPr>
          <a:xfrm flipH="1" flipV="1">
            <a:off x="4356000" y="1125000"/>
            <a:ext cx="144000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"/>
          <p:cNvSpPr/>
          <p:nvPr/>
        </p:nvSpPr>
        <p:spPr>
          <a:xfrm flipH="1">
            <a:off x="3203280" y="1125360"/>
            <a:ext cx="115236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"/>
          <p:cNvSpPr/>
          <p:nvPr/>
        </p:nvSpPr>
        <p:spPr>
          <a:xfrm>
            <a:off x="2918160" y="321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"/>
          <p:cNvSpPr/>
          <p:nvPr/>
        </p:nvSpPr>
        <p:spPr>
          <a:xfrm>
            <a:off x="3926160" y="364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"/>
          <p:cNvSpPr/>
          <p:nvPr/>
        </p:nvSpPr>
        <p:spPr>
          <a:xfrm>
            <a:off x="493416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"/>
          <p:cNvSpPr/>
          <p:nvPr/>
        </p:nvSpPr>
        <p:spPr>
          <a:xfrm>
            <a:off x="5726520" y="29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"/>
          <p:cNvSpPr/>
          <p:nvPr/>
        </p:nvSpPr>
        <p:spPr>
          <a:xfrm>
            <a:off x="4356000" y="24210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"/>
          <p:cNvSpPr/>
          <p:nvPr/>
        </p:nvSpPr>
        <p:spPr>
          <a:xfrm>
            <a:off x="2702160" y="1484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"/>
          <p:cNvSpPr/>
          <p:nvPr/>
        </p:nvSpPr>
        <p:spPr>
          <a:xfrm>
            <a:off x="3926160" y="1628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"/>
          <p:cNvSpPr/>
          <p:nvPr/>
        </p:nvSpPr>
        <p:spPr>
          <a:xfrm>
            <a:off x="5005800" y="17733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"/>
          <p:cNvSpPr/>
          <p:nvPr/>
        </p:nvSpPr>
        <p:spPr>
          <a:xfrm>
            <a:off x="5798160" y="1268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"/>
          <p:cNvSpPr/>
          <p:nvPr/>
        </p:nvSpPr>
        <p:spPr>
          <a:xfrm>
            <a:off x="4142160" y="76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"/>
          <p:cNvSpPr/>
          <p:nvPr/>
        </p:nvSpPr>
        <p:spPr>
          <a:xfrm>
            <a:off x="2987640" y="7650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"/>
          <p:cNvSpPr/>
          <p:nvPr/>
        </p:nvSpPr>
        <p:spPr>
          <a:xfrm>
            <a:off x="3851280" y="112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"/>
          <p:cNvSpPr/>
          <p:nvPr/>
        </p:nvSpPr>
        <p:spPr>
          <a:xfrm>
            <a:off x="4427640" y="162864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"/>
          <p:cNvSpPr/>
          <p:nvPr/>
        </p:nvSpPr>
        <p:spPr>
          <a:xfrm>
            <a:off x="5435640" y="198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"/>
          <p:cNvSpPr/>
          <p:nvPr/>
        </p:nvSpPr>
        <p:spPr>
          <a:xfrm flipV="1">
            <a:off x="3203640" y="3068640"/>
            <a:ext cx="2592360" cy="2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"/>
          <p:cNvSpPr/>
          <p:nvPr/>
        </p:nvSpPr>
        <p:spPr>
          <a:xfrm flipH="1">
            <a:off x="4140000" y="2781360"/>
            <a:ext cx="215640" cy="863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"/>
          <p:cNvSpPr/>
          <p:nvPr/>
        </p:nvSpPr>
        <p:spPr>
          <a:xfrm>
            <a:off x="4140360" y="292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"/>
          <p:cNvSpPr/>
          <p:nvPr/>
        </p:nvSpPr>
        <p:spPr>
          <a:xfrm>
            <a:off x="2771640" y="263700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"/>
          <p:cNvSpPr/>
          <p:nvPr/>
        </p:nvSpPr>
        <p:spPr>
          <a:xfrm>
            <a:off x="3419640" y="31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"/>
          <p:cNvSpPr/>
          <p:nvPr/>
        </p:nvSpPr>
        <p:spPr>
          <a:xfrm flipV="1">
            <a:off x="4140360" y="1341000"/>
            <a:ext cx="215640" cy="187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"/>
          <p:cNvSpPr/>
          <p:nvPr/>
        </p:nvSpPr>
        <p:spPr>
          <a:xfrm flipV="1">
            <a:off x="4284720" y="2060280"/>
            <a:ext cx="0" cy="1081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"/>
          <p:cNvSpPr/>
          <p:nvPr/>
        </p:nvSpPr>
        <p:spPr>
          <a:xfrm>
            <a:off x="3780000" y="20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"/>
          <p:cNvSpPr/>
          <p:nvPr/>
        </p:nvSpPr>
        <p:spPr>
          <a:xfrm flipH="1" flipV="1">
            <a:off x="3203280" y="1989000"/>
            <a:ext cx="2592360" cy="2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"/>
          <p:cNvSpPr/>
          <p:nvPr/>
        </p:nvSpPr>
        <p:spPr>
          <a:xfrm>
            <a:off x="2771640" y="1844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"/>
          <p:cNvSpPr/>
          <p:nvPr/>
        </p:nvSpPr>
        <p:spPr>
          <a:xfrm>
            <a:off x="4356000" y="278136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/>
          <p:nvPr/>
        </p:nvSpPr>
        <p:spPr>
          <a:xfrm>
            <a:off x="457200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"/>
          <p:cNvSpPr/>
          <p:nvPr/>
        </p:nvSpPr>
        <p:spPr>
          <a:xfrm flipV="1">
            <a:off x="4716360" y="213372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>
            <a:off x="4500720" y="14842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"/>
          <p:cNvSpPr/>
          <p:nvPr/>
        </p:nvSpPr>
        <p:spPr>
          <a:xfrm>
            <a:off x="4356000" y="1341360"/>
            <a:ext cx="720720" cy="129564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"/>
          <p:cNvSpPr/>
          <p:nvPr/>
        </p:nvSpPr>
        <p:spPr>
          <a:xfrm>
            <a:off x="4859280" y="2421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>
            <a:off x="684360" y="551664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) N=Q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C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/>
          <p:nvPr/>
        </p:nvSpPr>
        <p:spPr>
          <a:xfrm rot="10800000">
            <a:off x="2123640" y="55152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9" dur="indefinite" restart="never" nodeType="tmRoot">
          <p:childTnLst>
            <p:seq>
              <p:cTn id="3090" dur="indefinite" nodeType="mainSeq">
                <p:childTnLst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5" dur="500" fill="hold"/>
                                        <p:tgtEl>
                                          <p:spTgt spid="3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3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"/>
          <p:cNvSpPr/>
          <p:nvPr/>
        </p:nvSpPr>
        <p:spPr>
          <a:xfrm flipV="1">
            <a:off x="4140360" y="3501720"/>
            <a:ext cx="936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"/>
          <p:cNvSpPr/>
          <p:nvPr/>
        </p:nvSpPr>
        <p:spPr>
          <a:xfrm flipV="1">
            <a:off x="5076720" y="3068640"/>
            <a:ext cx="71928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"/>
          <p:cNvSpPr/>
          <p:nvPr/>
        </p:nvSpPr>
        <p:spPr>
          <a:xfrm flipH="1" flipV="1">
            <a:off x="3203640" y="3285720"/>
            <a:ext cx="93672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"/>
          <p:cNvSpPr/>
          <p:nvPr/>
        </p:nvSpPr>
        <p:spPr>
          <a:xfrm flipV="1">
            <a:off x="3203640" y="2781360"/>
            <a:ext cx="1152360" cy="504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"/>
          <p:cNvSpPr/>
          <p:nvPr/>
        </p:nvSpPr>
        <p:spPr>
          <a:xfrm>
            <a:off x="4356000" y="2781360"/>
            <a:ext cx="1440000" cy="28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"/>
          <p:cNvSpPr/>
          <p:nvPr/>
        </p:nvSpPr>
        <p:spPr>
          <a:xfrm flipV="1">
            <a:off x="3203640" y="162864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"/>
          <p:cNvSpPr/>
          <p:nvPr/>
        </p:nvSpPr>
        <p:spPr>
          <a:xfrm flipV="1">
            <a:off x="4140360" y="198900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"/>
          <p:cNvSpPr/>
          <p:nvPr/>
        </p:nvSpPr>
        <p:spPr>
          <a:xfrm flipV="1">
            <a:off x="5076720" y="184464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"/>
          <p:cNvSpPr/>
          <p:nvPr/>
        </p:nvSpPr>
        <p:spPr>
          <a:xfrm flipV="1">
            <a:off x="4356000" y="112536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"/>
          <p:cNvSpPr/>
          <p:nvPr/>
        </p:nvSpPr>
        <p:spPr>
          <a:xfrm flipV="1">
            <a:off x="5796000" y="1412640"/>
            <a:ext cx="0" cy="165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"/>
          <p:cNvSpPr/>
          <p:nvPr/>
        </p:nvSpPr>
        <p:spPr>
          <a:xfrm>
            <a:off x="3203640" y="1628640"/>
            <a:ext cx="9367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"/>
          <p:cNvSpPr/>
          <p:nvPr/>
        </p:nvSpPr>
        <p:spPr>
          <a:xfrm flipV="1">
            <a:off x="4140360" y="1844280"/>
            <a:ext cx="936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"/>
          <p:cNvSpPr/>
          <p:nvPr/>
        </p:nvSpPr>
        <p:spPr>
          <a:xfrm flipV="1">
            <a:off x="5076720" y="1412640"/>
            <a:ext cx="71928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"/>
          <p:cNvSpPr/>
          <p:nvPr/>
        </p:nvSpPr>
        <p:spPr>
          <a:xfrm flipH="1" flipV="1">
            <a:off x="4356000" y="1125000"/>
            <a:ext cx="144000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"/>
          <p:cNvSpPr/>
          <p:nvPr/>
        </p:nvSpPr>
        <p:spPr>
          <a:xfrm flipH="1">
            <a:off x="3203280" y="1125360"/>
            <a:ext cx="115236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"/>
          <p:cNvSpPr/>
          <p:nvPr/>
        </p:nvSpPr>
        <p:spPr>
          <a:xfrm>
            <a:off x="2918160" y="321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"/>
          <p:cNvSpPr/>
          <p:nvPr/>
        </p:nvSpPr>
        <p:spPr>
          <a:xfrm>
            <a:off x="3926160" y="364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"/>
          <p:cNvSpPr/>
          <p:nvPr/>
        </p:nvSpPr>
        <p:spPr>
          <a:xfrm>
            <a:off x="493416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"/>
          <p:cNvSpPr/>
          <p:nvPr/>
        </p:nvSpPr>
        <p:spPr>
          <a:xfrm>
            <a:off x="5726520" y="29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"/>
          <p:cNvSpPr/>
          <p:nvPr/>
        </p:nvSpPr>
        <p:spPr>
          <a:xfrm>
            <a:off x="4356000" y="24210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"/>
          <p:cNvSpPr/>
          <p:nvPr/>
        </p:nvSpPr>
        <p:spPr>
          <a:xfrm>
            <a:off x="2702160" y="1484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"/>
          <p:cNvSpPr/>
          <p:nvPr/>
        </p:nvSpPr>
        <p:spPr>
          <a:xfrm>
            <a:off x="3926160" y="1628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"/>
          <p:cNvSpPr/>
          <p:nvPr/>
        </p:nvSpPr>
        <p:spPr>
          <a:xfrm>
            <a:off x="5005800" y="17733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"/>
          <p:cNvSpPr/>
          <p:nvPr/>
        </p:nvSpPr>
        <p:spPr>
          <a:xfrm>
            <a:off x="5798160" y="1268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"/>
          <p:cNvSpPr/>
          <p:nvPr/>
        </p:nvSpPr>
        <p:spPr>
          <a:xfrm>
            <a:off x="4142160" y="76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"/>
          <p:cNvSpPr/>
          <p:nvPr/>
        </p:nvSpPr>
        <p:spPr>
          <a:xfrm>
            <a:off x="2987640" y="7650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"/>
          <p:cNvSpPr/>
          <p:nvPr/>
        </p:nvSpPr>
        <p:spPr>
          <a:xfrm>
            <a:off x="3851280" y="112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"/>
          <p:cNvSpPr/>
          <p:nvPr/>
        </p:nvSpPr>
        <p:spPr>
          <a:xfrm>
            <a:off x="4427640" y="162864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"/>
          <p:cNvSpPr/>
          <p:nvPr/>
        </p:nvSpPr>
        <p:spPr>
          <a:xfrm>
            <a:off x="5435640" y="198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"/>
          <p:cNvSpPr/>
          <p:nvPr/>
        </p:nvSpPr>
        <p:spPr>
          <a:xfrm flipV="1">
            <a:off x="3203640" y="3068640"/>
            <a:ext cx="2592360" cy="2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"/>
          <p:cNvSpPr/>
          <p:nvPr/>
        </p:nvSpPr>
        <p:spPr>
          <a:xfrm flipH="1">
            <a:off x="4140000" y="2781360"/>
            <a:ext cx="215640" cy="863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"/>
          <p:cNvSpPr/>
          <p:nvPr/>
        </p:nvSpPr>
        <p:spPr>
          <a:xfrm>
            <a:off x="4140360" y="292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"/>
          <p:cNvSpPr/>
          <p:nvPr/>
        </p:nvSpPr>
        <p:spPr>
          <a:xfrm>
            <a:off x="2771640" y="263700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"/>
          <p:cNvSpPr/>
          <p:nvPr/>
        </p:nvSpPr>
        <p:spPr>
          <a:xfrm>
            <a:off x="3419640" y="31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"/>
          <p:cNvSpPr/>
          <p:nvPr/>
        </p:nvSpPr>
        <p:spPr>
          <a:xfrm flipV="1">
            <a:off x="4140360" y="1341000"/>
            <a:ext cx="215640" cy="187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2" name=""/>
          <p:cNvSpPr/>
          <p:nvPr/>
        </p:nvSpPr>
        <p:spPr>
          <a:xfrm flipV="1">
            <a:off x="4284720" y="2060280"/>
            <a:ext cx="0" cy="1081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"/>
          <p:cNvSpPr/>
          <p:nvPr/>
        </p:nvSpPr>
        <p:spPr>
          <a:xfrm>
            <a:off x="3780000" y="20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"/>
          <p:cNvSpPr/>
          <p:nvPr/>
        </p:nvSpPr>
        <p:spPr>
          <a:xfrm flipH="1" flipV="1">
            <a:off x="3203280" y="1989000"/>
            <a:ext cx="2592360" cy="2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"/>
          <p:cNvSpPr/>
          <p:nvPr/>
        </p:nvSpPr>
        <p:spPr>
          <a:xfrm>
            <a:off x="2771640" y="1844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"/>
          <p:cNvSpPr/>
          <p:nvPr/>
        </p:nvSpPr>
        <p:spPr>
          <a:xfrm>
            <a:off x="4356000" y="278136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7" name=""/>
          <p:cNvSpPr/>
          <p:nvPr/>
        </p:nvSpPr>
        <p:spPr>
          <a:xfrm>
            <a:off x="457200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8" name=""/>
          <p:cNvSpPr/>
          <p:nvPr/>
        </p:nvSpPr>
        <p:spPr>
          <a:xfrm flipV="1">
            <a:off x="4716360" y="213372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"/>
          <p:cNvSpPr/>
          <p:nvPr/>
        </p:nvSpPr>
        <p:spPr>
          <a:xfrm>
            <a:off x="4500720" y="14842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"/>
          <p:cNvSpPr/>
          <p:nvPr/>
        </p:nvSpPr>
        <p:spPr>
          <a:xfrm>
            <a:off x="4356000" y="1341360"/>
            <a:ext cx="72072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"/>
          <p:cNvSpPr/>
          <p:nvPr/>
        </p:nvSpPr>
        <p:spPr>
          <a:xfrm>
            <a:off x="4859280" y="2421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2" name=""/>
          <p:cNvSpPr/>
          <p:nvPr/>
        </p:nvSpPr>
        <p:spPr>
          <a:xfrm flipV="1">
            <a:off x="4067280" y="2637000"/>
            <a:ext cx="1009440" cy="576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3" name=""/>
          <p:cNvSpPr/>
          <p:nvPr/>
        </p:nvSpPr>
        <p:spPr>
          <a:xfrm flipV="1">
            <a:off x="5076720" y="2205000"/>
            <a:ext cx="719280" cy="432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"/>
          <p:cNvSpPr/>
          <p:nvPr/>
        </p:nvSpPr>
        <p:spPr>
          <a:xfrm>
            <a:off x="4356000" y="1312920"/>
            <a:ext cx="1440000" cy="8920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"/>
          <p:cNvSpPr/>
          <p:nvPr/>
        </p:nvSpPr>
        <p:spPr>
          <a:xfrm flipV="1">
            <a:off x="3203640" y="1341000"/>
            <a:ext cx="1152360" cy="64764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"/>
          <p:cNvSpPr/>
          <p:nvPr/>
        </p:nvSpPr>
        <p:spPr>
          <a:xfrm>
            <a:off x="3203640" y="1989000"/>
            <a:ext cx="936720" cy="1224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7" dur="indefinite" restart="never" nodeType="tmRoot">
          <p:childTnLst>
            <p:seq>
              <p:cTn id="3098" dur="indefinite" nodeType="mainSeq">
                <p:childTnLst>
                  <p:par>
                    <p:cTn id="3099" fill="hold">
                      <p:stCondLst>
                        <p:cond delay="indefinite"/>
                      </p:stCondLst>
                      <p:childTnLst>
                        <p:par>
                          <p:cTn id="3100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3" dur="500" fill="hold"/>
                                        <p:tgtEl>
                                          <p:spTgt spid="3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4" dur="500" fill="hold"/>
                                        <p:tgtEl>
                                          <p:spTgt spid="3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5" fill="hold">
                      <p:stCondLst>
                        <p:cond delay="indefinite"/>
                      </p:stCondLst>
                      <p:childTnLst>
                        <p:par>
                          <p:cTn id="3106" fill="hold">
                            <p:stCondLst>
                              <p:cond delay="0"/>
                            </p:stCondLst>
                            <p:childTnLst>
                              <p:par>
                                <p:cTn id="3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9" dur="500" fill="hold"/>
                                        <p:tgtEl>
                                          <p:spTgt spid="3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0" dur="500" fill="hold"/>
                                        <p:tgtEl>
                                          <p:spTgt spid="3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1" fill="hold">
                      <p:stCondLst>
                        <p:cond delay="indefinite"/>
                      </p:stCondLst>
                      <p:childTnLst>
                        <p:par>
                          <p:cTn id="3112" fill="hold">
                            <p:stCondLst>
                              <p:cond delay="0"/>
                            </p:stCondLst>
                            <p:childTnLst>
                              <p:par>
                                <p:cTn id="3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3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6" dur="500" fill="hold"/>
                                        <p:tgtEl>
                                          <p:spTgt spid="3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7" fill="hold">
                      <p:stCondLst>
                        <p:cond delay="indefinite"/>
                      </p:stCondLst>
                      <p:childTnLst>
                        <p:par>
                          <p:cTn id="3118" fill="hold">
                            <p:stCondLst>
                              <p:cond delay="0"/>
                            </p:stCondLst>
                            <p:childTnLst>
                              <p:par>
                                <p:cTn id="3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1" dur="500" fill="hold"/>
                                        <p:tgtEl>
                                          <p:spTgt spid="3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2" dur="500" fill="hold"/>
                                        <p:tgtEl>
                                          <p:spTgt spid="3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3" fill="hold">
                      <p:stCondLst>
                        <p:cond delay="indefinite"/>
                      </p:stCondLst>
                      <p:childTnLst>
                        <p:par>
                          <p:cTn id="3124" fill="hold">
                            <p:stCondLst>
                              <p:cond delay="0"/>
                            </p:stCondLst>
                            <p:childTnLst>
                              <p:par>
                                <p:cTn id="3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7" dur="500" fill="hold"/>
                                        <p:tgtEl>
                                          <p:spTgt spid="3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8" dur="500" fill="hold"/>
                                        <p:tgtEl>
                                          <p:spTgt spid="3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8" name=""/>
          <p:cNvSpPr/>
          <p:nvPr/>
        </p:nvSpPr>
        <p:spPr>
          <a:xfrm flipV="1">
            <a:off x="4140360" y="3501720"/>
            <a:ext cx="936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"/>
          <p:cNvSpPr/>
          <p:nvPr/>
        </p:nvSpPr>
        <p:spPr>
          <a:xfrm flipV="1">
            <a:off x="5076720" y="3068640"/>
            <a:ext cx="71928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"/>
          <p:cNvSpPr/>
          <p:nvPr/>
        </p:nvSpPr>
        <p:spPr>
          <a:xfrm flipH="1" flipV="1">
            <a:off x="3203640" y="3285720"/>
            <a:ext cx="93672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"/>
          <p:cNvSpPr/>
          <p:nvPr/>
        </p:nvSpPr>
        <p:spPr>
          <a:xfrm flipV="1">
            <a:off x="3203640" y="2781360"/>
            <a:ext cx="1152360" cy="504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"/>
          <p:cNvSpPr/>
          <p:nvPr/>
        </p:nvSpPr>
        <p:spPr>
          <a:xfrm>
            <a:off x="4356000" y="2781360"/>
            <a:ext cx="1440000" cy="28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"/>
          <p:cNvSpPr/>
          <p:nvPr/>
        </p:nvSpPr>
        <p:spPr>
          <a:xfrm flipV="1">
            <a:off x="3203640" y="162864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"/>
          <p:cNvSpPr/>
          <p:nvPr/>
        </p:nvSpPr>
        <p:spPr>
          <a:xfrm flipV="1">
            <a:off x="4140360" y="198900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"/>
          <p:cNvSpPr/>
          <p:nvPr/>
        </p:nvSpPr>
        <p:spPr>
          <a:xfrm flipV="1">
            <a:off x="5076720" y="184464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"/>
          <p:cNvSpPr/>
          <p:nvPr/>
        </p:nvSpPr>
        <p:spPr>
          <a:xfrm flipV="1">
            <a:off x="4356000" y="112536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"/>
          <p:cNvSpPr/>
          <p:nvPr/>
        </p:nvSpPr>
        <p:spPr>
          <a:xfrm flipV="1">
            <a:off x="5796000" y="1412640"/>
            <a:ext cx="0" cy="165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"/>
          <p:cNvSpPr/>
          <p:nvPr/>
        </p:nvSpPr>
        <p:spPr>
          <a:xfrm>
            <a:off x="3203640" y="1628640"/>
            <a:ext cx="9367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"/>
          <p:cNvSpPr/>
          <p:nvPr/>
        </p:nvSpPr>
        <p:spPr>
          <a:xfrm flipV="1">
            <a:off x="4140360" y="1844280"/>
            <a:ext cx="936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"/>
          <p:cNvSpPr/>
          <p:nvPr/>
        </p:nvSpPr>
        <p:spPr>
          <a:xfrm flipV="1">
            <a:off x="5076720" y="1412640"/>
            <a:ext cx="71928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"/>
          <p:cNvSpPr/>
          <p:nvPr/>
        </p:nvSpPr>
        <p:spPr>
          <a:xfrm flipH="1" flipV="1">
            <a:off x="4356000" y="1125000"/>
            <a:ext cx="144000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"/>
          <p:cNvSpPr/>
          <p:nvPr/>
        </p:nvSpPr>
        <p:spPr>
          <a:xfrm flipH="1">
            <a:off x="3203280" y="1125360"/>
            <a:ext cx="115236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"/>
          <p:cNvSpPr/>
          <p:nvPr/>
        </p:nvSpPr>
        <p:spPr>
          <a:xfrm>
            <a:off x="2918160" y="321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"/>
          <p:cNvSpPr/>
          <p:nvPr/>
        </p:nvSpPr>
        <p:spPr>
          <a:xfrm>
            <a:off x="3926160" y="364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"/>
          <p:cNvSpPr/>
          <p:nvPr/>
        </p:nvSpPr>
        <p:spPr>
          <a:xfrm>
            <a:off x="493416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"/>
          <p:cNvSpPr/>
          <p:nvPr/>
        </p:nvSpPr>
        <p:spPr>
          <a:xfrm>
            <a:off x="5726520" y="29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"/>
          <p:cNvSpPr/>
          <p:nvPr/>
        </p:nvSpPr>
        <p:spPr>
          <a:xfrm>
            <a:off x="4356000" y="24210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"/>
          <p:cNvSpPr/>
          <p:nvPr/>
        </p:nvSpPr>
        <p:spPr>
          <a:xfrm>
            <a:off x="2702160" y="1484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"/>
          <p:cNvSpPr/>
          <p:nvPr/>
        </p:nvSpPr>
        <p:spPr>
          <a:xfrm>
            <a:off x="3926160" y="1628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"/>
          <p:cNvSpPr/>
          <p:nvPr/>
        </p:nvSpPr>
        <p:spPr>
          <a:xfrm>
            <a:off x="5005800" y="17733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"/>
          <p:cNvSpPr/>
          <p:nvPr/>
        </p:nvSpPr>
        <p:spPr>
          <a:xfrm>
            <a:off x="5798160" y="1268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"/>
          <p:cNvSpPr/>
          <p:nvPr/>
        </p:nvSpPr>
        <p:spPr>
          <a:xfrm>
            <a:off x="4142160" y="76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"/>
          <p:cNvSpPr/>
          <p:nvPr/>
        </p:nvSpPr>
        <p:spPr>
          <a:xfrm>
            <a:off x="2987640" y="7650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"/>
          <p:cNvSpPr/>
          <p:nvPr/>
        </p:nvSpPr>
        <p:spPr>
          <a:xfrm>
            <a:off x="3851280" y="112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"/>
          <p:cNvSpPr/>
          <p:nvPr/>
        </p:nvSpPr>
        <p:spPr>
          <a:xfrm>
            <a:off x="4427640" y="162864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"/>
          <p:cNvSpPr/>
          <p:nvPr/>
        </p:nvSpPr>
        <p:spPr>
          <a:xfrm>
            <a:off x="5435640" y="198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"/>
          <p:cNvSpPr/>
          <p:nvPr/>
        </p:nvSpPr>
        <p:spPr>
          <a:xfrm flipV="1">
            <a:off x="3203640" y="3068640"/>
            <a:ext cx="2592360" cy="2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"/>
          <p:cNvSpPr/>
          <p:nvPr/>
        </p:nvSpPr>
        <p:spPr>
          <a:xfrm flipH="1">
            <a:off x="4140000" y="2781360"/>
            <a:ext cx="215640" cy="863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"/>
          <p:cNvSpPr/>
          <p:nvPr/>
        </p:nvSpPr>
        <p:spPr>
          <a:xfrm>
            <a:off x="4140360" y="292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"/>
          <p:cNvSpPr/>
          <p:nvPr/>
        </p:nvSpPr>
        <p:spPr>
          <a:xfrm>
            <a:off x="2771640" y="263700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"/>
          <p:cNvSpPr/>
          <p:nvPr/>
        </p:nvSpPr>
        <p:spPr>
          <a:xfrm>
            <a:off x="3419640" y="31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"/>
          <p:cNvSpPr/>
          <p:nvPr/>
        </p:nvSpPr>
        <p:spPr>
          <a:xfrm flipV="1">
            <a:off x="4140360" y="1341000"/>
            <a:ext cx="215640" cy="187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"/>
          <p:cNvSpPr/>
          <p:nvPr/>
        </p:nvSpPr>
        <p:spPr>
          <a:xfrm flipV="1">
            <a:off x="4284720" y="2060280"/>
            <a:ext cx="0" cy="1081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"/>
          <p:cNvSpPr/>
          <p:nvPr/>
        </p:nvSpPr>
        <p:spPr>
          <a:xfrm>
            <a:off x="3780000" y="20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"/>
          <p:cNvSpPr/>
          <p:nvPr/>
        </p:nvSpPr>
        <p:spPr>
          <a:xfrm flipH="1" flipV="1">
            <a:off x="3203280" y="1989000"/>
            <a:ext cx="2592360" cy="2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"/>
          <p:cNvSpPr/>
          <p:nvPr/>
        </p:nvSpPr>
        <p:spPr>
          <a:xfrm>
            <a:off x="2771640" y="1844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"/>
          <p:cNvSpPr/>
          <p:nvPr/>
        </p:nvSpPr>
        <p:spPr>
          <a:xfrm>
            <a:off x="4356000" y="278136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"/>
          <p:cNvSpPr/>
          <p:nvPr/>
        </p:nvSpPr>
        <p:spPr>
          <a:xfrm>
            <a:off x="457200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"/>
          <p:cNvSpPr/>
          <p:nvPr/>
        </p:nvSpPr>
        <p:spPr>
          <a:xfrm flipV="1">
            <a:off x="4716360" y="213372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"/>
          <p:cNvSpPr/>
          <p:nvPr/>
        </p:nvSpPr>
        <p:spPr>
          <a:xfrm>
            <a:off x="4500720" y="14842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"/>
          <p:cNvSpPr/>
          <p:nvPr/>
        </p:nvSpPr>
        <p:spPr>
          <a:xfrm>
            <a:off x="4356000" y="1341360"/>
            <a:ext cx="72072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"/>
          <p:cNvSpPr/>
          <p:nvPr/>
        </p:nvSpPr>
        <p:spPr>
          <a:xfrm>
            <a:off x="4859280" y="2421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"/>
          <p:cNvSpPr/>
          <p:nvPr/>
        </p:nvSpPr>
        <p:spPr>
          <a:xfrm flipV="1">
            <a:off x="4067280" y="2637000"/>
            <a:ext cx="1009440" cy="576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"/>
          <p:cNvSpPr/>
          <p:nvPr/>
        </p:nvSpPr>
        <p:spPr>
          <a:xfrm flipV="1">
            <a:off x="5076720" y="2205000"/>
            <a:ext cx="719280" cy="432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"/>
          <p:cNvSpPr/>
          <p:nvPr/>
        </p:nvSpPr>
        <p:spPr>
          <a:xfrm>
            <a:off x="4356000" y="1312920"/>
            <a:ext cx="1440000" cy="8920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"/>
          <p:cNvSpPr/>
          <p:nvPr/>
        </p:nvSpPr>
        <p:spPr>
          <a:xfrm flipV="1">
            <a:off x="3203640" y="1341000"/>
            <a:ext cx="1152360" cy="64764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"/>
          <p:cNvSpPr/>
          <p:nvPr/>
        </p:nvSpPr>
        <p:spPr>
          <a:xfrm>
            <a:off x="3203640" y="1989000"/>
            <a:ext cx="936720" cy="1224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"/>
          <p:cNvSpPr/>
          <p:nvPr/>
        </p:nvSpPr>
        <p:spPr>
          <a:xfrm>
            <a:off x="3419640" y="1844640"/>
            <a:ext cx="747720" cy="1297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"/>
          <p:cNvSpPr/>
          <p:nvPr/>
        </p:nvSpPr>
        <p:spPr>
          <a:xfrm>
            <a:off x="3635280" y="1700280"/>
            <a:ext cx="790560" cy="1368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"/>
          <p:cNvSpPr/>
          <p:nvPr/>
        </p:nvSpPr>
        <p:spPr>
          <a:xfrm>
            <a:off x="3924360" y="1557360"/>
            <a:ext cx="747720" cy="1295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"/>
          <p:cNvSpPr/>
          <p:nvPr/>
        </p:nvSpPr>
        <p:spPr>
          <a:xfrm>
            <a:off x="4140360" y="1413000"/>
            <a:ext cx="747720" cy="1295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"/>
          <p:cNvSpPr/>
          <p:nvPr/>
        </p:nvSpPr>
        <p:spPr>
          <a:xfrm>
            <a:off x="4427640" y="1341360"/>
            <a:ext cx="706320" cy="1224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"/>
          <p:cNvSpPr/>
          <p:nvPr/>
        </p:nvSpPr>
        <p:spPr>
          <a:xfrm>
            <a:off x="4932360" y="1700280"/>
            <a:ext cx="415800" cy="720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"/>
          <p:cNvSpPr/>
          <p:nvPr/>
        </p:nvSpPr>
        <p:spPr>
          <a:xfrm>
            <a:off x="5364000" y="1916280"/>
            <a:ext cx="249480" cy="433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">
            <a:hlinkClick r:id="rId1" action="ppaction://hlinksldjump"/>
          </p:cNvPr>
          <p:cNvSpPr/>
          <p:nvPr/>
        </p:nvSpPr>
        <p:spPr>
          <a:xfrm>
            <a:off x="7667640" y="692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10800"/>
                </a:moveTo>
                <a:lnTo>
                  <a:pt x="24566" y="3794"/>
                </a:lnTo>
                <a:lnTo>
                  <a:pt x="245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"/>
          <p:cNvSpPr/>
          <p:nvPr/>
        </p:nvSpPr>
        <p:spPr>
          <a:xfrm>
            <a:off x="611280" y="551664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) MNPQR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КОМОЕ С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"/>
          <p:cNvSpPr/>
          <p:nvPr/>
        </p:nvSpPr>
        <p:spPr>
          <a:xfrm>
            <a:off x="1116000" y="2492280"/>
            <a:ext cx="76233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330066"/>
                </a:solidFill>
                <a:latin typeface="Arial"/>
              </a:rPr>
              <a:t>ЗАДАЧА №10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9" dur="indefinite" restart="never" nodeType="tmRoot">
          <p:childTnLst>
            <p:seq>
              <p:cTn id="3130" dur="indefinite" nodeType="mainSeq">
                <p:childTnLst>
                  <p:par>
                    <p:cTn id="3131" fill="hold">
                      <p:stCondLst>
                        <p:cond delay="indefinite"/>
                      </p:stCondLst>
                      <p:childTnLst>
                        <p:par>
                          <p:cTn id="3132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5" dur="500"/>
                                        <p:tgtEl>
                                          <p:spTgt spid="4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ча 1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 АВС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плоскостью </a:t>
            </a:r>
            <a:r>
              <a:rPr b="0" lang="el-GR" sz="35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 ,заданной точками и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P,Q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  <a:ea typeface="Arial"/>
              </a:rPr>
              <a:t>, если точка Р лежит на диагонали 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  <a:ea typeface="Arial"/>
              </a:rPr>
              <a:t>, точка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  <a:ea typeface="Arial"/>
              </a:rPr>
              <a:t>  - на ребре ВВ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  <a:ea typeface="Arial"/>
              </a:rPr>
              <a:t> и точка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  <a:ea typeface="Arial"/>
              </a:rPr>
              <a:t>- на ребре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6" dur="indefinite" restart="never" nodeType="tmRoot">
          <p:childTnLst>
            <p:seq>
              <p:cTn id="3137" dur="indefinite" nodeType="mainSeq">
                <p:childTnLst>
                  <p:par>
                    <p:cTn id="3138" fill="hold">
                      <p:stCondLst>
                        <p:cond delay="indefinite"/>
                      </p:stCondLst>
                      <p:childTnLst>
                        <p:par>
                          <p:cTn id="3139" fill="hold">
                            <p:stCondLst>
                              <p:cond delay="0"/>
                            </p:stCondLst>
                            <p:childTnLst>
                              <p:par>
                                <p:cTn id="31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42" dur="2000"/>
                                        <p:tgtEl>
                                          <p:spTgt spid="4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3" fill="hold">
                      <p:stCondLst>
                        <p:cond delay="indefinite"/>
                      </p:stCondLst>
                      <p:childTnLst>
                        <p:par>
                          <p:cTn id="3144" fill="hold">
                            <p:stCondLst>
                              <p:cond delay="0"/>
                            </p:stCondLst>
                            <p:childTnLst>
                              <p:par>
                                <p:cTn id="3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7" dur="1000"/>
                                        <p:tgtEl>
                                          <p:spTgt spid="4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8" dur="1000" fill="hold"/>
                                        <p:tgtEl>
                                          <p:spTgt spid="4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9" dur="900" fill="hold"/>
                                        <p:tgtEl>
                                          <p:spTgt spid="4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1" name=""/>
          <p:cNvSpPr/>
          <p:nvPr/>
        </p:nvSpPr>
        <p:spPr>
          <a:xfrm flipV="1">
            <a:off x="2627280" y="313992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"/>
          <p:cNvSpPr/>
          <p:nvPr/>
        </p:nvSpPr>
        <p:spPr>
          <a:xfrm>
            <a:off x="3490920" y="313992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"/>
          <p:cNvSpPr/>
          <p:nvPr/>
        </p:nvSpPr>
        <p:spPr>
          <a:xfrm flipH="1">
            <a:off x="5074920" y="313992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"/>
          <p:cNvSpPr/>
          <p:nvPr/>
        </p:nvSpPr>
        <p:spPr>
          <a:xfrm flipH="1">
            <a:off x="2627280" y="386064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"/>
          <p:cNvSpPr/>
          <p:nvPr/>
        </p:nvSpPr>
        <p:spPr>
          <a:xfrm flipH="1" flipV="1">
            <a:off x="2411280" y="191592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"/>
          <p:cNvSpPr/>
          <p:nvPr/>
        </p:nvSpPr>
        <p:spPr>
          <a:xfrm flipH="1" flipV="1">
            <a:off x="4859280" y="191592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"/>
          <p:cNvSpPr/>
          <p:nvPr/>
        </p:nvSpPr>
        <p:spPr>
          <a:xfrm flipH="1" flipV="1">
            <a:off x="3274920" y="119520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"/>
          <p:cNvSpPr/>
          <p:nvPr/>
        </p:nvSpPr>
        <p:spPr>
          <a:xfrm flipH="1" flipV="1">
            <a:off x="5722920" y="119520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"/>
          <p:cNvSpPr/>
          <p:nvPr/>
        </p:nvSpPr>
        <p:spPr>
          <a:xfrm>
            <a:off x="2411280" y="191628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"/>
          <p:cNvSpPr/>
          <p:nvPr/>
        </p:nvSpPr>
        <p:spPr>
          <a:xfrm flipV="1">
            <a:off x="4859280" y="119556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"/>
          <p:cNvSpPr/>
          <p:nvPr/>
        </p:nvSpPr>
        <p:spPr>
          <a:xfrm flipH="1">
            <a:off x="3274920" y="119556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"/>
          <p:cNvSpPr/>
          <p:nvPr/>
        </p:nvSpPr>
        <p:spPr>
          <a:xfrm flipH="1">
            <a:off x="2410920" y="119556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"/>
          <p:cNvSpPr/>
          <p:nvPr/>
        </p:nvSpPr>
        <p:spPr>
          <a:xfrm>
            <a:off x="1187280" y="566100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"/>
          <p:cNvSpPr/>
          <p:nvPr/>
        </p:nvSpPr>
        <p:spPr>
          <a:xfrm>
            <a:off x="234180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"/>
          <p:cNvSpPr/>
          <p:nvPr/>
        </p:nvSpPr>
        <p:spPr>
          <a:xfrm>
            <a:off x="493416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"/>
          <p:cNvSpPr/>
          <p:nvPr/>
        </p:nvSpPr>
        <p:spPr>
          <a:xfrm>
            <a:off x="5942160" y="29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"/>
          <p:cNvSpPr/>
          <p:nvPr/>
        </p:nvSpPr>
        <p:spPr>
          <a:xfrm>
            <a:off x="3134160" y="29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"/>
          <p:cNvSpPr/>
          <p:nvPr/>
        </p:nvSpPr>
        <p:spPr>
          <a:xfrm>
            <a:off x="190944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"/>
          <p:cNvSpPr/>
          <p:nvPr/>
        </p:nvSpPr>
        <p:spPr>
          <a:xfrm>
            <a:off x="486072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"/>
          <p:cNvSpPr/>
          <p:nvPr/>
        </p:nvSpPr>
        <p:spPr>
          <a:xfrm>
            <a:off x="5726160" y="90792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"/>
          <p:cNvSpPr/>
          <p:nvPr/>
        </p:nvSpPr>
        <p:spPr>
          <a:xfrm>
            <a:off x="2773440" y="90792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"/>
          <p:cNvSpPr/>
          <p:nvPr/>
        </p:nvSpPr>
        <p:spPr>
          <a:xfrm flipV="1">
            <a:off x="2411280" y="1197000"/>
            <a:ext cx="331308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"/>
          <p:cNvSpPr/>
          <p:nvPr/>
        </p:nvSpPr>
        <p:spPr>
          <a:xfrm>
            <a:off x="2700360" y="1197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"/>
          <p:cNvSpPr/>
          <p:nvPr/>
        </p:nvSpPr>
        <p:spPr>
          <a:xfrm>
            <a:off x="2843280" y="148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"/>
          <p:cNvSpPr/>
          <p:nvPr/>
        </p:nvSpPr>
        <p:spPr>
          <a:xfrm>
            <a:off x="4859280" y="256536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6" name=""/>
          <p:cNvSpPr/>
          <p:nvPr/>
        </p:nvSpPr>
        <p:spPr>
          <a:xfrm>
            <a:off x="4932360" y="2781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"/>
          <p:cNvSpPr/>
          <p:nvPr/>
        </p:nvSpPr>
        <p:spPr>
          <a:xfrm>
            <a:off x="3276720" y="119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"/>
          <p:cNvSpPr/>
          <p:nvPr/>
        </p:nvSpPr>
        <p:spPr>
          <a:xfrm>
            <a:off x="3132000" y="69228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9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0" name=""/>
          <p:cNvSpPr/>
          <p:nvPr/>
        </p:nvSpPr>
        <p:spPr>
          <a:xfrm flipV="1">
            <a:off x="2627280" y="313992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"/>
          <p:cNvSpPr/>
          <p:nvPr/>
        </p:nvSpPr>
        <p:spPr>
          <a:xfrm>
            <a:off x="3490920" y="313992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"/>
          <p:cNvSpPr/>
          <p:nvPr/>
        </p:nvSpPr>
        <p:spPr>
          <a:xfrm flipH="1">
            <a:off x="5074920" y="313992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"/>
          <p:cNvSpPr/>
          <p:nvPr/>
        </p:nvSpPr>
        <p:spPr>
          <a:xfrm flipH="1">
            <a:off x="2627280" y="386064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"/>
          <p:cNvSpPr/>
          <p:nvPr/>
        </p:nvSpPr>
        <p:spPr>
          <a:xfrm flipH="1" flipV="1">
            <a:off x="2411280" y="191592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"/>
          <p:cNvSpPr/>
          <p:nvPr/>
        </p:nvSpPr>
        <p:spPr>
          <a:xfrm flipH="1" flipV="1">
            <a:off x="4859280" y="191592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"/>
          <p:cNvSpPr/>
          <p:nvPr/>
        </p:nvSpPr>
        <p:spPr>
          <a:xfrm flipH="1" flipV="1">
            <a:off x="3274920" y="119520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"/>
          <p:cNvSpPr/>
          <p:nvPr/>
        </p:nvSpPr>
        <p:spPr>
          <a:xfrm flipH="1" flipV="1">
            <a:off x="5722920" y="119520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"/>
          <p:cNvSpPr/>
          <p:nvPr/>
        </p:nvSpPr>
        <p:spPr>
          <a:xfrm>
            <a:off x="2411280" y="191628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"/>
          <p:cNvSpPr/>
          <p:nvPr/>
        </p:nvSpPr>
        <p:spPr>
          <a:xfrm flipV="1">
            <a:off x="4859280" y="119556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"/>
          <p:cNvSpPr/>
          <p:nvPr/>
        </p:nvSpPr>
        <p:spPr>
          <a:xfrm flipH="1">
            <a:off x="3274920" y="119556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"/>
          <p:cNvSpPr/>
          <p:nvPr/>
        </p:nvSpPr>
        <p:spPr>
          <a:xfrm flipH="1">
            <a:off x="2410920" y="119556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"/>
          <p:cNvSpPr/>
          <p:nvPr/>
        </p:nvSpPr>
        <p:spPr>
          <a:xfrm>
            <a:off x="1187280" y="566100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"/>
          <p:cNvSpPr/>
          <p:nvPr/>
        </p:nvSpPr>
        <p:spPr>
          <a:xfrm>
            <a:off x="234180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"/>
          <p:cNvSpPr/>
          <p:nvPr/>
        </p:nvSpPr>
        <p:spPr>
          <a:xfrm>
            <a:off x="493416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"/>
          <p:cNvSpPr/>
          <p:nvPr/>
        </p:nvSpPr>
        <p:spPr>
          <a:xfrm>
            <a:off x="5942160" y="29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"/>
          <p:cNvSpPr/>
          <p:nvPr/>
        </p:nvSpPr>
        <p:spPr>
          <a:xfrm>
            <a:off x="3134160" y="29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7" name=""/>
          <p:cNvSpPr/>
          <p:nvPr/>
        </p:nvSpPr>
        <p:spPr>
          <a:xfrm>
            <a:off x="190944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8" name=""/>
          <p:cNvSpPr/>
          <p:nvPr/>
        </p:nvSpPr>
        <p:spPr>
          <a:xfrm>
            <a:off x="486072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"/>
          <p:cNvSpPr/>
          <p:nvPr/>
        </p:nvSpPr>
        <p:spPr>
          <a:xfrm>
            <a:off x="5726160" y="90792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"/>
          <p:cNvSpPr/>
          <p:nvPr/>
        </p:nvSpPr>
        <p:spPr>
          <a:xfrm>
            <a:off x="2773440" y="90792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"/>
          <p:cNvSpPr/>
          <p:nvPr/>
        </p:nvSpPr>
        <p:spPr>
          <a:xfrm flipV="1">
            <a:off x="2411280" y="1197000"/>
            <a:ext cx="331308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"/>
          <p:cNvSpPr/>
          <p:nvPr/>
        </p:nvSpPr>
        <p:spPr>
          <a:xfrm>
            <a:off x="2700360" y="1197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"/>
          <p:cNvSpPr/>
          <p:nvPr/>
        </p:nvSpPr>
        <p:spPr>
          <a:xfrm>
            <a:off x="2843280" y="148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"/>
          <p:cNvSpPr/>
          <p:nvPr/>
        </p:nvSpPr>
        <p:spPr>
          <a:xfrm>
            <a:off x="4859280" y="256536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"/>
          <p:cNvSpPr/>
          <p:nvPr/>
        </p:nvSpPr>
        <p:spPr>
          <a:xfrm>
            <a:off x="4932360" y="2781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"/>
          <p:cNvSpPr/>
          <p:nvPr/>
        </p:nvSpPr>
        <p:spPr>
          <a:xfrm>
            <a:off x="3276720" y="119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"/>
          <p:cNvSpPr/>
          <p:nvPr/>
        </p:nvSpPr>
        <p:spPr>
          <a:xfrm flipV="1">
            <a:off x="2627280" y="3141360"/>
            <a:ext cx="3313080" cy="718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"/>
          <p:cNvSpPr/>
          <p:nvPr/>
        </p:nvSpPr>
        <p:spPr>
          <a:xfrm>
            <a:off x="3492360" y="3141720"/>
            <a:ext cx="1584360" cy="718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"/>
          <p:cNvSpPr/>
          <p:nvPr/>
        </p:nvSpPr>
        <p:spPr>
          <a:xfrm>
            <a:off x="2843280" y="1773360"/>
            <a:ext cx="216000" cy="201600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"/>
          <p:cNvSpPr/>
          <p:nvPr/>
        </p:nvSpPr>
        <p:spPr>
          <a:xfrm>
            <a:off x="277164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"/>
          <p:cNvSpPr/>
          <p:nvPr/>
        </p:nvSpPr>
        <p:spPr>
          <a:xfrm>
            <a:off x="3132000" y="69228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"/>
          <p:cNvSpPr/>
          <p:nvPr/>
        </p:nvSpPr>
        <p:spPr>
          <a:xfrm>
            <a:off x="611280" y="5516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P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1" dur="indefinite" restart="never" nodeType="tmRoot">
          <p:childTnLst>
            <p:seq>
              <p:cTn id="3152" dur="indefinite" nodeType="mainSeq">
                <p:childTnLst>
                  <p:par>
                    <p:cTn id="3153" fill="hold">
                      <p:stCondLst>
                        <p:cond delay="indefinite"/>
                      </p:stCondLst>
                      <p:childTnLst>
                        <p:par>
                          <p:cTn id="3154" fill="hold">
                            <p:stCondLst>
                              <p:cond delay="0"/>
                            </p:stCondLst>
                            <p:childTnLst>
                              <p:par>
                                <p:cTn id="3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7" dur="1000"/>
                                        <p:tgtEl>
                                          <p:spTgt spid="40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8" dur="1000" fill="hold"/>
                                        <p:tgtEl>
                                          <p:spTgt spid="4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9" dur="900" fill="hold"/>
                                        <p:tgtEl>
                                          <p:spTgt spid="4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"/>
          <p:cNvSpPr/>
          <p:nvPr/>
        </p:nvSpPr>
        <p:spPr>
          <a:xfrm flipV="1">
            <a:off x="2627280" y="313992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"/>
          <p:cNvSpPr/>
          <p:nvPr/>
        </p:nvSpPr>
        <p:spPr>
          <a:xfrm>
            <a:off x="3490920" y="313992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"/>
          <p:cNvSpPr/>
          <p:nvPr/>
        </p:nvSpPr>
        <p:spPr>
          <a:xfrm flipH="1">
            <a:off x="5074920" y="313992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"/>
          <p:cNvSpPr/>
          <p:nvPr/>
        </p:nvSpPr>
        <p:spPr>
          <a:xfrm flipH="1">
            <a:off x="2627280" y="386064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"/>
          <p:cNvSpPr/>
          <p:nvPr/>
        </p:nvSpPr>
        <p:spPr>
          <a:xfrm flipH="1" flipV="1">
            <a:off x="2411280" y="191592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"/>
          <p:cNvSpPr/>
          <p:nvPr/>
        </p:nvSpPr>
        <p:spPr>
          <a:xfrm flipH="1" flipV="1">
            <a:off x="4859280" y="191592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"/>
          <p:cNvSpPr/>
          <p:nvPr/>
        </p:nvSpPr>
        <p:spPr>
          <a:xfrm flipH="1" flipV="1">
            <a:off x="3274920" y="119520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"/>
          <p:cNvSpPr/>
          <p:nvPr/>
        </p:nvSpPr>
        <p:spPr>
          <a:xfrm flipH="1" flipV="1">
            <a:off x="5722920" y="119520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2" name=""/>
          <p:cNvSpPr/>
          <p:nvPr/>
        </p:nvSpPr>
        <p:spPr>
          <a:xfrm>
            <a:off x="2411280" y="191628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"/>
          <p:cNvSpPr/>
          <p:nvPr/>
        </p:nvSpPr>
        <p:spPr>
          <a:xfrm flipV="1">
            <a:off x="4859280" y="119556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"/>
          <p:cNvSpPr/>
          <p:nvPr/>
        </p:nvSpPr>
        <p:spPr>
          <a:xfrm flipH="1">
            <a:off x="3274920" y="119556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"/>
          <p:cNvSpPr/>
          <p:nvPr/>
        </p:nvSpPr>
        <p:spPr>
          <a:xfrm flipH="1">
            <a:off x="2410920" y="119556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"/>
          <p:cNvSpPr/>
          <p:nvPr/>
        </p:nvSpPr>
        <p:spPr>
          <a:xfrm>
            <a:off x="1187280" y="566100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"/>
          <p:cNvSpPr/>
          <p:nvPr/>
        </p:nvSpPr>
        <p:spPr>
          <a:xfrm>
            <a:off x="234180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8" name=""/>
          <p:cNvSpPr/>
          <p:nvPr/>
        </p:nvSpPr>
        <p:spPr>
          <a:xfrm>
            <a:off x="493416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9" name=""/>
          <p:cNvSpPr/>
          <p:nvPr/>
        </p:nvSpPr>
        <p:spPr>
          <a:xfrm>
            <a:off x="5942160" y="29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0" name=""/>
          <p:cNvSpPr/>
          <p:nvPr/>
        </p:nvSpPr>
        <p:spPr>
          <a:xfrm>
            <a:off x="3134160" y="29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"/>
          <p:cNvSpPr/>
          <p:nvPr/>
        </p:nvSpPr>
        <p:spPr>
          <a:xfrm>
            <a:off x="190944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"/>
          <p:cNvSpPr/>
          <p:nvPr/>
        </p:nvSpPr>
        <p:spPr>
          <a:xfrm>
            <a:off x="486072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3" name=""/>
          <p:cNvSpPr/>
          <p:nvPr/>
        </p:nvSpPr>
        <p:spPr>
          <a:xfrm>
            <a:off x="5726160" y="90792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4" name=""/>
          <p:cNvSpPr/>
          <p:nvPr/>
        </p:nvSpPr>
        <p:spPr>
          <a:xfrm>
            <a:off x="2773440" y="90792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"/>
          <p:cNvSpPr/>
          <p:nvPr/>
        </p:nvSpPr>
        <p:spPr>
          <a:xfrm flipV="1">
            <a:off x="2411280" y="1197000"/>
            <a:ext cx="331308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"/>
          <p:cNvSpPr/>
          <p:nvPr/>
        </p:nvSpPr>
        <p:spPr>
          <a:xfrm>
            <a:off x="2700360" y="1197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"/>
          <p:cNvSpPr/>
          <p:nvPr/>
        </p:nvSpPr>
        <p:spPr>
          <a:xfrm>
            <a:off x="2843280" y="148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"/>
          <p:cNvSpPr/>
          <p:nvPr/>
        </p:nvSpPr>
        <p:spPr>
          <a:xfrm>
            <a:off x="4859280" y="256536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"/>
          <p:cNvSpPr/>
          <p:nvPr/>
        </p:nvSpPr>
        <p:spPr>
          <a:xfrm>
            <a:off x="4932360" y="2781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"/>
          <p:cNvSpPr/>
          <p:nvPr/>
        </p:nvSpPr>
        <p:spPr>
          <a:xfrm>
            <a:off x="3276720" y="119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"/>
          <p:cNvSpPr/>
          <p:nvPr/>
        </p:nvSpPr>
        <p:spPr>
          <a:xfrm flipV="1">
            <a:off x="2627280" y="3141360"/>
            <a:ext cx="3313080" cy="718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"/>
          <p:cNvSpPr/>
          <p:nvPr/>
        </p:nvSpPr>
        <p:spPr>
          <a:xfrm>
            <a:off x="3492360" y="3141720"/>
            <a:ext cx="1584360" cy="718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"/>
          <p:cNvSpPr/>
          <p:nvPr/>
        </p:nvSpPr>
        <p:spPr>
          <a:xfrm>
            <a:off x="2843280" y="1773360"/>
            <a:ext cx="216000" cy="20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"/>
          <p:cNvSpPr/>
          <p:nvPr/>
        </p:nvSpPr>
        <p:spPr>
          <a:xfrm>
            <a:off x="277164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"/>
          <p:cNvSpPr/>
          <p:nvPr/>
        </p:nvSpPr>
        <p:spPr>
          <a:xfrm>
            <a:off x="3059280" y="3789360"/>
            <a:ext cx="2017440" cy="7128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"/>
          <p:cNvSpPr/>
          <p:nvPr/>
        </p:nvSpPr>
        <p:spPr>
          <a:xfrm>
            <a:off x="2843280" y="1773360"/>
            <a:ext cx="2160360" cy="143964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"/>
          <p:cNvSpPr/>
          <p:nvPr/>
        </p:nvSpPr>
        <p:spPr>
          <a:xfrm>
            <a:off x="5003640" y="3213000"/>
            <a:ext cx="1368720" cy="86364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"/>
          <p:cNvSpPr/>
          <p:nvPr/>
        </p:nvSpPr>
        <p:spPr>
          <a:xfrm>
            <a:off x="5076720" y="3860640"/>
            <a:ext cx="2016360" cy="730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"/>
          <p:cNvSpPr/>
          <p:nvPr/>
        </p:nvSpPr>
        <p:spPr>
          <a:xfrm>
            <a:off x="6012000" y="357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"/>
          <p:cNvSpPr/>
          <p:nvPr/>
        </p:nvSpPr>
        <p:spPr>
          <a:xfrm>
            <a:off x="3132000" y="69228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"/>
          <p:cNvSpPr/>
          <p:nvPr/>
        </p:nvSpPr>
        <p:spPr>
          <a:xfrm>
            <a:off x="684360" y="551664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PQ   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"/>
          <p:cNvSpPr/>
          <p:nvPr/>
        </p:nvSpPr>
        <p:spPr>
          <a:xfrm rot="10800000">
            <a:off x="1332000" y="55141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1" dur="indefinite" restart="never" nodeType="tmRoot">
          <p:childTnLst>
            <p:seq>
              <p:cTn id="3162" dur="indefinite" nodeType="mainSeq">
                <p:childTnLst>
                  <p:par>
                    <p:cTn id="3163" fill="hold">
                      <p:stCondLst>
                        <p:cond delay="indefinite"/>
                      </p:stCondLst>
                      <p:childTnLst>
                        <p:par>
                          <p:cTn id="3164" fill="hold">
                            <p:stCondLst>
                              <p:cond delay="0"/>
                            </p:stCondLst>
                            <p:childTnLst>
                              <p:par>
                                <p:cTn id="3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7" dur="1000"/>
                                        <p:tgtEl>
                                          <p:spTgt spid="4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8" dur="1000" fill="hold"/>
                                        <p:tgtEl>
                                          <p:spTgt spid="4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9" dur="900" fill="hold"/>
                                        <p:tgtEl>
                                          <p:spTgt spid="4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1" fill="hold">
                      <p:stCondLst>
                        <p:cond delay="indefinite"/>
                      </p:stCondLst>
                      <p:childTnLst>
                        <p:par>
                          <p:cTn id="3172" fill="hold">
                            <p:stCondLst>
                              <p:cond delay="0"/>
                            </p:stCondLst>
                            <p:childTnLst>
                              <p:par>
                                <p:cTn id="3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5" dur="10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6" dur="1000" fill="hold"/>
                                        <p:tgtEl>
                                          <p:spTgt spid="4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7" dur="900" fill="hold"/>
                                        <p:tgtEl>
                                          <p:spTgt spid="4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9" fill="hold">
                      <p:stCondLst>
                        <p:cond delay="indefinite"/>
                      </p:stCondLst>
                      <p:childTnLst>
                        <p:par>
                          <p:cTn id="3180" fill="hold">
                            <p:stCondLst>
                              <p:cond delay="0"/>
                            </p:stCondLst>
                            <p:childTnLst>
                              <p:par>
                                <p:cTn id="3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3" dur="1000"/>
                                        <p:tgtEl>
                                          <p:spTgt spid="4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4" dur="1000" fill="hold"/>
                                        <p:tgtEl>
                                          <p:spTgt spid="4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5" dur="900" fill="hold"/>
                                        <p:tgtEl>
                                          <p:spTgt spid="4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7" fill="hold">
                      <p:stCondLst>
                        <p:cond delay="indefinite"/>
                      </p:stCondLst>
                      <p:childTnLst>
                        <p:par>
                          <p:cTn id="3188" fill="hold">
                            <p:stCondLst>
                              <p:cond delay="0"/>
                            </p:stCondLst>
                            <p:childTnLst>
                              <p:par>
                                <p:cTn id="3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1" dur="1000"/>
                                        <p:tgtEl>
                                          <p:spTgt spid="4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2" dur="1000" fill="hold"/>
                                        <p:tgtEl>
                                          <p:spTgt spid="4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3" dur="900" fill="hold"/>
                                        <p:tgtEl>
                                          <p:spTgt spid="4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"/>
          <p:cNvSpPr/>
          <p:nvPr/>
        </p:nvSpPr>
        <p:spPr>
          <a:xfrm flipV="1">
            <a:off x="2627280" y="313992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"/>
          <p:cNvSpPr/>
          <p:nvPr/>
        </p:nvSpPr>
        <p:spPr>
          <a:xfrm>
            <a:off x="3490920" y="313992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6" name=""/>
          <p:cNvSpPr/>
          <p:nvPr/>
        </p:nvSpPr>
        <p:spPr>
          <a:xfrm flipH="1">
            <a:off x="5074920" y="313992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"/>
          <p:cNvSpPr/>
          <p:nvPr/>
        </p:nvSpPr>
        <p:spPr>
          <a:xfrm flipH="1">
            <a:off x="2627280" y="386064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"/>
          <p:cNvSpPr/>
          <p:nvPr/>
        </p:nvSpPr>
        <p:spPr>
          <a:xfrm flipH="1" flipV="1">
            <a:off x="2411280" y="191592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"/>
          <p:cNvSpPr/>
          <p:nvPr/>
        </p:nvSpPr>
        <p:spPr>
          <a:xfrm flipH="1" flipV="1">
            <a:off x="4859280" y="191592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"/>
          <p:cNvSpPr/>
          <p:nvPr/>
        </p:nvSpPr>
        <p:spPr>
          <a:xfrm flipH="1" flipV="1">
            <a:off x="3274920" y="119520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"/>
          <p:cNvSpPr/>
          <p:nvPr/>
        </p:nvSpPr>
        <p:spPr>
          <a:xfrm flipH="1" flipV="1">
            <a:off x="5722920" y="119520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"/>
          <p:cNvSpPr/>
          <p:nvPr/>
        </p:nvSpPr>
        <p:spPr>
          <a:xfrm>
            <a:off x="2411280" y="191628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"/>
          <p:cNvSpPr/>
          <p:nvPr/>
        </p:nvSpPr>
        <p:spPr>
          <a:xfrm flipV="1">
            <a:off x="4859280" y="119556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"/>
          <p:cNvSpPr/>
          <p:nvPr/>
        </p:nvSpPr>
        <p:spPr>
          <a:xfrm flipH="1">
            <a:off x="3274920" y="119556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"/>
          <p:cNvSpPr/>
          <p:nvPr/>
        </p:nvSpPr>
        <p:spPr>
          <a:xfrm flipH="1">
            <a:off x="2410920" y="119556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"/>
          <p:cNvSpPr/>
          <p:nvPr/>
        </p:nvSpPr>
        <p:spPr>
          <a:xfrm>
            <a:off x="1187280" y="566100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"/>
          <p:cNvSpPr/>
          <p:nvPr/>
        </p:nvSpPr>
        <p:spPr>
          <a:xfrm>
            <a:off x="234180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"/>
          <p:cNvSpPr/>
          <p:nvPr/>
        </p:nvSpPr>
        <p:spPr>
          <a:xfrm>
            <a:off x="493416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"/>
          <p:cNvSpPr/>
          <p:nvPr/>
        </p:nvSpPr>
        <p:spPr>
          <a:xfrm>
            <a:off x="5942160" y="29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"/>
          <p:cNvSpPr/>
          <p:nvPr/>
        </p:nvSpPr>
        <p:spPr>
          <a:xfrm>
            <a:off x="3134160" y="29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"/>
          <p:cNvSpPr/>
          <p:nvPr/>
        </p:nvSpPr>
        <p:spPr>
          <a:xfrm>
            <a:off x="190944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"/>
          <p:cNvSpPr/>
          <p:nvPr/>
        </p:nvSpPr>
        <p:spPr>
          <a:xfrm>
            <a:off x="486072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"/>
          <p:cNvSpPr/>
          <p:nvPr/>
        </p:nvSpPr>
        <p:spPr>
          <a:xfrm>
            <a:off x="5726160" y="90792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"/>
          <p:cNvSpPr/>
          <p:nvPr/>
        </p:nvSpPr>
        <p:spPr>
          <a:xfrm>
            <a:off x="2773440" y="90792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"/>
          <p:cNvSpPr/>
          <p:nvPr/>
        </p:nvSpPr>
        <p:spPr>
          <a:xfrm flipV="1">
            <a:off x="2411280" y="1197000"/>
            <a:ext cx="331308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"/>
          <p:cNvSpPr/>
          <p:nvPr/>
        </p:nvSpPr>
        <p:spPr>
          <a:xfrm>
            <a:off x="2700360" y="1197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"/>
          <p:cNvSpPr/>
          <p:nvPr/>
        </p:nvSpPr>
        <p:spPr>
          <a:xfrm>
            <a:off x="2843280" y="148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"/>
          <p:cNvSpPr/>
          <p:nvPr/>
        </p:nvSpPr>
        <p:spPr>
          <a:xfrm>
            <a:off x="4859280" y="256536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"/>
          <p:cNvSpPr/>
          <p:nvPr/>
        </p:nvSpPr>
        <p:spPr>
          <a:xfrm>
            <a:off x="4932360" y="2781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"/>
          <p:cNvSpPr/>
          <p:nvPr/>
        </p:nvSpPr>
        <p:spPr>
          <a:xfrm>
            <a:off x="3276720" y="119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"/>
          <p:cNvSpPr/>
          <p:nvPr/>
        </p:nvSpPr>
        <p:spPr>
          <a:xfrm flipV="1">
            <a:off x="2627280" y="3141360"/>
            <a:ext cx="3313080" cy="718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"/>
          <p:cNvSpPr/>
          <p:nvPr/>
        </p:nvSpPr>
        <p:spPr>
          <a:xfrm>
            <a:off x="3492360" y="3141720"/>
            <a:ext cx="1584360" cy="71892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"/>
          <p:cNvSpPr/>
          <p:nvPr/>
        </p:nvSpPr>
        <p:spPr>
          <a:xfrm>
            <a:off x="2843280" y="1773360"/>
            <a:ext cx="288720" cy="20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"/>
          <p:cNvSpPr/>
          <p:nvPr/>
        </p:nvSpPr>
        <p:spPr>
          <a:xfrm>
            <a:off x="277164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"/>
          <p:cNvSpPr/>
          <p:nvPr/>
        </p:nvSpPr>
        <p:spPr>
          <a:xfrm>
            <a:off x="2916360" y="3789360"/>
            <a:ext cx="2160360" cy="7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>
            <a:off x="2843280" y="1773360"/>
            <a:ext cx="2160360" cy="143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"/>
          <p:cNvSpPr/>
          <p:nvPr/>
        </p:nvSpPr>
        <p:spPr>
          <a:xfrm>
            <a:off x="5003640" y="3213000"/>
            <a:ext cx="136872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"/>
          <p:cNvSpPr/>
          <p:nvPr/>
        </p:nvSpPr>
        <p:spPr>
          <a:xfrm>
            <a:off x="5076720" y="3860640"/>
            <a:ext cx="201636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"/>
          <p:cNvSpPr/>
          <p:nvPr/>
        </p:nvSpPr>
        <p:spPr>
          <a:xfrm>
            <a:off x="6012000" y="357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"/>
          <p:cNvSpPr/>
          <p:nvPr/>
        </p:nvSpPr>
        <p:spPr>
          <a:xfrm>
            <a:off x="3276720" y="1268280"/>
            <a:ext cx="1726920" cy="187344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"/>
          <p:cNvSpPr/>
          <p:nvPr/>
        </p:nvSpPr>
        <p:spPr>
          <a:xfrm>
            <a:off x="4932360" y="3068640"/>
            <a:ext cx="1584360" cy="20890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"/>
          <p:cNvSpPr/>
          <p:nvPr/>
        </p:nvSpPr>
        <p:spPr>
          <a:xfrm>
            <a:off x="5076720" y="3860640"/>
            <a:ext cx="2016360" cy="100836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"/>
          <p:cNvSpPr/>
          <p:nvPr/>
        </p:nvSpPr>
        <p:spPr>
          <a:xfrm>
            <a:off x="5867280" y="44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"/>
          <p:cNvSpPr/>
          <p:nvPr/>
        </p:nvSpPr>
        <p:spPr>
          <a:xfrm>
            <a:off x="3132000" y="69228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"/>
          <p:cNvSpPr/>
          <p:nvPr/>
        </p:nvSpPr>
        <p:spPr>
          <a:xfrm>
            <a:off x="611280" y="5516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RQ   DB =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"/>
          <p:cNvSpPr/>
          <p:nvPr/>
        </p:nvSpPr>
        <p:spPr>
          <a:xfrm rot="10800000">
            <a:off x="1332000" y="55141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5" dur="indefinite" restart="never" nodeType="tmRoot">
          <p:childTnLst>
            <p:seq>
              <p:cTn id="3196" dur="indefinite" nodeType="mainSeq">
                <p:childTnLst>
                  <p:par>
                    <p:cTn id="3197" fill="hold">
                      <p:stCondLst>
                        <p:cond delay="indefinite"/>
                      </p:stCondLst>
                      <p:childTnLst>
                        <p:par>
                          <p:cTn id="3198" fill="hold">
                            <p:stCondLst>
                              <p:cond delay="0"/>
                            </p:stCondLst>
                            <p:childTnLst>
                              <p:par>
                                <p:cTn id="3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1" dur="1000"/>
                                        <p:tgtEl>
                                          <p:spTgt spid="4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2" dur="1000" fill="hold"/>
                                        <p:tgtEl>
                                          <p:spTgt spid="4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3" dur="900" fill="hold"/>
                                        <p:tgtEl>
                                          <p:spTgt spid="4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5" fill="hold">
                      <p:stCondLst>
                        <p:cond delay="indefinite"/>
                      </p:stCondLst>
                      <p:childTnLst>
                        <p:par>
                          <p:cTn id="3206" fill="hold">
                            <p:stCondLst>
                              <p:cond delay="0"/>
                            </p:stCondLst>
                            <p:childTnLst>
                              <p:par>
                                <p:cTn id="3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9" dur="1000"/>
                                        <p:tgtEl>
                                          <p:spTgt spid="4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0" dur="1000" fill="hold"/>
                                        <p:tgtEl>
                                          <p:spTgt spid="4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1" dur="900" fill="hold"/>
                                        <p:tgtEl>
                                          <p:spTgt spid="4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3" fill="hold">
                      <p:stCondLst>
                        <p:cond delay="indefinite"/>
                      </p:stCondLst>
                      <p:childTnLst>
                        <p:par>
                          <p:cTn id="3214" fill="hold">
                            <p:stCondLst>
                              <p:cond delay="0"/>
                            </p:stCondLst>
                            <p:childTnLst>
                              <p:par>
                                <p:cTn id="3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7" dur="1000"/>
                                        <p:tgtEl>
                                          <p:spTgt spid="4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8" dur="1000" fill="hold"/>
                                        <p:tgtEl>
                                          <p:spTgt spid="4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9" dur="900" fill="hold"/>
                                        <p:tgtEl>
                                          <p:spTgt spid="4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1" fill="hold">
                      <p:stCondLst>
                        <p:cond delay="indefinite"/>
                      </p:stCondLst>
                      <p:childTnLst>
                        <p:par>
                          <p:cTn id="3222" fill="hold">
                            <p:stCondLst>
                              <p:cond delay="0"/>
                            </p:stCondLst>
                            <p:childTnLst>
                              <p:par>
                                <p:cTn id="3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5" dur="1000"/>
                                        <p:tgtEl>
                                          <p:spTgt spid="4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6" dur="1000" fill="hold"/>
                                        <p:tgtEl>
                                          <p:spTgt spid="4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7" dur="900" fill="hold"/>
                                        <p:tgtEl>
                                          <p:spTgt spid="4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омбинированный метод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7777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ущность этого метода состоит в том, что на некоторых этапах построения сечения применяется или метод следов, или метод внутреннего проецирования, а на других этапах построения этого сечения осуществляется с использованием теорем о параллельности в пространстве и други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8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9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8" name=""/>
          <p:cNvSpPr/>
          <p:nvPr/>
        </p:nvSpPr>
        <p:spPr>
          <a:xfrm flipV="1">
            <a:off x="2627280" y="313992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"/>
          <p:cNvSpPr/>
          <p:nvPr/>
        </p:nvSpPr>
        <p:spPr>
          <a:xfrm>
            <a:off x="3490920" y="313992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"/>
          <p:cNvSpPr/>
          <p:nvPr/>
        </p:nvSpPr>
        <p:spPr>
          <a:xfrm flipH="1">
            <a:off x="5074920" y="313992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"/>
          <p:cNvSpPr/>
          <p:nvPr/>
        </p:nvSpPr>
        <p:spPr>
          <a:xfrm flipH="1">
            <a:off x="2627280" y="386064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"/>
          <p:cNvSpPr/>
          <p:nvPr/>
        </p:nvSpPr>
        <p:spPr>
          <a:xfrm flipH="1" flipV="1">
            <a:off x="2411280" y="191592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"/>
          <p:cNvSpPr/>
          <p:nvPr/>
        </p:nvSpPr>
        <p:spPr>
          <a:xfrm flipH="1" flipV="1">
            <a:off x="4859280" y="191592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"/>
          <p:cNvSpPr/>
          <p:nvPr/>
        </p:nvSpPr>
        <p:spPr>
          <a:xfrm flipH="1" flipV="1">
            <a:off x="3274920" y="119520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"/>
          <p:cNvSpPr/>
          <p:nvPr/>
        </p:nvSpPr>
        <p:spPr>
          <a:xfrm flipH="1" flipV="1">
            <a:off x="5722920" y="119520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"/>
          <p:cNvSpPr/>
          <p:nvPr/>
        </p:nvSpPr>
        <p:spPr>
          <a:xfrm>
            <a:off x="2411280" y="191628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"/>
          <p:cNvSpPr/>
          <p:nvPr/>
        </p:nvSpPr>
        <p:spPr>
          <a:xfrm flipV="1">
            <a:off x="4859280" y="119556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"/>
          <p:cNvSpPr/>
          <p:nvPr/>
        </p:nvSpPr>
        <p:spPr>
          <a:xfrm flipH="1">
            <a:off x="3274920" y="119556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"/>
          <p:cNvSpPr/>
          <p:nvPr/>
        </p:nvSpPr>
        <p:spPr>
          <a:xfrm flipH="1">
            <a:off x="2410920" y="119556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"/>
          <p:cNvSpPr/>
          <p:nvPr/>
        </p:nvSpPr>
        <p:spPr>
          <a:xfrm>
            <a:off x="1187280" y="566100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"/>
          <p:cNvSpPr/>
          <p:nvPr/>
        </p:nvSpPr>
        <p:spPr>
          <a:xfrm>
            <a:off x="234180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"/>
          <p:cNvSpPr/>
          <p:nvPr/>
        </p:nvSpPr>
        <p:spPr>
          <a:xfrm>
            <a:off x="493416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"/>
          <p:cNvSpPr/>
          <p:nvPr/>
        </p:nvSpPr>
        <p:spPr>
          <a:xfrm>
            <a:off x="5942160" y="29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"/>
          <p:cNvSpPr/>
          <p:nvPr/>
        </p:nvSpPr>
        <p:spPr>
          <a:xfrm>
            <a:off x="3134160" y="29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"/>
          <p:cNvSpPr/>
          <p:nvPr/>
        </p:nvSpPr>
        <p:spPr>
          <a:xfrm>
            <a:off x="190944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"/>
          <p:cNvSpPr/>
          <p:nvPr/>
        </p:nvSpPr>
        <p:spPr>
          <a:xfrm>
            <a:off x="486072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"/>
          <p:cNvSpPr/>
          <p:nvPr/>
        </p:nvSpPr>
        <p:spPr>
          <a:xfrm>
            <a:off x="5726160" y="90792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8" name=""/>
          <p:cNvSpPr/>
          <p:nvPr/>
        </p:nvSpPr>
        <p:spPr>
          <a:xfrm>
            <a:off x="2773440" y="90792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"/>
          <p:cNvSpPr/>
          <p:nvPr/>
        </p:nvSpPr>
        <p:spPr>
          <a:xfrm flipV="1">
            <a:off x="2411280" y="1197000"/>
            <a:ext cx="331308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"/>
          <p:cNvSpPr/>
          <p:nvPr/>
        </p:nvSpPr>
        <p:spPr>
          <a:xfrm>
            <a:off x="2700360" y="1197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"/>
          <p:cNvSpPr/>
          <p:nvPr/>
        </p:nvSpPr>
        <p:spPr>
          <a:xfrm>
            <a:off x="2843280" y="148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"/>
          <p:cNvSpPr/>
          <p:nvPr/>
        </p:nvSpPr>
        <p:spPr>
          <a:xfrm>
            <a:off x="4859280" y="256536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"/>
          <p:cNvSpPr/>
          <p:nvPr/>
        </p:nvSpPr>
        <p:spPr>
          <a:xfrm>
            <a:off x="4932360" y="2781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"/>
          <p:cNvSpPr/>
          <p:nvPr/>
        </p:nvSpPr>
        <p:spPr>
          <a:xfrm>
            <a:off x="3276720" y="119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"/>
          <p:cNvSpPr/>
          <p:nvPr/>
        </p:nvSpPr>
        <p:spPr>
          <a:xfrm flipV="1">
            <a:off x="2627280" y="3141360"/>
            <a:ext cx="3313080" cy="718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"/>
          <p:cNvSpPr/>
          <p:nvPr/>
        </p:nvSpPr>
        <p:spPr>
          <a:xfrm>
            <a:off x="3492360" y="3141720"/>
            <a:ext cx="1584360" cy="718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"/>
          <p:cNvSpPr/>
          <p:nvPr/>
        </p:nvSpPr>
        <p:spPr>
          <a:xfrm>
            <a:off x="2843280" y="1773360"/>
            <a:ext cx="288720" cy="20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"/>
          <p:cNvSpPr/>
          <p:nvPr/>
        </p:nvSpPr>
        <p:spPr>
          <a:xfrm>
            <a:off x="277164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"/>
          <p:cNvSpPr/>
          <p:nvPr/>
        </p:nvSpPr>
        <p:spPr>
          <a:xfrm>
            <a:off x="2916360" y="3789360"/>
            <a:ext cx="2160360" cy="7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"/>
          <p:cNvSpPr/>
          <p:nvPr/>
        </p:nvSpPr>
        <p:spPr>
          <a:xfrm>
            <a:off x="2843280" y="1773360"/>
            <a:ext cx="2160360" cy="143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"/>
          <p:cNvSpPr/>
          <p:nvPr/>
        </p:nvSpPr>
        <p:spPr>
          <a:xfrm>
            <a:off x="5003640" y="3213000"/>
            <a:ext cx="136872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"/>
          <p:cNvSpPr/>
          <p:nvPr/>
        </p:nvSpPr>
        <p:spPr>
          <a:xfrm>
            <a:off x="5076720" y="3860640"/>
            <a:ext cx="201636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"/>
          <p:cNvSpPr/>
          <p:nvPr/>
        </p:nvSpPr>
        <p:spPr>
          <a:xfrm>
            <a:off x="673272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"/>
          <p:cNvSpPr/>
          <p:nvPr/>
        </p:nvSpPr>
        <p:spPr>
          <a:xfrm>
            <a:off x="3276720" y="1268280"/>
            <a:ext cx="1726920" cy="1873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"/>
          <p:cNvSpPr/>
          <p:nvPr/>
        </p:nvSpPr>
        <p:spPr>
          <a:xfrm>
            <a:off x="4932360" y="3068640"/>
            <a:ext cx="1584360" cy="20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"/>
          <p:cNvSpPr/>
          <p:nvPr/>
        </p:nvSpPr>
        <p:spPr>
          <a:xfrm>
            <a:off x="5076720" y="3860640"/>
            <a:ext cx="201636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"/>
          <p:cNvSpPr/>
          <p:nvPr/>
        </p:nvSpPr>
        <p:spPr>
          <a:xfrm>
            <a:off x="5651640" y="465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"/>
          <p:cNvSpPr/>
          <p:nvPr/>
        </p:nvSpPr>
        <p:spPr>
          <a:xfrm>
            <a:off x="3132000" y="69228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"/>
          <p:cNvSpPr/>
          <p:nvPr/>
        </p:nvSpPr>
        <p:spPr>
          <a:xfrm flipH="1">
            <a:off x="4500720" y="3213000"/>
            <a:ext cx="2087280" cy="280836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"/>
          <p:cNvSpPr/>
          <p:nvPr/>
        </p:nvSpPr>
        <p:spPr>
          <a:xfrm>
            <a:off x="6659640" y="2997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"/>
          <p:cNvSpPr/>
          <p:nvPr/>
        </p:nvSpPr>
        <p:spPr>
          <a:xfrm>
            <a:off x="684360" y="5516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9" dur="indefinite" restart="never" nodeType="tmRoot">
          <p:childTnLst>
            <p:seq>
              <p:cTn id="3230" dur="indefinite" nodeType="mainSeq">
                <p:childTnLst>
                  <p:par>
                    <p:cTn id="3231" fill="hold">
                      <p:stCondLst>
                        <p:cond delay="indefinite"/>
                      </p:stCondLst>
                      <p:childTnLst>
                        <p:par>
                          <p:cTn id="3232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5" dur="1000"/>
                                        <p:tgtEl>
                                          <p:spTgt spid="4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6" dur="1000" fill="hold"/>
                                        <p:tgtEl>
                                          <p:spTgt spid="4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900" fill="hold"/>
                                        <p:tgtEl>
                                          <p:spTgt spid="4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3" name=""/>
          <p:cNvSpPr/>
          <p:nvPr/>
        </p:nvSpPr>
        <p:spPr>
          <a:xfrm flipV="1">
            <a:off x="2627280" y="313992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"/>
          <p:cNvSpPr/>
          <p:nvPr/>
        </p:nvSpPr>
        <p:spPr>
          <a:xfrm>
            <a:off x="3490920" y="313992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"/>
          <p:cNvSpPr/>
          <p:nvPr/>
        </p:nvSpPr>
        <p:spPr>
          <a:xfrm flipH="1">
            <a:off x="5074920" y="313992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"/>
          <p:cNvSpPr/>
          <p:nvPr/>
        </p:nvSpPr>
        <p:spPr>
          <a:xfrm flipH="1">
            <a:off x="2627280" y="386064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"/>
          <p:cNvSpPr/>
          <p:nvPr/>
        </p:nvSpPr>
        <p:spPr>
          <a:xfrm flipH="1" flipV="1">
            <a:off x="2411280" y="191592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"/>
          <p:cNvSpPr/>
          <p:nvPr/>
        </p:nvSpPr>
        <p:spPr>
          <a:xfrm flipH="1" flipV="1">
            <a:off x="4859280" y="191592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"/>
          <p:cNvSpPr/>
          <p:nvPr/>
        </p:nvSpPr>
        <p:spPr>
          <a:xfrm flipH="1" flipV="1">
            <a:off x="3274920" y="119520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"/>
          <p:cNvSpPr/>
          <p:nvPr/>
        </p:nvSpPr>
        <p:spPr>
          <a:xfrm flipH="1" flipV="1">
            <a:off x="5722920" y="119520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"/>
          <p:cNvSpPr/>
          <p:nvPr/>
        </p:nvSpPr>
        <p:spPr>
          <a:xfrm>
            <a:off x="2411280" y="191628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"/>
          <p:cNvSpPr/>
          <p:nvPr/>
        </p:nvSpPr>
        <p:spPr>
          <a:xfrm flipV="1">
            <a:off x="4859280" y="119556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"/>
          <p:cNvSpPr/>
          <p:nvPr/>
        </p:nvSpPr>
        <p:spPr>
          <a:xfrm flipH="1">
            <a:off x="3274920" y="119556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"/>
          <p:cNvSpPr/>
          <p:nvPr/>
        </p:nvSpPr>
        <p:spPr>
          <a:xfrm flipH="1">
            <a:off x="2410920" y="119556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"/>
          <p:cNvSpPr/>
          <p:nvPr/>
        </p:nvSpPr>
        <p:spPr>
          <a:xfrm>
            <a:off x="1187280" y="566100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"/>
          <p:cNvSpPr/>
          <p:nvPr/>
        </p:nvSpPr>
        <p:spPr>
          <a:xfrm>
            <a:off x="234180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"/>
          <p:cNvSpPr/>
          <p:nvPr/>
        </p:nvSpPr>
        <p:spPr>
          <a:xfrm>
            <a:off x="493416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"/>
          <p:cNvSpPr/>
          <p:nvPr/>
        </p:nvSpPr>
        <p:spPr>
          <a:xfrm>
            <a:off x="5942160" y="29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"/>
          <p:cNvSpPr/>
          <p:nvPr/>
        </p:nvSpPr>
        <p:spPr>
          <a:xfrm>
            <a:off x="3134160" y="29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"/>
          <p:cNvSpPr/>
          <p:nvPr/>
        </p:nvSpPr>
        <p:spPr>
          <a:xfrm>
            <a:off x="190944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"/>
          <p:cNvSpPr/>
          <p:nvPr/>
        </p:nvSpPr>
        <p:spPr>
          <a:xfrm>
            <a:off x="486072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"/>
          <p:cNvSpPr/>
          <p:nvPr/>
        </p:nvSpPr>
        <p:spPr>
          <a:xfrm>
            <a:off x="5726160" y="90792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"/>
          <p:cNvSpPr/>
          <p:nvPr/>
        </p:nvSpPr>
        <p:spPr>
          <a:xfrm>
            <a:off x="2773440" y="90792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"/>
          <p:cNvSpPr/>
          <p:nvPr/>
        </p:nvSpPr>
        <p:spPr>
          <a:xfrm flipV="1">
            <a:off x="2411280" y="1197000"/>
            <a:ext cx="331308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"/>
          <p:cNvSpPr/>
          <p:nvPr/>
        </p:nvSpPr>
        <p:spPr>
          <a:xfrm>
            <a:off x="2700360" y="1197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"/>
          <p:cNvSpPr/>
          <p:nvPr/>
        </p:nvSpPr>
        <p:spPr>
          <a:xfrm>
            <a:off x="2843280" y="148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"/>
          <p:cNvSpPr/>
          <p:nvPr/>
        </p:nvSpPr>
        <p:spPr>
          <a:xfrm>
            <a:off x="4859280" y="256536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"/>
          <p:cNvSpPr/>
          <p:nvPr/>
        </p:nvSpPr>
        <p:spPr>
          <a:xfrm>
            <a:off x="4932360" y="2781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"/>
          <p:cNvSpPr/>
          <p:nvPr/>
        </p:nvSpPr>
        <p:spPr>
          <a:xfrm>
            <a:off x="3276720" y="119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"/>
          <p:cNvSpPr/>
          <p:nvPr/>
        </p:nvSpPr>
        <p:spPr>
          <a:xfrm flipV="1">
            <a:off x="2627280" y="3141360"/>
            <a:ext cx="3313080" cy="718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"/>
          <p:cNvSpPr/>
          <p:nvPr/>
        </p:nvSpPr>
        <p:spPr>
          <a:xfrm>
            <a:off x="3492360" y="3141720"/>
            <a:ext cx="1584360" cy="718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"/>
          <p:cNvSpPr/>
          <p:nvPr/>
        </p:nvSpPr>
        <p:spPr>
          <a:xfrm>
            <a:off x="2843280" y="1773360"/>
            <a:ext cx="288720" cy="20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"/>
          <p:cNvSpPr/>
          <p:nvPr/>
        </p:nvSpPr>
        <p:spPr>
          <a:xfrm>
            <a:off x="277164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"/>
          <p:cNvSpPr/>
          <p:nvPr/>
        </p:nvSpPr>
        <p:spPr>
          <a:xfrm>
            <a:off x="2916360" y="3789360"/>
            <a:ext cx="2160360" cy="7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"/>
          <p:cNvSpPr/>
          <p:nvPr/>
        </p:nvSpPr>
        <p:spPr>
          <a:xfrm>
            <a:off x="2843280" y="1773360"/>
            <a:ext cx="2160360" cy="143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"/>
          <p:cNvSpPr/>
          <p:nvPr/>
        </p:nvSpPr>
        <p:spPr>
          <a:xfrm>
            <a:off x="5003640" y="3213000"/>
            <a:ext cx="136872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"/>
          <p:cNvSpPr/>
          <p:nvPr/>
        </p:nvSpPr>
        <p:spPr>
          <a:xfrm>
            <a:off x="5076720" y="3860640"/>
            <a:ext cx="201636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"/>
          <p:cNvSpPr/>
          <p:nvPr/>
        </p:nvSpPr>
        <p:spPr>
          <a:xfrm>
            <a:off x="673272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"/>
          <p:cNvSpPr/>
          <p:nvPr/>
        </p:nvSpPr>
        <p:spPr>
          <a:xfrm>
            <a:off x="3276720" y="1268280"/>
            <a:ext cx="1726920" cy="1873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"/>
          <p:cNvSpPr/>
          <p:nvPr/>
        </p:nvSpPr>
        <p:spPr>
          <a:xfrm>
            <a:off x="4932360" y="3068640"/>
            <a:ext cx="1584360" cy="20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"/>
          <p:cNvSpPr/>
          <p:nvPr/>
        </p:nvSpPr>
        <p:spPr>
          <a:xfrm>
            <a:off x="5076720" y="3860640"/>
            <a:ext cx="201636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"/>
          <p:cNvSpPr/>
          <p:nvPr/>
        </p:nvSpPr>
        <p:spPr>
          <a:xfrm>
            <a:off x="5651640" y="465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"/>
          <p:cNvSpPr/>
          <p:nvPr/>
        </p:nvSpPr>
        <p:spPr>
          <a:xfrm>
            <a:off x="3132000" y="69228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"/>
          <p:cNvSpPr/>
          <p:nvPr/>
        </p:nvSpPr>
        <p:spPr>
          <a:xfrm flipH="1">
            <a:off x="4500720" y="3213000"/>
            <a:ext cx="208728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"/>
          <p:cNvSpPr/>
          <p:nvPr/>
        </p:nvSpPr>
        <p:spPr>
          <a:xfrm>
            <a:off x="6659640" y="2997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"/>
          <p:cNvSpPr/>
          <p:nvPr/>
        </p:nvSpPr>
        <p:spPr>
          <a:xfrm>
            <a:off x="2627280" y="119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"/>
          <p:cNvSpPr/>
          <p:nvPr/>
        </p:nvSpPr>
        <p:spPr>
          <a:xfrm>
            <a:off x="2700360" y="90792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"/>
          <p:cNvSpPr/>
          <p:nvPr/>
        </p:nvSpPr>
        <p:spPr>
          <a:xfrm flipV="1">
            <a:off x="2916360" y="1341000"/>
            <a:ext cx="360360" cy="14292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"/>
          <p:cNvSpPr/>
          <p:nvPr/>
        </p:nvSpPr>
        <p:spPr>
          <a:xfrm>
            <a:off x="539640" y="551664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R II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"/>
          <p:cNvSpPr/>
          <p:nvPr/>
        </p:nvSpPr>
        <p:spPr>
          <a:xfrm rot="10800000">
            <a:off x="1692360" y="55141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9" dur="indefinite" restart="never" nodeType="tmRoot">
          <p:childTnLst>
            <p:seq>
              <p:cTn id="3240" dur="indefinite" nodeType="mainSeq">
                <p:childTnLst>
                  <p:par>
                    <p:cTn id="3241" fill="hold">
                      <p:stCondLst>
                        <p:cond delay="indefinite"/>
                      </p:stCondLst>
                      <p:childTnLst>
                        <p:par>
                          <p:cTn id="3242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5" dur="1000"/>
                                        <p:tgtEl>
                                          <p:spTgt spid="4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6" dur="1000" fill="hold"/>
                                        <p:tgtEl>
                                          <p:spTgt spid="4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7" dur="900" fill="hold"/>
                                        <p:tgtEl>
                                          <p:spTgt spid="4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2" name=""/>
          <p:cNvSpPr/>
          <p:nvPr/>
        </p:nvSpPr>
        <p:spPr>
          <a:xfrm flipV="1">
            <a:off x="2627280" y="313992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"/>
          <p:cNvSpPr/>
          <p:nvPr/>
        </p:nvSpPr>
        <p:spPr>
          <a:xfrm>
            <a:off x="3490920" y="313992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"/>
          <p:cNvSpPr/>
          <p:nvPr/>
        </p:nvSpPr>
        <p:spPr>
          <a:xfrm flipH="1">
            <a:off x="5074920" y="313992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"/>
          <p:cNvSpPr/>
          <p:nvPr/>
        </p:nvSpPr>
        <p:spPr>
          <a:xfrm flipH="1">
            <a:off x="2627280" y="386064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"/>
          <p:cNvSpPr/>
          <p:nvPr/>
        </p:nvSpPr>
        <p:spPr>
          <a:xfrm flipH="1" flipV="1">
            <a:off x="2411280" y="191592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"/>
          <p:cNvSpPr/>
          <p:nvPr/>
        </p:nvSpPr>
        <p:spPr>
          <a:xfrm flipH="1" flipV="1">
            <a:off x="4859280" y="191592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"/>
          <p:cNvSpPr/>
          <p:nvPr/>
        </p:nvSpPr>
        <p:spPr>
          <a:xfrm flipH="1" flipV="1">
            <a:off x="3274920" y="119520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"/>
          <p:cNvSpPr/>
          <p:nvPr/>
        </p:nvSpPr>
        <p:spPr>
          <a:xfrm flipH="1" flipV="1">
            <a:off x="5722920" y="119520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0" name=""/>
          <p:cNvSpPr/>
          <p:nvPr/>
        </p:nvSpPr>
        <p:spPr>
          <a:xfrm>
            <a:off x="2411280" y="191628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"/>
          <p:cNvSpPr/>
          <p:nvPr/>
        </p:nvSpPr>
        <p:spPr>
          <a:xfrm flipV="1">
            <a:off x="4859280" y="119556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"/>
          <p:cNvSpPr/>
          <p:nvPr/>
        </p:nvSpPr>
        <p:spPr>
          <a:xfrm flipH="1">
            <a:off x="3274920" y="119556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"/>
          <p:cNvSpPr/>
          <p:nvPr/>
        </p:nvSpPr>
        <p:spPr>
          <a:xfrm flipH="1">
            <a:off x="2410920" y="119556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"/>
          <p:cNvSpPr/>
          <p:nvPr/>
        </p:nvSpPr>
        <p:spPr>
          <a:xfrm>
            <a:off x="1187280" y="566100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5" name=""/>
          <p:cNvSpPr/>
          <p:nvPr/>
        </p:nvSpPr>
        <p:spPr>
          <a:xfrm>
            <a:off x="234180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"/>
          <p:cNvSpPr/>
          <p:nvPr/>
        </p:nvSpPr>
        <p:spPr>
          <a:xfrm>
            <a:off x="493416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"/>
          <p:cNvSpPr/>
          <p:nvPr/>
        </p:nvSpPr>
        <p:spPr>
          <a:xfrm>
            <a:off x="5942160" y="29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"/>
          <p:cNvSpPr/>
          <p:nvPr/>
        </p:nvSpPr>
        <p:spPr>
          <a:xfrm>
            <a:off x="3134160" y="29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"/>
          <p:cNvSpPr/>
          <p:nvPr/>
        </p:nvSpPr>
        <p:spPr>
          <a:xfrm>
            <a:off x="190944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"/>
          <p:cNvSpPr/>
          <p:nvPr/>
        </p:nvSpPr>
        <p:spPr>
          <a:xfrm>
            <a:off x="486072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"/>
          <p:cNvSpPr/>
          <p:nvPr/>
        </p:nvSpPr>
        <p:spPr>
          <a:xfrm>
            <a:off x="5726160" y="90792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"/>
          <p:cNvSpPr/>
          <p:nvPr/>
        </p:nvSpPr>
        <p:spPr>
          <a:xfrm>
            <a:off x="2773440" y="90792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"/>
          <p:cNvSpPr/>
          <p:nvPr/>
        </p:nvSpPr>
        <p:spPr>
          <a:xfrm flipV="1">
            <a:off x="2411280" y="1197000"/>
            <a:ext cx="331308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"/>
          <p:cNvSpPr/>
          <p:nvPr/>
        </p:nvSpPr>
        <p:spPr>
          <a:xfrm>
            <a:off x="2700360" y="1197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"/>
          <p:cNvSpPr/>
          <p:nvPr/>
        </p:nvSpPr>
        <p:spPr>
          <a:xfrm>
            <a:off x="2843280" y="148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"/>
          <p:cNvSpPr/>
          <p:nvPr/>
        </p:nvSpPr>
        <p:spPr>
          <a:xfrm>
            <a:off x="4859280" y="256536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"/>
          <p:cNvSpPr/>
          <p:nvPr/>
        </p:nvSpPr>
        <p:spPr>
          <a:xfrm>
            <a:off x="4932360" y="2781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"/>
          <p:cNvSpPr/>
          <p:nvPr/>
        </p:nvSpPr>
        <p:spPr>
          <a:xfrm>
            <a:off x="3276720" y="119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"/>
          <p:cNvSpPr/>
          <p:nvPr/>
        </p:nvSpPr>
        <p:spPr>
          <a:xfrm flipV="1">
            <a:off x="2627280" y="3141360"/>
            <a:ext cx="3313080" cy="718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"/>
          <p:cNvSpPr/>
          <p:nvPr/>
        </p:nvSpPr>
        <p:spPr>
          <a:xfrm>
            <a:off x="3492360" y="3141720"/>
            <a:ext cx="1584360" cy="718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>
            <a:off x="2843280" y="1773360"/>
            <a:ext cx="288720" cy="20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>
            <a:off x="277164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>
            <a:off x="2916360" y="3789360"/>
            <a:ext cx="2160360" cy="7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"/>
          <p:cNvSpPr/>
          <p:nvPr/>
        </p:nvSpPr>
        <p:spPr>
          <a:xfrm>
            <a:off x="2843280" y="1773360"/>
            <a:ext cx="2160360" cy="143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"/>
          <p:cNvSpPr/>
          <p:nvPr/>
        </p:nvSpPr>
        <p:spPr>
          <a:xfrm>
            <a:off x="5003640" y="3213000"/>
            <a:ext cx="136872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"/>
          <p:cNvSpPr/>
          <p:nvPr/>
        </p:nvSpPr>
        <p:spPr>
          <a:xfrm>
            <a:off x="5076720" y="3860640"/>
            <a:ext cx="201636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"/>
          <p:cNvSpPr/>
          <p:nvPr/>
        </p:nvSpPr>
        <p:spPr>
          <a:xfrm>
            <a:off x="673272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"/>
          <p:cNvSpPr/>
          <p:nvPr/>
        </p:nvSpPr>
        <p:spPr>
          <a:xfrm>
            <a:off x="3276720" y="1268280"/>
            <a:ext cx="1726920" cy="1873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"/>
          <p:cNvSpPr/>
          <p:nvPr/>
        </p:nvSpPr>
        <p:spPr>
          <a:xfrm>
            <a:off x="4932360" y="3068640"/>
            <a:ext cx="1584360" cy="20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"/>
          <p:cNvSpPr/>
          <p:nvPr/>
        </p:nvSpPr>
        <p:spPr>
          <a:xfrm>
            <a:off x="5076720" y="3860640"/>
            <a:ext cx="201636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"/>
          <p:cNvSpPr/>
          <p:nvPr/>
        </p:nvSpPr>
        <p:spPr>
          <a:xfrm>
            <a:off x="5651640" y="465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"/>
          <p:cNvSpPr/>
          <p:nvPr/>
        </p:nvSpPr>
        <p:spPr>
          <a:xfrm>
            <a:off x="3132000" y="69228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"/>
          <p:cNvSpPr/>
          <p:nvPr/>
        </p:nvSpPr>
        <p:spPr>
          <a:xfrm flipH="1">
            <a:off x="4500720" y="3213000"/>
            <a:ext cx="208728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"/>
          <p:cNvSpPr/>
          <p:nvPr/>
        </p:nvSpPr>
        <p:spPr>
          <a:xfrm>
            <a:off x="6659640" y="2997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"/>
          <p:cNvSpPr/>
          <p:nvPr/>
        </p:nvSpPr>
        <p:spPr>
          <a:xfrm>
            <a:off x="2627280" y="119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"/>
          <p:cNvSpPr/>
          <p:nvPr/>
        </p:nvSpPr>
        <p:spPr>
          <a:xfrm>
            <a:off x="2700360" y="90792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"/>
          <p:cNvSpPr/>
          <p:nvPr/>
        </p:nvSpPr>
        <p:spPr>
          <a:xfrm flipV="1">
            <a:off x="2916360" y="1341000"/>
            <a:ext cx="360360" cy="1429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"/>
          <p:cNvSpPr/>
          <p:nvPr/>
        </p:nvSpPr>
        <p:spPr>
          <a:xfrm>
            <a:off x="284328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"/>
          <p:cNvSpPr/>
          <p:nvPr/>
        </p:nvSpPr>
        <p:spPr>
          <a:xfrm>
            <a:off x="5867280" y="263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0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"/>
          <p:cNvSpPr/>
          <p:nvPr/>
        </p:nvSpPr>
        <p:spPr>
          <a:xfrm>
            <a:off x="611280" y="5516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Q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"/>
          <p:cNvSpPr/>
          <p:nvPr/>
        </p:nvSpPr>
        <p:spPr>
          <a:xfrm flipV="1">
            <a:off x="5003640" y="2924280"/>
            <a:ext cx="936720" cy="28872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3" name=""/>
          <p:cNvSpPr/>
          <p:nvPr/>
        </p:nvSpPr>
        <p:spPr>
          <a:xfrm flipV="1">
            <a:off x="2627280" y="313992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"/>
          <p:cNvSpPr/>
          <p:nvPr/>
        </p:nvSpPr>
        <p:spPr>
          <a:xfrm>
            <a:off x="3490920" y="313992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"/>
          <p:cNvSpPr/>
          <p:nvPr/>
        </p:nvSpPr>
        <p:spPr>
          <a:xfrm flipH="1">
            <a:off x="5074920" y="313992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"/>
          <p:cNvSpPr/>
          <p:nvPr/>
        </p:nvSpPr>
        <p:spPr>
          <a:xfrm flipH="1">
            <a:off x="2627280" y="386064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"/>
          <p:cNvSpPr/>
          <p:nvPr/>
        </p:nvSpPr>
        <p:spPr>
          <a:xfrm flipH="1" flipV="1">
            <a:off x="2411280" y="191592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"/>
          <p:cNvSpPr/>
          <p:nvPr/>
        </p:nvSpPr>
        <p:spPr>
          <a:xfrm flipH="1" flipV="1">
            <a:off x="4859280" y="191592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"/>
          <p:cNvSpPr/>
          <p:nvPr/>
        </p:nvSpPr>
        <p:spPr>
          <a:xfrm flipH="1" flipV="1">
            <a:off x="3274920" y="119520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"/>
          <p:cNvSpPr/>
          <p:nvPr/>
        </p:nvSpPr>
        <p:spPr>
          <a:xfrm flipH="1" flipV="1">
            <a:off x="5722920" y="119520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"/>
          <p:cNvSpPr/>
          <p:nvPr/>
        </p:nvSpPr>
        <p:spPr>
          <a:xfrm>
            <a:off x="2411280" y="191628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"/>
          <p:cNvSpPr/>
          <p:nvPr/>
        </p:nvSpPr>
        <p:spPr>
          <a:xfrm flipV="1">
            <a:off x="4859280" y="119556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"/>
          <p:cNvSpPr/>
          <p:nvPr/>
        </p:nvSpPr>
        <p:spPr>
          <a:xfrm flipH="1">
            <a:off x="3274920" y="119556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"/>
          <p:cNvSpPr/>
          <p:nvPr/>
        </p:nvSpPr>
        <p:spPr>
          <a:xfrm flipH="1">
            <a:off x="2410920" y="119556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"/>
          <p:cNvSpPr/>
          <p:nvPr/>
        </p:nvSpPr>
        <p:spPr>
          <a:xfrm>
            <a:off x="1187280" y="566100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"/>
          <p:cNvSpPr/>
          <p:nvPr/>
        </p:nvSpPr>
        <p:spPr>
          <a:xfrm>
            <a:off x="234180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"/>
          <p:cNvSpPr/>
          <p:nvPr/>
        </p:nvSpPr>
        <p:spPr>
          <a:xfrm>
            <a:off x="493416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8" name=""/>
          <p:cNvSpPr/>
          <p:nvPr/>
        </p:nvSpPr>
        <p:spPr>
          <a:xfrm>
            <a:off x="5942160" y="29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9" name=""/>
          <p:cNvSpPr/>
          <p:nvPr/>
        </p:nvSpPr>
        <p:spPr>
          <a:xfrm>
            <a:off x="3134160" y="29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"/>
          <p:cNvSpPr/>
          <p:nvPr/>
        </p:nvSpPr>
        <p:spPr>
          <a:xfrm>
            <a:off x="190944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1" name=""/>
          <p:cNvSpPr/>
          <p:nvPr/>
        </p:nvSpPr>
        <p:spPr>
          <a:xfrm>
            <a:off x="486072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2" name=""/>
          <p:cNvSpPr/>
          <p:nvPr/>
        </p:nvSpPr>
        <p:spPr>
          <a:xfrm>
            <a:off x="5726160" y="90792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"/>
          <p:cNvSpPr/>
          <p:nvPr/>
        </p:nvSpPr>
        <p:spPr>
          <a:xfrm>
            <a:off x="2773440" y="90792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"/>
          <p:cNvSpPr/>
          <p:nvPr/>
        </p:nvSpPr>
        <p:spPr>
          <a:xfrm flipV="1">
            <a:off x="2411280" y="1197000"/>
            <a:ext cx="331308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5" name=""/>
          <p:cNvSpPr/>
          <p:nvPr/>
        </p:nvSpPr>
        <p:spPr>
          <a:xfrm>
            <a:off x="2700360" y="1197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6" name=""/>
          <p:cNvSpPr/>
          <p:nvPr/>
        </p:nvSpPr>
        <p:spPr>
          <a:xfrm>
            <a:off x="2843280" y="148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7" name=""/>
          <p:cNvSpPr/>
          <p:nvPr/>
        </p:nvSpPr>
        <p:spPr>
          <a:xfrm>
            <a:off x="4859280" y="256536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"/>
          <p:cNvSpPr/>
          <p:nvPr/>
        </p:nvSpPr>
        <p:spPr>
          <a:xfrm>
            <a:off x="4932360" y="2781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"/>
          <p:cNvSpPr/>
          <p:nvPr/>
        </p:nvSpPr>
        <p:spPr>
          <a:xfrm>
            <a:off x="3276720" y="119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"/>
          <p:cNvSpPr/>
          <p:nvPr/>
        </p:nvSpPr>
        <p:spPr>
          <a:xfrm flipV="1">
            <a:off x="2627280" y="3141360"/>
            <a:ext cx="3313080" cy="718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"/>
          <p:cNvSpPr/>
          <p:nvPr/>
        </p:nvSpPr>
        <p:spPr>
          <a:xfrm>
            <a:off x="3492360" y="3141720"/>
            <a:ext cx="1584360" cy="718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"/>
          <p:cNvSpPr/>
          <p:nvPr/>
        </p:nvSpPr>
        <p:spPr>
          <a:xfrm>
            <a:off x="2843280" y="1773360"/>
            <a:ext cx="288720" cy="20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"/>
          <p:cNvSpPr/>
          <p:nvPr/>
        </p:nvSpPr>
        <p:spPr>
          <a:xfrm>
            <a:off x="277164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4" name=""/>
          <p:cNvSpPr/>
          <p:nvPr/>
        </p:nvSpPr>
        <p:spPr>
          <a:xfrm>
            <a:off x="2916360" y="3789360"/>
            <a:ext cx="2160360" cy="7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"/>
          <p:cNvSpPr/>
          <p:nvPr/>
        </p:nvSpPr>
        <p:spPr>
          <a:xfrm>
            <a:off x="2843280" y="1773360"/>
            <a:ext cx="2160360" cy="143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"/>
          <p:cNvSpPr/>
          <p:nvPr/>
        </p:nvSpPr>
        <p:spPr>
          <a:xfrm>
            <a:off x="5003640" y="3213000"/>
            <a:ext cx="136872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"/>
          <p:cNvSpPr/>
          <p:nvPr/>
        </p:nvSpPr>
        <p:spPr>
          <a:xfrm>
            <a:off x="5076720" y="3860640"/>
            <a:ext cx="201636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"/>
          <p:cNvSpPr/>
          <p:nvPr/>
        </p:nvSpPr>
        <p:spPr>
          <a:xfrm>
            <a:off x="673272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"/>
          <p:cNvSpPr/>
          <p:nvPr/>
        </p:nvSpPr>
        <p:spPr>
          <a:xfrm>
            <a:off x="3276720" y="1268280"/>
            <a:ext cx="1726920" cy="1873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"/>
          <p:cNvSpPr/>
          <p:nvPr/>
        </p:nvSpPr>
        <p:spPr>
          <a:xfrm>
            <a:off x="4932360" y="3068640"/>
            <a:ext cx="1584360" cy="20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"/>
          <p:cNvSpPr/>
          <p:nvPr/>
        </p:nvSpPr>
        <p:spPr>
          <a:xfrm>
            <a:off x="5076720" y="3860640"/>
            <a:ext cx="201636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"/>
          <p:cNvSpPr/>
          <p:nvPr/>
        </p:nvSpPr>
        <p:spPr>
          <a:xfrm>
            <a:off x="5651640" y="465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"/>
          <p:cNvSpPr/>
          <p:nvPr/>
        </p:nvSpPr>
        <p:spPr>
          <a:xfrm>
            <a:off x="3132000" y="69228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4" name=""/>
          <p:cNvSpPr/>
          <p:nvPr/>
        </p:nvSpPr>
        <p:spPr>
          <a:xfrm flipH="1">
            <a:off x="4500720" y="3213000"/>
            <a:ext cx="208728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5" name=""/>
          <p:cNvSpPr/>
          <p:nvPr/>
        </p:nvSpPr>
        <p:spPr>
          <a:xfrm>
            <a:off x="6659640" y="2997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6" name=""/>
          <p:cNvSpPr/>
          <p:nvPr/>
        </p:nvSpPr>
        <p:spPr>
          <a:xfrm>
            <a:off x="2627280" y="119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7" name=""/>
          <p:cNvSpPr/>
          <p:nvPr/>
        </p:nvSpPr>
        <p:spPr>
          <a:xfrm>
            <a:off x="2700360" y="90792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"/>
          <p:cNvSpPr/>
          <p:nvPr/>
        </p:nvSpPr>
        <p:spPr>
          <a:xfrm flipV="1">
            <a:off x="2916360" y="1341000"/>
            <a:ext cx="360360" cy="1429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"/>
          <p:cNvSpPr/>
          <p:nvPr/>
        </p:nvSpPr>
        <p:spPr>
          <a:xfrm>
            <a:off x="284328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"/>
          <p:cNvSpPr/>
          <p:nvPr/>
        </p:nvSpPr>
        <p:spPr>
          <a:xfrm>
            <a:off x="2916360" y="1916280"/>
            <a:ext cx="2087280" cy="129672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"/>
          <p:cNvSpPr/>
          <p:nvPr/>
        </p:nvSpPr>
        <p:spPr>
          <a:xfrm>
            <a:off x="3348000" y="1341360"/>
            <a:ext cx="2592360" cy="161136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"/>
          <p:cNvSpPr/>
          <p:nvPr/>
        </p:nvSpPr>
        <p:spPr>
          <a:xfrm flipV="1">
            <a:off x="5003640" y="2924280"/>
            <a:ext cx="936720" cy="28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"/>
          <p:cNvSpPr/>
          <p:nvPr/>
        </p:nvSpPr>
        <p:spPr>
          <a:xfrm>
            <a:off x="5867280" y="263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"/>
          <p:cNvSpPr/>
          <p:nvPr/>
        </p:nvSpPr>
        <p:spPr>
          <a:xfrm>
            <a:off x="611280" y="5516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M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l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6" name=""/>
          <p:cNvSpPr/>
          <p:nvPr/>
        </p:nvSpPr>
        <p:spPr>
          <a:xfrm flipV="1">
            <a:off x="2627280" y="313992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"/>
          <p:cNvSpPr/>
          <p:nvPr/>
        </p:nvSpPr>
        <p:spPr>
          <a:xfrm>
            <a:off x="3490920" y="313992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"/>
          <p:cNvSpPr/>
          <p:nvPr/>
        </p:nvSpPr>
        <p:spPr>
          <a:xfrm flipH="1">
            <a:off x="5074920" y="313992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"/>
          <p:cNvSpPr/>
          <p:nvPr/>
        </p:nvSpPr>
        <p:spPr>
          <a:xfrm flipH="1">
            <a:off x="2627280" y="386064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"/>
          <p:cNvSpPr/>
          <p:nvPr/>
        </p:nvSpPr>
        <p:spPr>
          <a:xfrm flipH="1" flipV="1">
            <a:off x="2411280" y="191592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"/>
          <p:cNvSpPr/>
          <p:nvPr/>
        </p:nvSpPr>
        <p:spPr>
          <a:xfrm flipH="1" flipV="1">
            <a:off x="4859280" y="191592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"/>
          <p:cNvSpPr/>
          <p:nvPr/>
        </p:nvSpPr>
        <p:spPr>
          <a:xfrm flipH="1" flipV="1">
            <a:off x="3274920" y="119520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"/>
          <p:cNvSpPr/>
          <p:nvPr/>
        </p:nvSpPr>
        <p:spPr>
          <a:xfrm flipH="1" flipV="1">
            <a:off x="5722920" y="1195200"/>
            <a:ext cx="216000" cy="19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4" name=""/>
          <p:cNvSpPr/>
          <p:nvPr/>
        </p:nvSpPr>
        <p:spPr>
          <a:xfrm>
            <a:off x="2411280" y="191628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"/>
          <p:cNvSpPr/>
          <p:nvPr/>
        </p:nvSpPr>
        <p:spPr>
          <a:xfrm flipV="1">
            <a:off x="4859280" y="119556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6" name=""/>
          <p:cNvSpPr/>
          <p:nvPr/>
        </p:nvSpPr>
        <p:spPr>
          <a:xfrm flipH="1">
            <a:off x="3274920" y="119556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"/>
          <p:cNvSpPr/>
          <p:nvPr/>
        </p:nvSpPr>
        <p:spPr>
          <a:xfrm flipH="1">
            <a:off x="2410920" y="1195560"/>
            <a:ext cx="863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"/>
          <p:cNvSpPr/>
          <p:nvPr/>
        </p:nvSpPr>
        <p:spPr>
          <a:xfrm>
            <a:off x="1187280" y="566100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9" name=""/>
          <p:cNvSpPr/>
          <p:nvPr/>
        </p:nvSpPr>
        <p:spPr>
          <a:xfrm>
            <a:off x="234180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0" name=""/>
          <p:cNvSpPr/>
          <p:nvPr/>
        </p:nvSpPr>
        <p:spPr>
          <a:xfrm>
            <a:off x="493416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"/>
          <p:cNvSpPr/>
          <p:nvPr/>
        </p:nvSpPr>
        <p:spPr>
          <a:xfrm>
            <a:off x="5942160" y="29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2" name=""/>
          <p:cNvSpPr/>
          <p:nvPr/>
        </p:nvSpPr>
        <p:spPr>
          <a:xfrm>
            <a:off x="3134160" y="29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"/>
          <p:cNvSpPr/>
          <p:nvPr/>
        </p:nvSpPr>
        <p:spPr>
          <a:xfrm>
            <a:off x="190944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4" name=""/>
          <p:cNvSpPr/>
          <p:nvPr/>
        </p:nvSpPr>
        <p:spPr>
          <a:xfrm>
            <a:off x="486072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5" name=""/>
          <p:cNvSpPr/>
          <p:nvPr/>
        </p:nvSpPr>
        <p:spPr>
          <a:xfrm>
            <a:off x="5726160" y="90792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"/>
          <p:cNvSpPr/>
          <p:nvPr/>
        </p:nvSpPr>
        <p:spPr>
          <a:xfrm>
            <a:off x="2773440" y="90792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"/>
          <p:cNvSpPr/>
          <p:nvPr/>
        </p:nvSpPr>
        <p:spPr>
          <a:xfrm flipV="1">
            <a:off x="2411280" y="1197000"/>
            <a:ext cx="331308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"/>
          <p:cNvSpPr/>
          <p:nvPr/>
        </p:nvSpPr>
        <p:spPr>
          <a:xfrm>
            <a:off x="2700360" y="1197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"/>
          <p:cNvSpPr/>
          <p:nvPr/>
        </p:nvSpPr>
        <p:spPr>
          <a:xfrm>
            <a:off x="2843280" y="148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"/>
          <p:cNvSpPr/>
          <p:nvPr/>
        </p:nvSpPr>
        <p:spPr>
          <a:xfrm>
            <a:off x="4859280" y="256536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"/>
          <p:cNvSpPr/>
          <p:nvPr/>
        </p:nvSpPr>
        <p:spPr>
          <a:xfrm>
            <a:off x="4932360" y="2781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"/>
          <p:cNvSpPr/>
          <p:nvPr/>
        </p:nvSpPr>
        <p:spPr>
          <a:xfrm>
            <a:off x="3276720" y="119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"/>
          <p:cNvSpPr/>
          <p:nvPr/>
        </p:nvSpPr>
        <p:spPr>
          <a:xfrm flipV="1">
            <a:off x="2627280" y="3141360"/>
            <a:ext cx="3313080" cy="718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"/>
          <p:cNvSpPr/>
          <p:nvPr/>
        </p:nvSpPr>
        <p:spPr>
          <a:xfrm>
            <a:off x="3492360" y="3141720"/>
            <a:ext cx="1584360" cy="718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"/>
          <p:cNvSpPr/>
          <p:nvPr/>
        </p:nvSpPr>
        <p:spPr>
          <a:xfrm>
            <a:off x="2843280" y="1773360"/>
            <a:ext cx="288720" cy="20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"/>
          <p:cNvSpPr/>
          <p:nvPr/>
        </p:nvSpPr>
        <p:spPr>
          <a:xfrm>
            <a:off x="277164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"/>
          <p:cNvSpPr/>
          <p:nvPr/>
        </p:nvSpPr>
        <p:spPr>
          <a:xfrm>
            <a:off x="2916360" y="3789360"/>
            <a:ext cx="2160360" cy="7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"/>
          <p:cNvSpPr/>
          <p:nvPr/>
        </p:nvSpPr>
        <p:spPr>
          <a:xfrm>
            <a:off x="2843280" y="1773360"/>
            <a:ext cx="2160360" cy="143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"/>
          <p:cNvSpPr/>
          <p:nvPr/>
        </p:nvSpPr>
        <p:spPr>
          <a:xfrm>
            <a:off x="5003640" y="3213000"/>
            <a:ext cx="136872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"/>
          <p:cNvSpPr/>
          <p:nvPr/>
        </p:nvSpPr>
        <p:spPr>
          <a:xfrm>
            <a:off x="5076720" y="3860640"/>
            <a:ext cx="201636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"/>
          <p:cNvSpPr/>
          <p:nvPr/>
        </p:nvSpPr>
        <p:spPr>
          <a:xfrm>
            <a:off x="673272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"/>
          <p:cNvSpPr/>
          <p:nvPr/>
        </p:nvSpPr>
        <p:spPr>
          <a:xfrm>
            <a:off x="3276720" y="1268280"/>
            <a:ext cx="1726920" cy="1873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"/>
          <p:cNvSpPr/>
          <p:nvPr/>
        </p:nvSpPr>
        <p:spPr>
          <a:xfrm>
            <a:off x="4932360" y="3068640"/>
            <a:ext cx="1584360" cy="20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"/>
          <p:cNvSpPr/>
          <p:nvPr/>
        </p:nvSpPr>
        <p:spPr>
          <a:xfrm>
            <a:off x="5076720" y="3860640"/>
            <a:ext cx="201636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"/>
          <p:cNvSpPr/>
          <p:nvPr/>
        </p:nvSpPr>
        <p:spPr>
          <a:xfrm>
            <a:off x="5651640" y="465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"/>
          <p:cNvSpPr/>
          <p:nvPr/>
        </p:nvSpPr>
        <p:spPr>
          <a:xfrm>
            <a:off x="3132000" y="69228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"/>
          <p:cNvSpPr/>
          <p:nvPr/>
        </p:nvSpPr>
        <p:spPr>
          <a:xfrm flipH="1">
            <a:off x="4500720" y="3213000"/>
            <a:ext cx="208728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"/>
          <p:cNvSpPr/>
          <p:nvPr/>
        </p:nvSpPr>
        <p:spPr>
          <a:xfrm>
            <a:off x="6659640" y="2997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"/>
          <p:cNvSpPr/>
          <p:nvPr/>
        </p:nvSpPr>
        <p:spPr>
          <a:xfrm>
            <a:off x="2627280" y="119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"/>
          <p:cNvSpPr/>
          <p:nvPr/>
        </p:nvSpPr>
        <p:spPr>
          <a:xfrm>
            <a:off x="2700360" y="90792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"/>
          <p:cNvSpPr/>
          <p:nvPr/>
        </p:nvSpPr>
        <p:spPr>
          <a:xfrm flipV="1">
            <a:off x="2916360" y="1341000"/>
            <a:ext cx="360360" cy="1429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"/>
          <p:cNvSpPr/>
          <p:nvPr/>
        </p:nvSpPr>
        <p:spPr>
          <a:xfrm>
            <a:off x="284328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3" name=""/>
          <p:cNvSpPr/>
          <p:nvPr/>
        </p:nvSpPr>
        <p:spPr>
          <a:xfrm>
            <a:off x="2843280" y="1484280"/>
            <a:ext cx="73080" cy="432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"/>
          <p:cNvSpPr/>
          <p:nvPr/>
        </p:nvSpPr>
        <p:spPr>
          <a:xfrm>
            <a:off x="2916360" y="1916280"/>
            <a:ext cx="2087280" cy="1296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"/>
          <p:cNvSpPr/>
          <p:nvPr/>
        </p:nvSpPr>
        <p:spPr>
          <a:xfrm>
            <a:off x="3348000" y="1341360"/>
            <a:ext cx="2592360" cy="161136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"/>
          <p:cNvSpPr/>
          <p:nvPr/>
        </p:nvSpPr>
        <p:spPr>
          <a:xfrm>
            <a:off x="5867280" y="263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"/>
          <p:cNvSpPr/>
          <p:nvPr/>
        </p:nvSpPr>
        <p:spPr>
          <a:xfrm flipV="1">
            <a:off x="5003640" y="2924280"/>
            <a:ext cx="936720" cy="288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"/>
          <p:cNvSpPr/>
          <p:nvPr/>
        </p:nvSpPr>
        <p:spPr>
          <a:xfrm>
            <a:off x="2843280" y="1484280"/>
            <a:ext cx="1008000" cy="1008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"/>
          <p:cNvSpPr/>
          <p:nvPr/>
        </p:nvSpPr>
        <p:spPr>
          <a:xfrm>
            <a:off x="3059280" y="1413000"/>
            <a:ext cx="1441440" cy="144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"/>
          <p:cNvSpPr/>
          <p:nvPr/>
        </p:nvSpPr>
        <p:spPr>
          <a:xfrm>
            <a:off x="3348000" y="1341360"/>
            <a:ext cx="1800360" cy="1800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"/>
          <p:cNvSpPr/>
          <p:nvPr/>
        </p:nvSpPr>
        <p:spPr>
          <a:xfrm>
            <a:off x="4140360" y="1844640"/>
            <a:ext cx="792000" cy="792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"/>
          <p:cNvSpPr/>
          <p:nvPr/>
        </p:nvSpPr>
        <p:spPr>
          <a:xfrm>
            <a:off x="4932360" y="2637000"/>
            <a:ext cx="431640" cy="431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"/>
          <p:cNvSpPr/>
          <p:nvPr/>
        </p:nvSpPr>
        <p:spPr>
          <a:xfrm>
            <a:off x="4859280" y="2276640"/>
            <a:ext cx="720720" cy="720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"/>
          <p:cNvSpPr/>
          <p:nvPr/>
        </p:nvSpPr>
        <p:spPr>
          <a:xfrm>
            <a:off x="611280" y="551664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)ERFQM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ходное с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547640" y="3068640"/>
            <a:ext cx="2592720" cy="28814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63600" y="30812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1544760" y="5314680"/>
            <a:ext cx="618840" cy="63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2163600" y="5308560"/>
            <a:ext cx="1959120" cy="4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811600" y="329724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714680" y="4648320"/>
            <a:ext cx="5364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58896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187280" y="3500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092320" y="50259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24000" y="27813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035600" y="50259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035600" y="27939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16320" y="58896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19640" y="364500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830680" y="3306600"/>
            <a:ext cx="0" cy="201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751040" y="4710240"/>
            <a:ext cx="648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03680" y="528624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738440" y="570708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95280" y="6308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587600" y="43783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1600" y="32972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523960" y="30351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946760" y="52927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716360" y="5300640"/>
            <a:ext cx="39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2163600" y="2533320"/>
            <a:ext cx="0" cy="275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258920" y="551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619280" y="292428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484360" y="2708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763640" y="2492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879720" y="54975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844640" y="59151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017880" y="56754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16240" y="4508640"/>
            <a:ext cx="3672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52520" y="62085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011400" y="5622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63640" y="548784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127240" y="26845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35280" y="602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832200" y="54705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067280" y="429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790720" y="49500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900000" y="333360"/>
            <a:ext cx="727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троение сечения комбинированным мет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95280" y="765000"/>
            <a:ext cx="2736720" cy="14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ан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параллелепипед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CD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точки: М – на гран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на гран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 – на грани ВВ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. Построить сечение, проходящее через данные точ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059280" y="692280"/>
            <a:ext cx="583380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тро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). Спроецируем т.Р и т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на плоскос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Получим точк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). Соединим т. Р и т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Получим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N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). Соединим т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 т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Получим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). Продолжим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N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Получим, что они пересекаются в т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5).Соединим т.Х и т.М. Получим, что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M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ересекаются в т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 ХМ пересекает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 т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6). Продолжим ВС и ХМ. Получим, что они пересекаются в т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643280" y="2565360"/>
            <a:ext cx="4322880" cy="33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7).  Соединим т.Р и 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Y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Получим, что 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ересекает СС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 т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т.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8). Продолжим ВВ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 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Получим, что они пересекаются в т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9). Продолжим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Y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Получим, что они пересекаются в т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0). Соединим т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 т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Получим, что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Z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ересекается с А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 т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Z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ересекается с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т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Шестиугольник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UTSRQ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искомое сечение данного параллелограм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333000" y="3314880"/>
            <a:ext cx="2505240" cy="31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174240" y="5305320"/>
            <a:ext cx="2654280" cy="1047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74680" y="5202000"/>
            <a:ext cx="5197320" cy="106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157480" y="5315040"/>
            <a:ext cx="3085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2004840" y="2557080"/>
            <a:ext cx="3051360" cy="2816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1547640" y="3213000"/>
            <a:ext cx="503280" cy="244800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1979640" y="3067200"/>
            <a:ext cx="573120" cy="21744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535120" y="3060720"/>
            <a:ext cx="1594080" cy="146376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3925800" y="4505400"/>
            <a:ext cx="216000" cy="100800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547640" y="5734080"/>
            <a:ext cx="319320" cy="20952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849320" y="5501880"/>
            <a:ext cx="2084400" cy="43020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186920" y="5300640"/>
            <a:ext cx="100836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1476360" y="2133360"/>
            <a:ext cx="792000" cy="38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494000" y="5680080"/>
            <a:ext cx="5364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996920" y="323064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22360" y="59673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116000" y="580536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8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8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8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8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9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9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5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0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7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9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9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9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900" fill="hold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0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7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4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9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6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1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5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9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5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2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7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4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9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9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9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9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8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5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5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0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7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2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7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9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3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8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55436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Times New Roman"/>
              </a:rPr>
              <a:t>Виды сечений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331640" y="1916280"/>
            <a:ext cx="34606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лоские фигур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rot="10800000">
            <a:off x="1186920" y="2997360"/>
            <a:ext cx="1441800" cy="720720"/>
          </a:xfrm>
          <a:custGeom>
            <a:avLst/>
            <a:gdLst>
              <a:gd name="textAreaLeft" fmla="*/ 316800 w 1441800"/>
              <a:gd name="textAreaRight" fmla="*/ 1125000 w 1441800"/>
              <a:gd name="textAreaTop" fmla="*/ 158400 h 720720"/>
              <a:gd name="textAreaBottom" fmla="*/ 562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403280" y="3933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рап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32000" y="3860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ямо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187280" y="4581360"/>
            <a:ext cx="1440000" cy="1081080"/>
          </a:xfrm>
          <a:prstGeom prst="triangle">
            <a:avLst>
              <a:gd name="adj" fmla="val 50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258920" y="57340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ре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067280" y="4508640"/>
            <a:ext cx="1368360" cy="1152360"/>
          </a:xfrm>
          <a:prstGeom prst="hexagon">
            <a:avLst>
              <a:gd name="adj" fmla="val 29686"/>
              <a:gd name="vf" fmla="val 11547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780000" y="5805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шести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084720" y="357336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435640" y="386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348000" y="2924280"/>
            <a:ext cx="1728720" cy="93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04000" y="4437000"/>
            <a:ext cx="1079640" cy="1224000"/>
          </a:xfrm>
          <a:prstGeom prst="parallelogram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56360" y="580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7308720" y="3068280"/>
            <a:ext cx="936720" cy="576360"/>
          </a:xfrm>
          <a:prstGeom prst="line">
            <a:avLst/>
          </a:prstGeom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224920" y="3024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270920" y="360504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308720" y="386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рез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7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2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9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9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6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9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9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9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8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8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8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8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2808360" y="2062080"/>
            <a:ext cx="201600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4824360" y="3428640"/>
            <a:ext cx="64764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56000" y="1414440"/>
            <a:ext cx="0" cy="20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2808360" y="3430440"/>
            <a:ext cx="647640" cy="64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456000" y="3430440"/>
            <a:ext cx="1979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209080" y="3933720"/>
            <a:ext cx="9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411280" y="39337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05928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292720" y="32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643280" y="3933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340000" y="19162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987640" y="112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716360" y="191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364000" y="112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64000" y="17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78800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4328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871640" y="299880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5472000" y="1414440"/>
            <a:ext cx="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56000" y="141444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2808360" y="1414080"/>
            <a:ext cx="64764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4824360" y="1414080"/>
            <a:ext cx="64764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032360" y="141300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5720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ечение - пряма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 flipV="1">
            <a:off x="4572000" y="836640"/>
            <a:ext cx="223200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72000" y="836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572000" y="4437000"/>
            <a:ext cx="223200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804000" y="2276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572000" y="1413000"/>
            <a:ext cx="0" cy="2663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57200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156360" y="4650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2808360" y="2062080"/>
            <a:ext cx="201600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4824360" y="3428640"/>
            <a:ext cx="64764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456000" y="1414440"/>
            <a:ext cx="0" cy="20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2808360" y="3430440"/>
            <a:ext cx="647640" cy="64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456000" y="3430440"/>
            <a:ext cx="1979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209080" y="3933720"/>
            <a:ext cx="9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411280" y="39337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05928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292720" y="32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643280" y="3933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0000" y="19162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987640" y="112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716360" y="191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364000" y="112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364000" y="17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78800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84328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871640" y="299880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5472000" y="1414440"/>
            <a:ext cx="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456000" y="141444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808360" y="1414080"/>
            <a:ext cx="64764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4824360" y="1414080"/>
            <a:ext cx="64764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032360" y="141300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5720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ечение - точка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4716360" y="765000"/>
            <a:ext cx="223200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716360" y="765000"/>
            <a:ext cx="14292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508720" y="2205000"/>
            <a:ext cx="223200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48360" y="2205000"/>
            <a:ext cx="792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59280" y="1413000"/>
            <a:ext cx="649440" cy="79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727320" y="263628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"/>
          <p:cNvGrpSpPr/>
          <p:nvPr/>
        </p:nvGrpSpPr>
        <p:grpSpPr>
          <a:xfrm>
            <a:off x="2870280" y="1946160"/>
            <a:ext cx="3790440" cy="4304520"/>
            <a:chOff x="2870280" y="1946160"/>
            <a:chExt cx="3790440" cy="4304520"/>
          </a:xfrm>
        </p:grpSpPr>
        <p:sp>
          <p:nvSpPr>
            <p:cNvPr id="616" name=""/>
            <p:cNvSpPr/>
            <p:nvPr/>
          </p:nvSpPr>
          <p:spPr>
            <a:xfrm>
              <a:off x="2921400" y="2683800"/>
              <a:ext cx="3564360" cy="356688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811680" y="2698200"/>
              <a:ext cx="0" cy="26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3831840" y="5344560"/>
              <a:ext cx="264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2921400" y="5356080"/>
              <a:ext cx="889920" cy="89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03040" y="2683800"/>
              <a:ext cx="1794960" cy="89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17440" y="5344560"/>
              <a:ext cx="1798200" cy="89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227760" y="4505040"/>
              <a:ext cx="128520" cy="127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34280" y="2631240"/>
              <a:ext cx="128880" cy="127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520960" y="3508560"/>
              <a:ext cx="128520" cy="127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576320" y="5684400"/>
              <a:ext cx="131760" cy="127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870280" y="4313520"/>
              <a:ext cx="101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88920" y="5425920"/>
              <a:ext cx="127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064320" y="1946160"/>
              <a:ext cx="127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32320" y="3290400"/>
              <a:ext cx="132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5438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Если четыре точки не лежат в одной плоскости, тогда сечение провести нельзя.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71600" y="1699920"/>
            <a:ext cx="7448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66"/>
                </a:solidFill>
                <a:latin typeface="Times New Roman"/>
              </a:rPr>
              <a:t>Построения сечений </a:t>
            </a:r>
            <a:br>
              <a:rPr sz="4200"/>
            </a:br>
            <a:r>
              <a:rPr b="1" lang="en-US" sz="4200" spc="-1" strike="noStrike">
                <a:solidFill>
                  <a:srgbClr val="330066"/>
                </a:solidFill>
                <a:latin typeface="Times New Roman"/>
              </a:rPr>
              <a:t>при наличии данных точек. </a:t>
            </a:r>
            <a:br>
              <a:rPr sz="4200"/>
            </a:br>
            <a:r>
              <a:rPr b="1" lang="en-US" sz="4200" spc="-1" strike="noStrike">
                <a:solidFill>
                  <a:srgbClr val="330066"/>
                </a:solidFill>
                <a:latin typeface="Times New Roman"/>
              </a:rPr>
              <a:t>Виды сечений</a:t>
            </a:r>
            <a:endParaRPr b="1" lang="en-US" sz="4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684360" y="333360"/>
            <a:ext cx="8208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ечения шестиугольной призмы плоскостью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1619280" y="386064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3203640" y="407664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619280" y="407664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419640" y="386064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411280" y="38606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195640" y="429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195640" y="4292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411280" y="386064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19640" y="386064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203640" y="4292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619280" y="5373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3203640" y="5589360"/>
            <a:ext cx="792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419640" y="537372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619280" y="5589720"/>
            <a:ext cx="576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411280" y="537372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195640" y="58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995640" y="407664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619280" y="407664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5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9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Цель работ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4470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Исследование сечений пространственных фигур и анализ получаемых результат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446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Times New Roman"/>
              </a:rPr>
              <a:t>Решение задачи №1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788000" y="1844640"/>
            <a:ext cx="38145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Построение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). Соединим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и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(т.к. они лежат в одной плоскости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FF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 Получился отрезок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Q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2). Соединим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и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 (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т.к. они лежат в одной плоскости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E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 Получился отрезок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QR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3). Соединим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и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Треугольник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QR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– искомое сечение данной призм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042920" y="386064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2627280" y="407664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42920" y="407664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843280" y="386064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835280" y="386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619280" y="429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619280" y="4292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835280" y="386064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843280" y="386064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627280" y="4292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1042920" y="537372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2627280" y="5589360"/>
            <a:ext cx="792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843280" y="537372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042920" y="5589720"/>
            <a:ext cx="576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35280" y="5373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619280" y="58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419640" y="407664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042920" y="407664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58800" y="3914640"/>
            <a:ext cx="530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630440" y="350028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568600" y="3511440"/>
            <a:ext cx="528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348000" y="386064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314440" y="398772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522440" y="3987720"/>
            <a:ext cx="549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30080" y="542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547640" y="508464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890800" y="506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348000" y="537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484360" y="573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403280" y="573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893960" y="57625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603520" y="51595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179880" y="562608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6" name=""/>
          <p:cNvCxnSpPr/>
          <p:nvPr/>
        </p:nvCxnSpPr>
        <p:spPr>
          <a:xfrm flipV="1">
            <a:off x="1907640" y="5152320"/>
            <a:ext cx="732600" cy="654840"/>
          </a:xfrm>
          <a:prstGeom prst="straightConnector1">
            <a:avLst/>
          </a:prstGeom>
          <a:ln w="22320">
            <a:solidFill>
              <a:srgbClr val="000000"/>
            </a:solidFill>
            <a:miter/>
          </a:ln>
        </p:spPr>
      </p:cxnSp>
      <p:cxnSp>
        <p:nvCxnSpPr>
          <p:cNvPr id="687" name=""/>
          <p:cNvCxnSpPr/>
          <p:nvPr/>
        </p:nvCxnSpPr>
        <p:spPr>
          <a:xfrm flipV="1">
            <a:off x="1930320" y="5653800"/>
            <a:ext cx="1286640" cy="143640"/>
          </a:xfrm>
          <a:prstGeom prst="straightConnector1">
            <a:avLst/>
          </a:prstGeom>
          <a:ln w="22320">
            <a:solidFill>
              <a:srgbClr val="000000"/>
            </a:solidFill>
            <a:miter/>
          </a:ln>
        </p:spPr>
      </p:cxnSp>
      <p:sp>
        <p:nvSpPr>
          <p:cNvPr id="688" name=""/>
          <p:cNvSpPr/>
          <p:nvPr/>
        </p:nvSpPr>
        <p:spPr>
          <a:xfrm>
            <a:off x="2627280" y="5151600"/>
            <a:ext cx="600120" cy="50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11280" y="2276640"/>
            <a:ext cx="37414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точк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, R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лежащие на ребрах призм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, E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оответств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792440" y="5759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266920" y="47721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097080" y="562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2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2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7" dur="10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9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7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9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2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7" dur="1000"/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900" fill="hold"/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7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2" dur="1000"/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900" fill="hold"/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499104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Решение задачи №2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170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стро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). Отрезок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лежит в искомой плоскости, т.к.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по условию лежат в этой плоскост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2). Соединим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(т.к. они лежат в одной плоскости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). Получим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3). Отрезок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также лежит в искомой плоскости (т.к. эта плоскость проходит через прямую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, параллельную плоскости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4). Соединим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и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(т.к. они лежат в одной плоскости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BCDEF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Прямоугольник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– искомое сечение данной призм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55640" y="2276640"/>
            <a:ext cx="316872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точк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,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шины призм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1114560" y="3933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2698920" y="4149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114560" y="414972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914560" y="393372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906560" y="3933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690560" y="436572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690560" y="436572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906560" y="393372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914560" y="393372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698920" y="436572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1114560" y="5446440"/>
            <a:ext cx="792000" cy="21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698920" y="566244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914560" y="5446800"/>
            <a:ext cx="576360" cy="21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114560" y="566244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906560" y="54468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690560" y="58784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114560" y="414972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55640" y="400536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690560" y="357336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627280" y="35733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419640" y="3933720"/>
            <a:ext cx="502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340000" y="436572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547640" y="4005360"/>
            <a:ext cx="57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26920" y="5518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619280" y="5157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627280" y="51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19640" y="5446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482920" y="580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474920" y="58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690560" y="4365720"/>
            <a:ext cx="0" cy="1512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449520" y="414324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679400" y="435924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41600" y="56307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690560" y="4149720"/>
            <a:ext cx="1800360" cy="21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649520" y="58467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1701720" y="5667480"/>
            <a:ext cx="1787760" cy="20304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490920" y="414972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490920" y="4149720"/>
            <a:ext cx="0" cy="1512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4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4" dur="5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9" dur="100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9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9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4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9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4" dur="1000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9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4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9" dur="1000"/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900" fill="hold"/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9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4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9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1000"/>
                                        <p:tgtEl>
                                          <p:spTgt spid="6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6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900" fill="hold"/>
                                        <p:tgtEl>
                                          <p:spTgt spid="6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4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9" dur="1000"/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900" fill="hold"/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51016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Решение задачи №3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319280" y="1844640"/>
            <a:ext cx="421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Построение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)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Соединим т.Е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и т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Р (т.к. они лежат в одной плоскости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 Получим отрезок Е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Р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 Отрезок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лежит в искомой плоскости, т.к.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по условию лежат в этой плоскост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). Построим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QP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параллельно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т.к. эти отрезки лежат в параллельных плоскостях, которые являются основаниями призмы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). Соединим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(т.к. они лежат в одной плоскости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)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Получим отрезок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Трапеция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QF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скомое сечение данной приз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1116000" y="357336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2700360" y="378936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116000" y="378936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916360" y="357336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908000" y="3573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692360" y="400536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908000" y="357336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916360" y="357336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700360" y="400536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1116000" y="5086080"/>
            <a:ext cx="792000" cy="21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2700360" y="530064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916360" y="508464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116000" y="530208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908000" y="50864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692360" y="55180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492360" y="378936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116000" y="378936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755640" y="357192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692360" y="321300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771640" y="32130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419640" y="35733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484360" y="364500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547640" y="3645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26920" y="50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619280" y="47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627280" y="479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419640" y="508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627280" y="5445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476360" y="5445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332000" y="53467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203640" y="5372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116000" y="537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332000" y="5372280"/>
            <a:ext cx="194472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213000" y="53262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687760" y="4005360"/>
            <a:ext cx="576000" cy="1366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1331640" y="4005360"/>
            <a:ext cx="360360" cy="1366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2133720"/>
            <a:ext cx="345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точк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вершин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а ребр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69236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692360" y="4005360"/>
            <a:ext cx="1008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1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1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1000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9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6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1" dur="1000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9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1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6" dur="1000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9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6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1000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9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1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1000"/>
                                        <p:tgtEl>
                                          <p:spTgt spid="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900" fill="hold"/>
                                        <p:tgtEl>
                                          <p:spTgt spid="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46083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Решение задачи №4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427280" y="1817640"/>
            <a:ext cx="43830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Построение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). Отрезок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лежит в искомой плоскости, т.к. т.А и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по условию лежат в этой плоскост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2). Соединим т.А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и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(т.к. они лежат в одной плоскости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3). Отрезок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также лежит в искомой плоскости (т.к. эта плоскость проходит через прямую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, параллельную плоскости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E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4). Соединим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и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(т.к. они лежат в одной плоскости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BCGEF)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Параллелограмм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– искомое сечение данной призм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1325520" y="386388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2909880" y="407988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325520" y="407988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125880" y="386388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117880" y="38638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901880" y="42958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900000" y="52308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484360" y="5446440"/>
            <a:ext cx="792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700360" y="523080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900000" y="5446800"/>
            <a:ext cx="576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692360" y="52308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476360" y="56624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893520" y="4079880"/>
            <a:ext cx="43164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2476440" y="4295880"/>
            <a:ext cx="43200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2693880" y="3863880"/>
            <a:ext cx="43200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254040" y="4095720"/>
            <a:ext cx="43164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1687320" y="3868560"/>
            <a:ext cx="431640" cy="136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1452240" y="4302000"/>
            <a:ext cx="43164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971640" y="3862440"/>
            <a:ext cx="65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979640" y="35020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98764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637080" y="38624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556000" y="42210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476360" y="414972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96880" y="522936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735200" y="49006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706840" y="4940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218040" y="52754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300400" y="55944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201680" y="56037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26920" y="2060640"/>
            <a:ext cx="3240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изма наклонная, точк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вершины приз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240000" y="541008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80920" y="539424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660840" y="406728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312920" y="404964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332000" y="4079880"/>
            <a:ext cx="2363760" cy="12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900000" y="4079880"/>
            <a:ext cx="432000" cy="1366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3276360" y="4079880"/>
            <a:ext cx="431640" cy="1366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900000" y="5446800"/>
            <a:ext cx="237672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0" dur="indefinite" restart="never" nodeType="tmRoot">
          <p:childTnLst>
            <p:seq>
              <p:cTn id="1651" dur="indefinite" nodeType="mainSeq">
                <p:childTnLst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8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8" dur="5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3" dur="1000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900" fill="hold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3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8" dur="1000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9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8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3" dur="1000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4" dur="10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9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3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8" dur="1000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9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8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3" dur="1000"/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4" dur="1000" fill="hold"/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900" fill="hold"/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511164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Решение задачи №5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643280" y="1844640"/>
            <a:ext cx="43214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ро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). Соединим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(т.к. они лежат в одной плоскости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). Получим отрезок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R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2). Соединим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(т.к. они лежат в одной плоскости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E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).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олучим отрезок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3). Соединим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 т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(т.к. они лежат в одной плоскости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  Получим отрезок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4). Проведем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X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так, чтобы эта прямая была параллельна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S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(т.к. точки этих прямых лежат в плоскостях, которые  параллельны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5). Аналогично проводим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Q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QX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Шестиугольник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XPRSTQ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скомое сечение данной призм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1189080" y="357336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2773440" y="378936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189080" y="378936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989440" y="357336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981080" y="3573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76544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765440" y="400536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981080" y="357336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989440" y="357336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773440" y="400536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1189080" y="5086080"/>
            <a:ext cx="792000" cy="21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2773440" y="530208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989440" y="5086440"/>
            <a:ext cx="576000" cy="21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189080" y="530208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981080" y="50864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765440" y="55180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565440" y="378936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189080" y="378936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757520" y="4729320"/>
            <a:ext cx="53640" cy="53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74680" y="452124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751120" y="47401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532320" y="452124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951280" y="429264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963800" y="43038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900000" y="3500280"/>
            <a:ext cx="2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828720" y="35733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836720" y="32130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773440" y="32130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492360" y="36450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57440" y="36450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692360" y="36450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900000" y="50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836720" y="501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773440" y="501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492360" y="50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62908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54944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197000" y="4541760"/>
            <a:ext cx="576360" cy="21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803240" y="4761000"/>
            <a:ext cx="1008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2763720" y="4556160"/>
            <a:ext cx="792360" cy="21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981160" y="4317840"/>
            <a:ext cx="576360" cy="21600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1235160" y="4325760"/>
            <a:ext cx="739800" cy="1936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57080" y="4365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916280" y="39895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91780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56544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484360" y="44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692360" y="47293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84360" y="2205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точк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, R, T, S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жащие на ребрах приз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000160" y="4325760"/>
            <a:ext cx="1008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7" dur="indefinite" restart="never" nodeType="tmRoot">
          <p:childTnLst>
            <p:seq>
              <p:cTn id="1738" dur="indefinite" nodeType="mainSeq">
                <p:childTnLst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5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0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5" dur="500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0" dur="1000"/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900" fill="hold"/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0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5" dur="1000"/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900" fill="hold"/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5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0" dur="1000"/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900" fill="hold"/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0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5" dur="1000"/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900" fill="hold"/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5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0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5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0" dur="1000"/>
                                        <p:tgtEl>
                                          <p:spTgt spid="8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1" dur="1000" fill="hold"/>
                                        <p:tgtEl>
                                          <p:spTgt spid="8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900" fill="hold"/>
                                        <p:tgtEl>
                                          <p:spTgt spid="8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0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0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7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2" dur="1000"/>
                                        <p:tgtEl>
                                          <p:spTgt spid="8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3" dur="1000" fill="hold"/>
                                        <p:tgtEl>
                                          <p:spTgt spid="8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900" fill="hold"/>
                                        <p:tgtEl>
                                          <p:spTgt spid="8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563076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Решение задачи №6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00360" y="1773360"/>
            <a:ext cx="43923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Построение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резок В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лежит в искомой плоскости, т.к. т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т.В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о условию лежат в этой плос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). Аналогично с отрезком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Продолжим стороны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.к. они лежат в одной плоскост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CDEF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не параллельны, т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учим точку пересече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Через т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т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роводим прямую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Получим т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точка пересече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единим т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т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Получим отрезок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Соединим т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т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Получим отрезок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).Построим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араллельно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т.к. эти отрезки лежат в параллельных гранях призм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). Соединим т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т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Получим отрезок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Шестиугольник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F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комое сечение данной приз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1619280" y="3357360"/>
            <a:ext cx="792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3203640" y="357336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619280" y="357336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419640" y="3357720"/>
            <a:ext cx="57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411280" y="3357720"/>
            <a:ext cx="1008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195640" y="3789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195640" y="378936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411280" y="335772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419640" y="335772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203640" y="378936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1619280" y="487044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3203640" y="5086080"/>
            <a:ext cx="792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419640" y="487044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619280" y="5086440"/>
            <a:ext cx="576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411280" y="48704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195640" y="5302080"/>
            <a:ext cx="1008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995640" y="357336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619280" y="357336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187280" y="328464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268360" y="2997360"/>
            <a:ext cx="498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213000" y="3022560"/>
            <a:ext cx="495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924360" y="335772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059280" y="34290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195640" y="342900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258920" y="47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124000" y="45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132000" y="4581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924360" y="49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041640" y="52880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050920" y="530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971640" y="1773360"/>
            <a:ext cx="295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68360" y="2060640"/>
            <a:ext cx="3816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, 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противоположные вершины верхнего и нижнего основан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382840" y="3357720"/>
            <a:ext cx="54000" cy="53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375000" y="33433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174760" y="526428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164040" y="52689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589040" y="426888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539280" y="4869000"/>
            <a:ext cx="1871640" cy="504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84360" y="530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597960" y="3355920"/>
            <a:ext cx="1800360" cy="21589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332000" y="4076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1611000" y="3371760"/>
            <a:ext cx="779400" cy="936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620720" y="4311720"/>
            <a:ext cx="561960" cy="97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983040" y="43434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3193560" y="4383000"/>
            <a:ext cx="792360" cy="935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995640" y="4221000"/>
            <a:ext cx="3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411280" y="3357720"/>
            <a:ext cx="978120" cy="2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195640" y="5303880"/>
            <a:ext cx="1008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394920" y="5300640"/>
            <a:ext cx="2801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744480" y="527364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422520" y="3362400"/>
            <a:ext cx="571680" cy="995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4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4" dur="50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9" dur="1000"/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900" fill="hold"/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9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4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7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9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4" dur="1000"/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900" fill="hold"/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2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4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9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4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9" dur="1000"/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0" dur="1000" fill="hold"/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900" fill="hold"/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9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2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4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1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6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3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0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3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5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0" dur="1000"/>
                                        <p:tgtEl>
                                          <p:spTgt spid="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1" dur="1000" fill="hold"/>
                                        <p:tgtEl>
                                          <p:spTgt spid="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900" fill="hold"/>
                                        <p:tgtEl>
                                          <p:spTgt spid="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0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5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0" dur="1000"/>
                                        <p:tgtEl>
                                          <p:spTgt spid="8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1" dur="1000" fill="hold"/>
                                        <p:tgtEl>
                                          <p:spTgt spid="8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900" fill="hold"/>
                                        <p:tgtEl>
                                          <p:spTgt spid="8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0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3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5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0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5" dur="1000"/>
                                        <p:tgtEl>
                                          <p:spTgt spid="8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8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900" fill="hold"/>
                                        <p:tgtEl>
                                          <p:spTgt spid="8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5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0" dur="1000"/>
                                        <p:tgtEl>
                                          <p:spTgt spid="8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1" dur="1000" fill="hold"/>
                                        <p:tgtEl>
                                          <p:spTgt spid="8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900" fill="hold"/>
                                        <p:tgtEl>
                                          <p:spTgt spid="8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строение сеч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3516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Построение на основании аксиом стереометрии и теорем о параллельности прямых и плоскост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-Задача №1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0" lang="en-US" sz="1700" spc="-1" strike="noStrike" u="sng">
                <a:solidFill>
                  <a:srgbClr val="7e9ce8"/>
                </a:solidFill>
                <a:uFillTx/>
                <a:latin typeface="Arial"/>
                <a:hlinkClick r:id="rId2" action="ppaction://hlinksldjump"/>
              </a:rPr>
              <a:t>-Задача №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0" lang="en-US" sz="1700" spc="-1" strike="noStrike" u="sng">
                <a:solidFill>
                  <a:srgbClr val="7e9ce8"/>
                </a:solidFill>
                <a:uFillTx/>
                <a:latin typeface="Arial"/>
                <a:hlinkClick r:id="rId3" action="ppaction://hlinksldjump"/>
              </a:rPr>
              <a:t>-Задача №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Метод след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 u="sng">
                <a:solidFill>
                  <a:srgbClr val="7e9ce8"/>
                </a:solidFill>
                <a:uFillTx/>
                <a:latin typeface="Arial"/>
                <a:hlinkClick r:id="rId4" action="ppaction://hlinksldjump"/>
              </a:rPr>
              <a:t>-</a:t>
            </a:r>
            <a:r>
              <a:rPr b="0" lang="en-US" sz="1700" spc="-1" strike="noStrike" u="sng">
                <a:solidFill>
                  <a:srgbClr val="7e9ce8"/>
                </a:solidFill>
                <a:uFillTx/>
                <a:latin typeface="Arial"/>
                <a:hlinkClick r:id="rId5" action="ppaction://hlinksldjump"/>
              </a:rPr>
              <a:t>Задача №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0" lang="en-US" sz="1700" spc="-1" strike="noStrike" u="sng">
                <a:solidFill>
                  <a:srgbClr val="7e9ce8"/>
                </a:solidFill>
                <a:uFillTx/>
                <a:latin typeface="Arial"/>
                <a:hlinkClick r:id="rId6" action="ppaction://hlinksldjump"/>
              </a:rPr>
              <a:t>-Задача №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0" lang="en-US" sz="1700" spc="-1" strike="noStrike" u="sng">
                <a:solidFill>
                  <a:srgbClr val="7e9ce8"/>
                </a:solidFill>
                <a:uFillTx/>
                <a:latin typeface="Arial"/>
                <a:hlinkClick r:id="rId7" action="ppaction://hlinksldjump"/>
              </a:rPr>
              <a:t>-Задача №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0" lang="en-US" sz="1700" spc="-1" strike="noStrike" u="sng">
                <a:solidFill>
                  <a:srgbClr val="7e9ce8"/>
                </a:solidFill>
                <a:uFillTx/>
                <a:latin typeface="Arial"/>
                <a:hlinkClick r:id="rId8" action="ppaction://hlinksldjump"/>
              </a:rPr>
              <a:t>-Задача №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Метод внутреннего проектиров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 u="sng">
                <a:solidFill>
                  <a:srgbClr val="7e9ce8"/>
                </a:solidFill>
                <a:uFillTx/>
                <a:latin typeface="Arial"/>
                <a:hlinkClick r:id="rId9" action="ppaction://hlinksldjump"/>
              </a:rPr>
              <a:t>-Задача №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0" lang="en-US" sz="1700" spc="-1" strike="noStrike" u="sng">
                <a:solidFill>
                  <a:srgbClr val="7e9ce8"/>
                </a:solidFill>
                <a:uFillTx/>
                <a:latin typeface="Arial"/>
                <a:hlinkClick r:id="rId10" action="ppaction://hlinksldjump"/>
              </a:rPr>
              <a:t>-Задача №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Комбинированный метод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700" spc="-1" strike="noStrike" u="sng">
                <a:solidFill>
                  <a:srgbClr val="7e9ce8"/>
                </a:solidFill>
                <a:uFillTx/>
                <a:latin typeface="Arial"/>
                <a:hlinkClick r:id="rId11" action="ppaction://hlinksldjump"/>
              </a:rPr>
              <a:t>-Задача №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ff"/>
                </a:solidFill>
                <a:latin typeface="Arial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ff"/>
                </a:solidFill>
                <a:latin typeface="Arial"/>
              </a:rPr>
              <a:t>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4" dur="indefinite" restart="never" nodeType="tmRoot">
          <p:childTnLst>
            <p:seq>
              <p:cTn id="2055" dur="indefinite" nodeType="mainSeq">
                <p:childTnLst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0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5" dur="1000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6" dur="10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9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3" dur="1000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4" dur="1000" fill="hold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900" fill="hold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1" dur="1000"/>
                                        <p:tgtEl>
                                          <p:spTgt spid="9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2" dur="1000" fill="hold"/>
                                        <p:tgtEl>
                                          <p:spTgt spid="9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900" fill="hold"/>
                                        <p:tgtEl>
                                          <p:spTgt spid="9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9" dur="1000"/>
                                        <p:tgtEl>
                                          <p:spTgt spid="9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0" dur="1000" fill="hold"/>
                                        <p:tgtEl>
                                          <p:spTgt spid="9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900" fill="hold"/>
                                        <p:tgtEl>
                                          <p:spTgt spid="9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7" dur="1000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8" dur="1000" fill="hold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900" fill="hold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5" dur="1000"/>
                                        <p:tgtEl>
                                          <p:spTgt spid="9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6" dur="1000" fill="hold"/>
                                        <p:tgtEl>
                                          <p:spTgt spid="9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900" fill="hold"/>
                                        <p:tgtEl>
                                          <p:spTgt spid="9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3" dur="1000"/>
                                        <p:tgtEl>
                                          <p:spTgt spid="9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4" dur="1000" fill="hold"/>
                                        <p:tgtEl>
                                          <p:spTgt spid="9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900" fill="hold"/>
                                        <p:tgtEl>
                                          <p:spTgt spid="9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1" dur="1000"/>
                                        <p:tgtEl>
                                          <p:spTgt spid="9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2" dur="1000" fill="hold"/>
                                        <p:tgtEl>
                                          <p:spTgt spid="9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900" fill="hold"/>
                                        <p:tgtEl>
                                          <p:spTgt spid="9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9" dur="1000"/>
                                        <p:tgtEl>
                                          <p:spTgt spid="9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0" dur="1000" fill="hold"/>
                                        <p:tgtEl>
                                          <p:spTgt spid="9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900" fill="hold"/>
                                        <p:tgtEl>
                                          <p:spTgt spid="9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7" dur="1000"/>
                                        <p:tgtEl>
                                          <p:spTgt spid="9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8" dur="1000" fill="hold"/>
                                        <p:tgtEl>
                                          <p:spTgt spid="9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900" fill="hold"/>
                                        <p:tgtEl>
                                          <p:spTgt spid="9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5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6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9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fill="hold">
                      <p:stCondLst>
                        <p:cond delay="indefinite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3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4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9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1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2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3" dur="9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9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0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9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7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8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9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5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9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403280" y="220500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330066"/>
                </a:solidFill>
                <a:latin typeface="Arial"/>
              </a:rPr>
              <a:t>ЗАДАЧА №1</a:t>
            </a:r>
            <a:endParaRPr b="1" lang="en-US" sz="63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9" dur="indefinite" restart="never" nodeType="tmRoot">
          <p:childTnLst>
            <p:seq>
              <p:cTn id="2190" dur="indefinite" nodeType="mainSeq">
                <p:childTnLst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5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Задача 1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роить сечение куб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ью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проходящей через точк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,R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Где 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6" dur="indefinite" restart="never" nodeType="tmRoot">
          <p:childTnLst>
            <p:seq>
              <p:cTn id="2197" dur="indefinite" nodeType="mainSeq">
                <p:childTnLst>
                  <p:par>
                    <p:cTn id="2198" fill="hold">
                      <p:stCondLst>
                        <p:cond delay="indefinite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02" dur="2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7" dur="1000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8" dur="10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9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2808360" y="2062080"/>
            <a:ext cx="201600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4824360" y="3428640"/>
            <a:ext cx="64764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456000" y="1414440"/>
            <a:ext cx="0" cy="20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2808360" y="3430440"/>
            <a:ext cx="647640" cy="64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456000" y="3430440"/>
            <a:ext cx="1979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8209080" y="3933720"/>
            <a:ext cx="9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411280" y="39337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05928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292720" y="32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643280" y="3933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340000" y="19162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987640" y="112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716360" y="191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364000" y="112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364000" y="17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78800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84328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871640" y="299880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5472000" y="1414440"/>
            <a:ext cx="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456000" y="141444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2808360" y="1414080"/>
            <a:ext cx="64764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4824360" y="1414080"/>
            <a:ext cx="64764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032360" y="141300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ч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4470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добрать наиболее эффективный способ построения сечения в каждом случа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становить, какими могут быть всевозможные виды сечений для данной фигу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яснить, всегда ли задача имеет реш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2808360" y="2062080"/>
            <a:ext cx="201600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4824360" y="1414080"/>
            <a:ext cx="64764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456000" y="1414440"/>
            <a:ext cx="0" cy="20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2808360" y="3430440"/>
            <a:ext cx="647640" cy="64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456000" y="343044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871640" y="299880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8209080" y="3933720"/>
            <a:ext cx="9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411280" y="39337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05928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5292720" y="32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4643280" y="3933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340000" y="19162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716360" y="191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364000" y="112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364000" y="17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78800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84328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4826160" y="1916280"/>
            <a:ext cx="653760" cy="1728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8" name="" descr=""/>
          <p:cNvPicPr/>
          <p:nvPr/>
        </p:nvPicPr>
        <p:blipFill>
          <a:blip r:embed="rId1"/>
          <a:stretch/>
        </p:blipFill>
        <p:spPr>
          <a:xfrm>
            <a:off x="611280" y="5516640"/>
            <a:ext cx="1428480" cy="466560"/>
          </a:xfrm>
          <a:prstGeom prst="rect">
            <a:avLst/>
          </a:prstGeom>
          <a:ln w="0">
            <a:noFill/>
          </a:ln>
        </p:spPr>
      </p:pic>
      <p:sp>
        <p:nvSpPr>
          <p:cNvPr id="969" name=""/>
          <p:cNvSpPr/>
          <p:nvPr/>
        </p:nvSpPr>
        <p:spPr>
          <a:xfrm flipV="1">
            <a:off x="2808360" y="1414080"/>
            <a:ext cx="64764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5472000" y="1414440"/>
            <a:ext cx="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032360" y="141300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456000" y="141444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384720" y="307008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4824360" y="3428640"/>
            <a:ext cx="64764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987640" y="112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1" dur="indefinite" restart="never" nodeType="tmRoot">
          <p:childTnLst>
            <p:seq>
              <p:cTn id="2212" dur="indefinite" nodeType="mainSeq">
                <p:childTnLst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2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2808360" y="2062080"/>
            <a:ext cx="201600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5472000" y="1414440"/>
            <a:ext cx="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4824360" y="1414080"/>
            <a:ext cx="64764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V="1">
            <a:off x="2808360" y="1414080"/>
            <a:ext cx="64764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456000" y="141444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456000" y="1414440"/>
            <a:ext cx="0" cy="20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2808360" y="3430440"/>
            <a:ext cx="647640" cy="64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456000" y="343044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384720" y="307008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032360" y="134136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871640" y="299880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8209080" y="3933720"/>
            <a:ext cx="9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411280" y="39337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05928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292720" y="32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643280" y="3933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2340000" y="19162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4716360" y="191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364000" y="112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364000" y="17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78800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84328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4253040" y="1916280"/>
            <a:ext cx="1226880" cy="324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" descr=""/>
          <p:cNvPicPr/>
          <p:nvPr/>
        </p:nvPicPr>
        <p:blipFill>
          <a:blip r:embed="rId1"/>
          <a:stretch/>
        </p:blipFill>
        <p:spPr>
          <a:xfrm>
            <a:off x="611280" y="5516640"/>
            <a:ext cx="1428480" cy="46656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4356000" y="4365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2"/>
          <a:stretch/>
        </p:blipFill>
        <p:spPr>
          <a:xfrm>
            <a:off x="611280" y="5516640"/>
            <a:ext cx="2943000" cy="52380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/>
          <p:nvPr/>
        </p:nvSpPr>
        <p:spPr>
          <a:xfrm flipV="1">
            <a:off x="4859280" y="3428640"/>
            <a:ext cx="64764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3780000" y="3429000"/>
            <a:ext cx="1728720" cy="17272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4257720" y="3645000"/>
            <a:ext cx="57312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987640" y="112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3" dur="indefinite" restart="never" nodeType="tmRoot">
          <p:childTnLst>
            <p:seq>
              <p:cTn id="2224" dur="indefinite" nodeType="mainSeq">
                <p:childTnLst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2808360" y="2062080"/>
            <a:ext cx="201600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3780000" y="3429000"/>
            <a:ext cx="172692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5472000" y="1414440"/>
            <a:ext cx="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4824360" y="1414080"/>
            <a:ext cx="64764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2808360" y="1414080"/>
            <a:ext cx="64764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456000" y="141444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456000" y="1414440"/>
            <a:ext cx="0" cy="20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2808360" y="3430440"/>
            <a:ext cx="647640" cy="64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492360" y="3429000"/>
            <a:ext cx="2016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384720" y="307008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032360" y="134136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871640" y="299880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8209080" y="3933720"/>
            <a:ext cx="9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411280" y="39337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05928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292720" y="32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643280" y="3933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340000" y="19162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4716360" y="191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364000" y="112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5364000" y="17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78800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84328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826160" y="1916280"/>
            <a:ext cx="653760" cy="1728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356000" y="4365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348000" y="3573360"/>
            <a:ext cx="647640" cy="48600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924360" y="4005360"/>
            <a:ext cx="576360" cy="43164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5" name="" descr=""/>
          <p:cNvPicPr/>
          <p:nvPr/>
        </p:nvPicPr>
        <p:blipFill>
          <a:blip r:embed="rId1"/>
          <a:stretch/>
        </p:blipFill>
        <p:spPr>
          <a:xfrm>
            <a:off x="611280" y="5516640"/>
            <a:ext cx="2685960" cy="476280"/>
          </a:xfrm>
          <a:prstGeom prst="rect">
            <a:avLst/>
          </a:prstGeom>
          <a:ln w="0">
            <a:noFill/>
          </a:ln>
        </p:spPr>
      </p:pic>
      <p:sp>
        <p:nvSpPr>
          <p:cNvPr id="1036" name=""/>
          <p:cNvSpPr/>
          <p:nvPr/>
        </p:nvSpPr>
        <p:spPr>
          <a:xfrm flipV="1">
            <a:off x="4284720" y="3645000"/>
            <a:ext cx="546120" cy="144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635280" y="4076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987640" y="112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0" dur="indefinite" restart="never" nodeType="tmRoot">
          <p:childTnLst>
            <p:seq>
              <p:cTn id="2231" dur="indefinite" nodeType="mainSeq">
                <p:childTnLst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2808360" y="2062080"/>
            <a:ext cx="201600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3780000" y="3429000"/>
            <a:ext cx="172692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5472000" y="1414440"/>
            <a:ext cx="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4824360" y="1414080"/>
            <a:ext cx="64764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2808360" y="1414080"/>
            <a:ext cx="64764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456000" y="141444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3456000" y="1414440"/>
            <a:ext cx="0" cy="20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2808360" y="3430440"/>
            <a:ext cx="647640" cy="64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84720" y="307008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032360" y="134136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871640" y="299880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8209080" y="3933720"/>
            <a:ext cx="9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411280" y="39337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05928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292720" y="31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643280" y="3933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340000" y="19162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716360" y="191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364000" y="112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364000" y="17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78800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84328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4253040" y="1916280"/>
            <a:ext cx="1226880" cy="324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356000" y="4365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348000" y="3573360"/>
            <a:ext cx="647640" cy="48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995640" y="4057560"/>
            <a:ext cx="505080" cy="37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H="1" flipV="1">
            <a:off x="2987280" y="3284640"/>
            <a:ext cx="36036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2987640" y="3429000"/>
            <a:ext cx="432000" cy="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843280" y="306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" descr=""/>
          <p:cNvPicPr/>
          <p:nvPr/>
        </p:nvPicPr>
        <p:blipFill>
          <a:blip r:embed="rId1"/>
          <a:stretch/>
        </p:blipFill>
        <p:spPr>
          <a:xfrm>
            <a:off x="611280" y="5516640"/>
            <a:ext cx="2790720" cy="485640"/>
          </a:xfrm>
          <a:prstGeom prst="rect">
            <a:avLst/>
          </a:prstGeom>
          <a:ln w="0">
            <a:noFill/>
          </a:ln>
        </p:spPr>
      </p:pic>
      <p:sp>
        <p:nvSpPr>
          <p:cNvPr id="1070" name=""/>
          <p:cNvSpPr/>
          <p:nvPr/>
        </p:nvSpPr>
        <p:spPr>
          <a:xfrm>
            <a:off x="3492360" y="3429000"/>
            <a:ext cx="2016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492360" y="3429000"/>
            <a:ext cx="2016360" cy="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V="1">
            <a:off x="4257720" y="3645000"/>
            <a:ext cx="57312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635280" y="4076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2987640" y="112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2" dur="indefinite" restart="never" nodeType="tmRoot">
          <p:childTnLst>
            <p:seq>
              <p:cTn id="2243" dur="indefinite" nodeType="mainSeq">
                <p:childTnLst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8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fill="hold">
                      <p:stCondLst>
                        <p:cond delay="indefinite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2808360" y="2062080"/>
            <a:ext cx="201600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3780000" y="3429000"/>
            <a:ext cx="172692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5472000" y="1414440"/>
            <a:ext cx="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4824360" y="1414080"/>
            <a:ext cx="64764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2808360" y="1414080"/>
            <a:ext cx="64764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456000" y="141444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456000" y="1414440"/>
            <a:ext cx="0" cy="20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2808360" y="3430440"/>
            <a:ext cx="647640" cy="64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456000" y="343044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384720" y="307008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032360" y="134136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871640" y="299880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8209080" y="3933720"/>
            <a:ext cx="9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411280" y="39337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05928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5292720" y="31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643280" y="3933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340000" y="19162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4716360" y="191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364000" y="112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364000" y="17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78800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84328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4253040" y="1916280"/>
            <a:ext cx="1226880" cy="324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356000" y="4365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995640" y="4057560"/>
            <a:ext cx="505080" cy="37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H="1" flipV="1">
            <a:off x="2987280" y="3284640"/>
            <a:ext cx="36036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87640" y="342900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843280" y="306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3995640" y="3644640"/>
            <a:ext cx="863640" cy="431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" descr=""/>
          <p:cNvPicPr/>
          <p:nvPr/>
        </p:nvPicPr>
        <p:blipFill>
          <a:blip r:embed="rId1"/>
          <a:stretch/>
        </p:blipFill>
        <p:spPr>
          <a:xfrm>
            <a:off x="611280" y="5516640"/>
            <a:ext cx="2171520" cy="466560"/>
          </a:xfrm>
          <a:prstGeom prst="rect">
            <a:avLst/>
          </a:prstGeom>
          <a:ln w="0">
            <a:noFill/>
          </a:ln>
        </p:spPr>
      </p:pic>
      <p:sp>
        <p:nvSpPr>
          <p:cNvPr id="1107" name=""/>
          <p:cNvSpPr/>
          <p:nvPr/>
        </p:nvSpPr>
        <p:spPr>
          <a:xfrm>
            <a:off x="3348000" y="3573360"/>
            <a:ext cx="647640" cy="48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348000" y="3573360"/>
            <a:ext cx="647640" cy="486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4257720" y="3645000"/>
            <a:ext cx="57312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635280" y="4076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987640" y="112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4" dur="indefinite" restart="never" nodeType="tmRoot">
          <p:childTnLst>
            <p:seq>
              <p:cTn id="2255" dur="indefinite" nodeType="mainSeq">
                <p:childTnLst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0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5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/>
          <p:nvPr/>
        </p:nvSpPr>
        <p:spPr>
          <a:xfrm>
            <a:off x="2808360" y="2062080"/>
            <a:ext cx="201600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3780000" y="3429000"/>
            <a:ext cx="172692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5472000" y="1414440"/>
            <a:ext cx="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4824360" y="1414080"/>
            <a:ext cx="64764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2808360" y="1414080"/>
            <a:ext cx="64764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456000" y="141444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456000" y="1414440"/>
            <a:ext cx="0" cy="20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2808360" y="3430440"/>
            <a:ext cx="647640" cy="64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456000" y="343044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384720" y="307008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032360" y="134136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871640" y="299880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8209080" y="3933720"/>
            <a:ext cx="9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411280" y="39337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05928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292720" y="31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643280" y="3933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340000" y="19162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716360" y="191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5364000" y="112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5364000" y="17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78800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84328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253040" y="1916280"/>
            <a:ext cx="1226880" cy="324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356000" y="4365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348000" y="3573360"/>
            <a:ext cx="647640" cy="486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995640" y="4057560"/>
            <a:ext cx="505080" cy="37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H="1" flipV="1">
            <a:off x="2987280" y="3284640"/>
            <a:ext cx="36036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2987640" y="342900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843280" y="306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3995640" y="3644640"/>
            <a:ext cx="863640" cy="431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3132000" y="1937880"/>
            <a:ext cx="2303640" cy="149076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276720" y="2852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6" name="" descr=""/>
          <p:cNvPicPr/>
          <p:nvPr/>
        </p:nvPicPr>
        <p:blipFill>
          <a:blip r:embed="rId1"/>
          <a:stretch/>
        </p:blipFill>
        <p:spPr>
          <a:xfrm>
            <a:off x="611280" y="5516640"/>
            <a:ext cx="2609640" cy="495360"/>
          </a:xfrm>
          <a:prstGeom prst="rect">
            <a:avLst/>
          </a:prstGeom>
          <a:ln w="0">
            <a:noFill/>
          </a:ln>
        </p:spPr>
      </p:pic>
      <p:sp>
        <p:nvSpPr>
          <p:cNvPr id="1147" name=""/>
          <p:cNvSpPr/>
          <p:nvPr/>
        </p:nvSpPr>
        <p:spPr>
          <a:xfrm flipV="1">
            <a:off x="4257720" y="3645000"/>
            <a:ext cx="57312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2987640" y="112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6" dur="indefinite" restart="never" nodeType="tmRoot">
          <p:childTnLst>
            <p:seq>
              <p:cTn id="2267" dur="indefinite" nodeType="mainSeq">
                <p:childTnLst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2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2808360" y="2062080"/>
            <a:ext cx="201600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3780000" y="3429000"/>
            <a:ext cx="172692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5472000" y="1414440"/>
            <a:ext cx="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4824360" y="1414080"/>
            <a:ext cx="64764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2808360" y="1414080"/>
            <a:ext cx="64764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456000" y="141444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3456000" y="1414440"/>
            <a:ext cx="0" cy="20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2808360" y="3430440"/>
            <a:ext cx="647640" cy="64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3456000" y="343044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384720" y="307008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032360" y="134136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871640" y="299880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8209080" y="3933720"/>
            <a:ext cx="9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2411280" y="39337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305928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292720" y="31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643280" y="3933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340000" y="19162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716360" y="191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5364000" y="112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364000" y="17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78800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84328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4253040" y="1916280"/>
            <a:ext cx="1226880" cy="324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356000" y="4365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3348000" y="3573360"/>
            <a:ext cx="647640" cy="486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995640" y="4057560"/>
            <a:ext cx="505080" cy="37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H="1" flipV="1">
            <a:off x="2987280" y="3284640"/>
            <a:ext cx="36036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2987640" y="342900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843280" y="306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3995640" y="3644640"/>
            <a:ext cx="863640" cy="431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3132000" y="1937880"/>
            <a:ext cx="2303640" cy="1490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276720" y="2852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3276720" y="3212640"/>
            <a:ext cx="215640" cy="36036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4" name="" descr=""/>
          <p:cNvPicPr/>
          <p:nvPr/>
        </p:nvPicPr>
        <p:blipFill>
          <a:blip r:embed="rId1"/>
          <a:stretch/>
        </p:blipFill>
        <p:spPr>
          <a:xfrm>
            <a:off x="611280" y="5516640"/>
            <a:ext cx="942840" cy="476280"/>
          </a:xfrm>
          <a:prstGeom prst="rect">
            <a:avLst/>
          </a:prstGeom>
          <a:ln w="0">
            <a:noFill/>
          </a:ln>
        </p:spPr>
      </p:pic>
      <p:sp>
        <p:nvSpPr>
          <p:cNvPr id="1185" name=""/>
          <p:cNvSpPr/>
          <p:nvPr/>
        </p:nvSpPr>
        <p:spPr>
          <a:xfrm flipV="1">
            <a:off x="4257720" y="3645000"/>
            <a:ext cx="57312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2987640" y="112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3" dur="indefinite" restart="never" nodeType="tmRoot">
          <p:childTnLst>
            <p:seq>
              <p:cTn id="2274" dur="indefinite" nodeType="mainSeq">
                <p:childTnLst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9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2808360" y="2062080"/>
            <a:ext cx="201600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3780000" y="3429000"/>
            <a:ext cx="172692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5472000" y="1414440"/>
            <a:ext cx="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4824360" y="1414080"/>
            <a:ext cx="64764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2808360" y="1414080"/>
            <a:ext cx="64764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456000" y="141444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3456000" y="1414440"/>
            <a:ext cx="0" cy="20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2808360" y="3430440"/>
            <a:ext cx="647640" cy="64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3456000" y="343044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384720" y="307008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032360" y="134136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871640" y="299880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8209080" y="3933720"/>
            <a:ext cx="9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2411280" y="39337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305928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292720" y="31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643280" y="3933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2340000" y="19162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987640" y="112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4716360" y="191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364000" y="112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364000" y="17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78800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284328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826160" y="1916280"/>
            <a:ext cx="653760" cy="1728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4356000" y="4365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348000" y="3573360"/>
            <a:ext cx="647640" cy="486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3995640" y="4057560"/>
            <a:ext cx="505080" cy="37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 flipH="1" flipV="1">
            <a:off x="2987280" y="3284640"/>
            <a:ext cx="36036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2987640" y="342900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843280" y="306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3995640" y="3644640"/>
            <a:ext cx="863640" cy="431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3276720" y="2852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3276720" y="3212640"/>
            <a:ext cx="215640" cy="36036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419640" y="3284640"/>
            <a:ext cx="331560" cy="576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4140360" y="393372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708360" y="3068640"/>
            <a:ext cx="503280" cy="865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995640" y="2852640"/>
            <a:ext cx="540000" cy="936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284720" y="2708280"/>
            <a:ext cx="544320" cy="936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4572000" y="2492280"/>
            <a:ext cx="415800" cy="720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4859280" y="2276640"/>
            <a:ext cx="292320" cy="504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148360" y="2133720"/>
            <a:ext cx="164880" cy="287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0" name="" descr=""/>
          <p:cNvPicPr/>
          <p:nvPr/>
        </p:nvPicPr>
        <p:blipFill>
          <a:blip r:embed="rId1"/>
          <a:stretch/>
        </p:blipFill>
        <p:spPr>
          <a:xfrm>
            <a:off x="611280" y="5516640"/>
            <a:ext cx="6153120" cy="552240"/>
          </a:xfrm>
          <a:prstGeom prst="rect">
            <a:avLst/>
          </a:prstGeom>
          <a:ln w="0">
            <a:noFill/>
          </a:ln>
        </p:spPr>
      </p:pic>
      <p:sp>
        <p:nvSpPr>
          <p:cNvPr id="1231" name=""/>
          <p:cNvSpPr/>
          <p:nvPr/>
        </p:nvSpPr>
        <p:spPr>
          <a:xfrm flipV="1">
            <a:off x="3492360" y="1938240"/>
            <a:ext cx="1943280" cy="12528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3059280" y="3284640"/>
            <a:ext cx="28872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4518000" y="3645000"/>
            <a:ext cx="30024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>
            <a:hlinkClick r:id="rId2" action="ppaction://hlinksldjump"/>
          </p:cNvPr>
          <p:cNvSpPr/>
          <p:nvPr/>
        </p:nvSpPr>
        <p:spPr>
          <a:xfrm>
            <a:off x="7812000" y="476280"/>
            <a:ext cx="936720" cy="57636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97" h="21600">
                <a:moveTo>
                  <a:pt x="0" y="0"/>
                </a:moveTo>
                <a:lnTo>
                  <a:pt x="35097" y="0"/>
                </a:lnTo>
                <a:lnTo>
                  <a:pt x="35097" y="21600"/>
                </a:lnTo>
                <a:lnTo>
                  <a:pt x="0" y="21600"/>
                </a:lnTo>
                <a:close/>
              </a:path>
              <a:path fill="lightenLess" w="35097" h="21600">
                <a:moveTo>
                  <a:pt x="0" y="0"/>
                </a:moveTo>
                <a:lnTo>
                  <a:pt x="35097" y="0"/>
                </a:lnTo>
                <a:lnTo>
                  <a:pt x="33697" y="1400"/>
                </a:lnTo>
                <a:lnTo>
                  <a:pt x="1400" y="1400"/>
                </a:lnTo>
                <a:close/>
              </a:path>
              <a:path fill="darken" w="35097" h="21600">
                <a:moveTo>
                  <a:pt x="35097" y="0"/>
                </a:moveTo>
                <a:lnTo>
                  <a:pt x="35097" y="21600"/>
                </a:lnTo>
                <a:lnTo>
                  <a:pt x="33697" y="20200"/>
                </a:lnTo>
                <a:lnTo>
                  <a:pt x="33697" y="1400"/>
                </a:lnTo>
                <a:close/>
              </a:path>
              <a:path fill="darkenLess" w="35097" h="21600">
                <a:moveTo>
                  <a:pt x="35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97" y="20200"/>
                </a:lnTo>
                <a:close/>
              </a:path>
              <a:path fill="lighten" w="35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97" h="21600">
                <a:moveTo>
                  <a:pt x="10542" y="10800"/>
                </a:moveTo>
                <a:lnTo>
                  <a:pt x="24555" y="3794"/>
                </a:lnTo>
                <a:lnTo>
                  <a:pt x="2455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/>
          <p:nvPr/>
        </p:nvSpPr>
        <p:spPr>
          <a:xfrm>
            <a:off x="1116000" y="2492280"/>
            <a:ext cx="76233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330066"/>
                </a:solidFill>
                <a:latin typeface="Arial"/>
              </a:rPr>
              <a:t>ЗАДАЧА №2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0" dur="indefinite" restart="never" nodeType="tmRoot">
          <p:childTnLst>
            <p:seq>
              <p:cTn id="2281" dur="indefinite" nodeType="mainSeq">
                <p:childTnLst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6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ча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Постройте сечение четырехугольной пирамиды плоскостью М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К. ( М,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,К – произвольные точки на ребрах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В, А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C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7" dur="indefinite" restart="never" nodeType="tmRoot">
          <p:childTnLst>
            <p:seq>
              <p:cTn id="2288" dur="indefinite" nodeType="mainSeq">
                <p:childTnLst>
                  <p:par>
                    <p:cTn id="2289" fill="hold">
                      <p:stCondLst>
                        <p:cond delay="indefinite"/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93" dur="2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fill="hold">
                      <p:stCondLst>
                        <p:cond delay="indefinite"/>
                      </p:stCondLst>
                      <p:childTnLst>
                        <p:par>
                          <p:cTn id="2295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8" dur="1000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9" dur="10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9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редмет исследования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4470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ечения, получающиеся при пересечении пространственных фигур, при определённых условия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 flipV="1">
            <a:off x="2914560" y="3214800"/>
            <a:ext cx="1079640" cy="79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3994200" y="321480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4858920" y="3214800"/>
            <a:ext cx="107964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2914560" y="400680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2914560" y="1125360"/>
            <a:ext cx="194472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4859280" y="1125360"/>
            <a:ext cx="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4859280" y="1125360"/>
            <a:ext cx="1079640" cy="208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3994200" y="1125360"/>
            <a:ext cx="865080" cy="2089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627280" y="393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067280" y="285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5940360" y="292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4716360" y="4005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716360" y="76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635280" y="407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356000" y="2060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724360" y="2421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5580000" y="227664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4356000" y="1341360"/>
            <a:ext cx="12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3564000" y="342900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"/>
          <p:cNvSpPr/>
          <p:nvPr/>
        </p:nvSpPr>
        <p:spPr>
          <a:xfrm flipV="1">
            <a:off x="2914560" y="3214800"/>
            <a:ext cx="1079640" cy="79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994200" y="321480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 flipH="1">
            <a:off x="4858920" y="3214800"/>
            <a:ext cx="107964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2914560" y="400680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2914560" y="1125360"/>
            <a:ext cx="194472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859280" y="1125360"/>
            <a:ext cx="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4859280" y="1125360"/>
            <a:ext cx="1079640" cy="208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3994200" y="1125360"/>
            <a:ext cx="865080" cy="2089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2627280" y="393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4067280" y="285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940360" y="292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4716360" y="4005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4716360" y="76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3635280" y="407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4356000" y="2060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724360" y="2421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5580000" y="227664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4356000" y="1341360"/>
            <a:ext cx="12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3564000" y="342900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500720" y="1916280"/>
            <a:ext cx="1223640" cy="93636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11280" y="5516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M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2" dur="indefinite" restart="never" nodeType="tmRoot">
          <p:childTnLst>
            <p:seq>
              <p:cTn id="2303" dur="indefinite" nodeType="mainSeq">
                <p:childTnLst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8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"/>
          <p:cNvSpPr/>
          <p:nvPr/>
        </p:nvSpPr>
        <p:spPr>
          <a:xfrm flipV="1">
            <a:off x="2914560" y="3214800"/>
            <a:ext cx="1079640" cy="79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3994200" y="321480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4858920" y="3214800"/>
            <a:ext cx="107964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914560" y="400680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2914560" y="1125360"/>
            <a:ext cx="194472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4859280" y="1125360"/>
            <a:ext cx="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4859280" y="1125360"/>
            <a:ext cx="1079640" cy="208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3994200" y="1125360"/>
            <a:ext cx="865080" cy="2089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627280" y="393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4067280" y="285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940360" y="292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716360" y="4005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4716360" y="76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635280" y="407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356000" y="2060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724360" y="2421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5580000" y="227664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4356000" y="1341360"/>
            <a:ext cx="12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3564000" y="342900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500720" y="1916280"/>
            <a:ext cx="1223640" cy="93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5867280" y="3213000"/>
            <a:ext cx="1584360" cy="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3995640" y="3213000"/>
            <a:ext cx="1944720" cy="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724360" y="2852640"/>
            <a:ext cx="1152720" cy="64764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4500720" y="1916280"/>
            <a:ext cx="1223640" cy="93636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22764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11280" y="5516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MK   BC=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rot="10800000">
            <a:off x="1332000" y="55141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0" dur="indefinite" restart="never" nodeType="tmRoot">
          <p:childTnLst>
            <p:seq>
              <p:cTn id="2311" dur="indefinite" nodeType="mainSeq">
                <p:childTnLst>
                  <p:par>
                    <p:cTn id="2312" fill="hold">
                      <p:stCondLst>
                        <p:cond delay="indefinite"/>
                      </p:stCondLst>
                      <p:childTnLst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fill="hold">
                      <p:stCondLst>
                        <p:cond delay="indefinite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3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fill="hold">
                      <p:stCondLst>
                        <p:cond delay="indefinite"/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8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9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4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 flipV="1">
            <a:off x="2914560" y="3214800"/>
            <a:ext cx="1079640" cy="79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994200" y="321480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4858920" y="3214800"/>
            <a:ext cx="107964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2914560" y="400680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2914560" y="1125360"/>
            <a:ext cx="194472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4859280" y="1125360"/>
            <a:ext cx="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4859280" y="1125360"/>
            <a:ext cx="1079640" cy="208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3994200" y="1125360"/>
            <a:ext cx="865080" cy="2089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627280" y="393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4067280" y="285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940360" y="292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4716360" y="4005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4716360" y="76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635280" y="407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4356000" y="2060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5724360" y="2421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5580000" y="227664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356000" y="1341360"/>
            <a:ext cx="12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3564000" y="342900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4500720" y="1916280"/>
            <a:ext cx="1223640" cy="93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5867280" y="3213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995640" y="321300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5724360" y="2852640"/>
            <a:ext cx="115272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4500720" y="1916280"/>
            <a:ext cx="1223640" cy="93636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2050920" y="3983040"/>
            <a:ext cx="1729080" cy="5284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3779640" y="3357720"/>
            <a:ext cx="1944360" cy="60300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5724000" y="3195720"/>
            <a:ext cx="576360" cy="17784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651640" y="3357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22764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539640" y="5516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XN   DC=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 rot="10800000">
            <a:off x="1258920" y="55141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6" dur="indefinite" restart="never" nodeType="tmRoot">
          <p:childTnLst>
            <p:seq>
              <p:cTn id="2337" dur="indefinite" nodeType="mainSeq">
                <p:childTnLst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4" fill="hold">
                      <p:stCondLst>
                        <p:cond delay="indefinite"/>
                      </p:stCondLst>
                      <p:childTnLst>
                        <p:par>
                          <p:cTn id="2345" fill="hold">
                            <p:stCondLst>
                              <p:cond delay="0"/>
                            </p:stCondLst>
                            <p:childTnLst>
                              <p:par>
                                <p:cTn id="2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8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4" dur="5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"/>
          <p:cNvSpPr/>
          <p:nvPr/>
        </p:nvSpPr>
        <p:spPr>
          <a:xfrm flipV="1">
            <a:off x="2914560" y="3214800"/>
            <a:ext cx="1079640" cy="79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3994200" y="321480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 flipH="1">
            <a:off x="4858920" y="3214800"/>
            <a:ext cx="107964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914560" y="400680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2914560" y="1125360"/>
            <a:ext cx="194472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859280" y="1125360"/>
            <a:ext cx="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4859280" y="1125360"/>
            <a:ext cx="1079640" cy="208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3994200" y="1125360"/>
            <a:ext cx="865080" cy="2089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627280" y="393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4067280" y="285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5940360" y="292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4716360" y="4005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4716360" y="76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3635280" y="407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4356000" y="2060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5724360" y="2421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5580000" y="227664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4356000" y="1341360"/>
            <a:ext cx="12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564000" y="342900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4500720" y="1916280"/>
            <a:ext cx="1223640" cy="93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5867280" y="3213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995640" y="321300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5724360" y="2852640"/>
            <a:ext cx="115272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4500720" y="1916280"/>
            <a:ext cx="1223640" cy="93636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2050920" y="3983040"/>
            <a:ext cx="1729080" cy="52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 flipH="1">
            <a:off x="3779640" y="3357720"/>
            <a:ext cx="1944360" cy="603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 flipH="1">
            <a:off x="5724000" y="3195720"/>
            <a:ext cx="576360" cy="17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622764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724360" y="2852640"/>
            <a:ext cx="0" cy="505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H="1">
            <a:off x="3779640" y="3357720"/>
            <a:ext cx="1944360" cy="60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651640" y="3357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611280" y="551664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6" dur="indefinite" restart="never" nodeType="tmRoot">
          <p:childTnLst>
            <p:seq>
              <p:cTn id="2357" dur="indefinite" nodeType="mainSeq">
                <p:childTnLst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 flipV="1">
            <a:off x="2914560" y="3214800"/>
            <a:ext cx="1079640" cy="79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3994200" y="321480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4858920" y="3214800"/>
            <a:ext cx="107964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914560" y="400680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2914560" y="1125360"/>
            <a:ext cx="194472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4859280" y="1125360"/>
            <a:ext cx="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4859280" y="1125360"/>
            <a:ext cx="1079640" cy="208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3994200" y="1125360"/>
            <a:ext cx="865080" cy="2089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2627280" y="3716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4067280" y="285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5940360" y="292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4716360" y="4005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4716360" y="76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635280" y="407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356000" y="2060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724360" y="2421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580000" y="227664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4356000" y="1341360"/>
            <a:ext cx="12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564000" y="342900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4500720" y="1916280"/>
            <a:ext cx="1223640" cy="93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867280" y="3213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3995640" y="321300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724360" y="2852640"/>
            <a:ext cx="115272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4500720" y="1916280"/>
            <a:ext cx="1223640" cy="93636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 flipV="1">
            <a:off x="2050920" y="3983040"/>
            <a:ext cx="1729080" cy="52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 flipH="1">
            <a:off x="3779640" y="3357720"/>
            <a:ext cx="1944360" cy="603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 flipH="1">
            <a:off x="5724000" y="3195720"/>
            <a:ext cx="576360" cy="17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622764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5724360" y="2852640"/>
            <a:ext cx="0" cy="505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H="1">
            <a:off x="3779640" y="3357720"/>
            <a:ext cx="1944360" cy="60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5651640" y="3357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2916360" y="3212640"/>
            <a:ext cx="1079280" cy="79236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1835280" y="4005360"/>
            <a:ext cx="1079280" cy="79200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124000" y="40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11280" y="5516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В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 rot="10800000">
            <a:off x="1258920" y="55141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0" dur="indefinite" restart="never" nodeType="tmRoot">
          <p:childTnLst>
            <p:seq>
              <p:cTn id="2371" dur="indefinite" nodeType="mainSeq">
                <p:childTnLst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6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8" fill="hold">
                      <p:stCondLst>
                        <p:cond delay="indefinite"/>
                      </p:stCondLst>
                      <p:childTnLst>
                        <p:par>
                          <p:cTn id="2379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2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3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"/>
          <p:cNvSpPr/>
          <p:nvPr/>
        </p:nvSpPr>
        <p:spPr>
          <a:xfrm flipV="1">
            <a:off x="2914560" y="3214800"/>
            <a:ext cx="1079640" cy="79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3994200" y="321480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 flipH="1">
            <a:off x="4858920" y="3214800"/>
            <a:ext cx="107964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2914560" y="400680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2914560" y="1125360"/>
            <a:ext cx="194472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859280" y="1125360"/>
            <a:ext cx="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4859280" y="1125360"/>
            <a:ext cx="1079640" cy="208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3994200" y="1125360"/>
            <a:ext cx="865080" cy="2089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627280" y="3716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067280" y="285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940360" y="292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4716360" y="4005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4716360" y="76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3635280" y="407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356000" y="2060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724360" y="2421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5580000" y="227664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356000" y="1341360"/>
            <a:ext cx="12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3564000" y="342900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4500720" y="1916280"/>
            <a:ext cx="1223640" cy="93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867280" y="3213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3995640" y="321300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724360" y="2852640"/>
            <a:ext cx="115272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4500720" y="1916280"/>
            <a:ext cx="1223640" cy="93636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2050920" y="3983040"/>
            <a:ext cx="1729080" cy="52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 flipH="1">
            <a:off x="3779640" y="3357720"/>
            <a:ext cx="1944360" cy="603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 flipH="1">
            <a:off x="5724000" y="3195720"/>
            <a:ext cx="576360" cy="17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22764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5724360" y="2852640"/>
            <a:ext cx="0" cy="505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 flipH="1">
            <a:off x="3779640" y="3357720"/>
            <a:ext cx="1944360" cy="60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5651640" y="3357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2916360" y="3212640"/>
            <a:ext cx="1079280" cy="792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1835280" y="4005360"/>
            <a:ext cx="107928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2124000" y="40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2340000" y="2997000"/>
            <a:ext cx="1233360" cy="143964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419640" y="24922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 flipV="1">
            <a:off x="3564000" y="1915920"/>
            <a:ext cx="925560" cy="108108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611280" y="551664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Y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=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rot="10800000">
            <a:off x="1332000" y="55141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4" dur="indefinite" restart="never" nodeType="tmRoot">
          <p:childTnLst>
            <p:seq>
              <p:cTn id="2385" dur="indefinite" nodeType="mainSeq">
                <p:childTnLst>
                  <p:par>
                    <p:cTn id="2386" fill="hold">
                      <p:stCondLst>
                        <p:cond delay="indefinite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0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fill="hold">
                      <p:stCondLst>
                        <p:cond delay="indefinite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6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/>
          <p:nvPr/>
        </p:nvSpPr>
        <p:spPr>
          <a:xfrm flipV="1">
            <a:off x="2914560" y="3214800"/>
            <a:ext cx="1079640" cy="79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3994200" y="321480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H="1">
            <a:off x="4858920" y="3214800"/>
            <a:ext cx="107964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2914560" y="400680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2914560" y="1125360"/>
            <a:ext cx="194472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4859280" y="1125360"/>
            <a:ext cx="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859280" y="1125360"/>
            <a:ext cx="1079640" cy="208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3994200" y="1125360"/>
            <a:ext cx="865080" cy="2089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2627280" y="3716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4067280" y="285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940360" y="292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4716360" y="4005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4716360" y="76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635280" y="407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4356000" y="2060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5724360" y="2421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5580000" y="227664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4356000" y="1341360"/>
            <a:ext cx="12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3564000" y="342900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4500720" y="1916280"/>
            <a:ext cx="1223640" cy="93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867280" y="3213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3995640" y="321300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5724360" y="2852640"/>
            <a:ext cx="115272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4500720" y="1916280"/>
            <a:ext cx="1223640" cy="93636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 flipV="1">
            <a:off x="2050920" y="3983040"/>
            <a:ext cx="1729080" cy="52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3779640" y="3357720"/>
            <a:ext cx="1944360" cy="603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H="1">
            <a:off x="5724000" y="3195720"/>
            <a:ext cx="576360" cy="17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622764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5724360" y="2852640"/>
            <a:ext cx="0" cy="505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H="1">
            <a:off x="3779640" y="3357720"/>
            <a:ext cx="1944360" cy="60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5651640" y="3357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 flipV="1">
            <a:off x="2916360" y="3212640"/>
            <a:ext cx="1079280" cy="792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1835280" y="4005360"/>
            <a:ext cx="107928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2124000" y="40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2340000" y="2997000"/>
            <a:ext cx="123336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3419640" y="24922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3564000" y="1915920"/>
            <a:ext cx="925560" cy="1081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564000" y="2997360"/>
            <a:ext cx="216000" cy="1008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3564000" y="1915920"/>
            <a:ext cx="925560" cy="10810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11280" y="551664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 Q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8" dur="indefinite" restart="never" nodeType="tmRoot">
          <p:childTnLst>
            <p:seq>
              <p:cTn id="2399" dur="indefinite" nodeType="mainSeq">
                <p:childTnLst>
                  <p:par>
                    <p:cTn id="2400" fill="hold">
                      <p:stCondLst>
                        <p:cond delay="indefinite"/>
                      </p:stCondLst>
                      <p:childTnLst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5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6" fill="hold">
                      <p:stCondLst>
                        <p:cond delay="indefinite"/>
                      </p:stCondLst>
                      <p:childTnLst>
                        <p:par>
                          <p:cTn id="2407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1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/>
          <p:nvPr/>
        </p:nvSpPr>
        <p:spPr>
          <a:xfrm flipV="1">
            <a:off x="2914560" y="3214800"/>
            <a:ext cx="1079640" cy="79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994200" y="321480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4858920" y="3214800"/>
            <a:ext cx="107964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914560" y="400680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2914560" y="1125360"/>
            <a:ext cx="194472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4859280" y="1125360"/>
            <a:ext cx="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4859280" y="1125360"/>
            <a:ext cx="1079640" cy="208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3994200" y="1125360"/>
            <a:ext cx="865080" cy="2089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627280" y="3716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4067280" y="285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5940360" y="292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716360" y="4005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716360" y="76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635280" y="407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4356000" y="2060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724360" y="2421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580000" y="227664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4356000" y="1341360"/>
            <a:ext cx="12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3564000" y="342900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4500720" y="1916280"/>
            <a:ext cx="1223640" cy="93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5867280" y="3213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3995640" y="321300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5724360" y="2852640"/>
            <a:ext cx="115272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4500720" y="1916280"/>
            <a:ext cx="1223640" cy="93636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2050920" y="3983040"/>
            <a:ext cx="1729080" cy="52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3779640" y="3357720"/>
            <a:ext cx="1944360" cy="603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5724000" y="3195720"/>
            <a:ext cx="576360" cy="17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22764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724360" y="2852640"/>
            <a:ext cx="0" cy="505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 flipH="1">
            <a:off x="3779640" y="3357720"/>
            <a:ext cx="1944360" cy="60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5651640" y="3357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 flipV="1">
            <a:off x="2916360" y="3212640"/>
            <a:ext cx="1079280" cy="792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1835280" y="4005360"/>
            <a:ext cx="107928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2124000" y="40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2340000" y="2997000"/>
            <a:ext cx="123336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3419640" y="24922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3564000" y="1915920"/>
            <a:ext cx="925560" cy="1081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3564000" y="2997360"/>
            <a:ext cx="216000" cy="1008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3564000" y="1915920"/>
            <a:ext cx="925560" cy="10810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3564000" y="2997360"/>
            <a:ext cx="500040" cy="863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3708360" y="2781360"/>
            <a:ext cx="582480" cy="1008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3924360" y="2565360"/>
            <a:ext cx="665280" cy="1150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4067280" y="2349360"/>
            <a:ext cx="747720" cy="1295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4284720" y="2133720"/>
            <a:ext cx="831960" cy="1439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4500720" y="1916280"/>
            <a:ext cx="873000" cy="1512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5003640" y="2276640"/>
            <a:ext cx="623880" cy="1081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5508720" y="2708280"/>
            <a:ext cx="207720" cy="360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11280" y="551664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) QMKP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скомое с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>
            <a:hlinkClick r:id="rId1" action="ppaction://hlinksldjump"/>
          </p:cNvPr>
          <p:cNvSpPr/>
          <p:nvPr/>
        </p:nvSpPr>
        <p:spPr>
          <a:xfrm>
            <a:off x="7740720" y="54936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10800"/>
                </a:moveTo>
                <a:lnTo>
                  <a:pt x="24566" y="3794"/>
                </a:lnTo>
                <a:lnTo>
                  <a:pt x="245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"/>
          <p:cNvSpPr/>
          <p:nvPr/>
        </p:nvSpPr>
        <p:spPr>
          <a:xfrm>
            <a:off x="1116000" y="2492280"/>
            <a:ext cx="76233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330066"/>
                </a:solidFill>
                <a:latin typeface="Arial"/>
              </a:rPr>
              <a:t>ЗАДАЧА №3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2" dur="indefinite" restart="never" nodeType="tmRoot">
          <p:childTnLst>
            <p:seq>
              <p:cTn id="2413" dur="indefinite" nodeType="mainSeq">
                <p:childTnLst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8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Объект исследования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71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ечения пространственных фигу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ча 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Постройте сечение  пирамиды плоскостью </a:t>
            </a:r>
            <a:r>
              <a:rPr b="0" lang="el-GR" sz="35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=(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MHK)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,где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PC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PB,K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PD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9" dur="indefinite" restart="never" nodeType="tmRoot">
          <p:childTnLst>
            <p:seq>
              <p:cTn id="2420" dur="indefinite" nodeType="mainSeq">
                <p:childTnLst>
                  <p:par>
                    <p:cTn id="2421" fill="hold">
                      <p:stCondLst>
                        <p:cond delay="indefinite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5" dur="2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0" dur="1000"/>
                                        <p:tgtEl>
                                          <p:spTgt spid="1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1" dur="1000" fill="hold"/>
                                        <p:tgtEl>
                                          <p:spTgt spid="1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900" fill="hold"/>
                                        <p:tgtEl>
                                          <p:spTgt spid="1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8" dur="1000"/>
                                        <p:tgtEl>
                                          <p:spTgt spid="1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9" dur="1000" fill="hold"/>
                                        <p:tgtEl>
                                          <p:spTgt spid="1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900" fill="hold"/>
                                        <p:tgtEl>
                                          <p:spTgt spid="1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"/>
          <p:cNvSpPr/>
          <p:nvPr/>
        </p:nvSpPr>
        <p:spPr>
          <a:xfrm>
            <a:off x="3008160" y="2925720"/>
            <a:ext cx="2880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 flipH="1">
            <a:off x="5095440" y="2925720"/>
            <a:ext cx="792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 flipH="1" flipV="1">
            <a:off x="3584520" y="3573000"/>
            <a:ext cx="151128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 flipH="1" flipV="1">
            <a:off x="3002040" y="2925360"/>
            <a:ext cx="58248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 flipV="1">
            <a:off x="3564000" y="764640"/>
            <a:ext cx="81288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4376880" y="765000"/>
            <a:ext cx="699840" cy="288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4376880" y="765000"/>
            <a:ext cx="151128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 flipH="1">
            <a:off x="3008160" y="765000"/>
            <a:ext cx="136872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327672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594036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2627280" y="2781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4140360" y="47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4716360" y="907920"/>
            <a:ext cx="12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4788000" y="270828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203640" y="177336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4859280" y="119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4932360" y="29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059280" y="213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514836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/>
          <p:nvPr/>
        </p:nvSpPr>
        <p:spPr>
          <a:xfrm>
            <a:off x="3008160" y="2925720"/>
            <a:ext cx="2880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 flipH="1">
            <a:off x="5095440" y="2925720"/>
            <a:ext cx="792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 flipH="1" flipV="1">
            <a:off x="3584520" y="3573000"/>
            <a:ext cx="151128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 flipH="1" flipV="1">
            <a:off x="3002040" y="2925360"/>
            <a:ext cx="58248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3564000" y="764640"/>
            <a:ext cx="81288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4376880" y="765000"/>
            <a:ext cx="699840" cy="288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4376880" y="765000"/>
            <a:ext cx="151128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 flipH="1">
            <a:off x="3008160" y="765000"/>
            <a:ext cx="136872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327672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514836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594036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2627280" y="2781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4140360" y="47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4716360" y="907920"/>
            <a:ext cx="12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4788000" y="270828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203640" y="177336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4859280" y="119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4932360" y="29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3059280" y="213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4859280" y="1484280"/>
            <a:ext cx="144360" cy="280836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3634920" y="2924280"/>
            <a:ext cx="2233800" cy="20890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493236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611280" y="5516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=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М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 rot="10800000">
            <a:off x="1692360" y="55141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2" dur="indefinite" restart="never" nodeType="tmRoot">
          <p:childTnLst>
            <p:seq>
              <p:cTn id="2443" dur="indefinite" nodeType="mainSeq">
                <p:childTnLst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8" dur="1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9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0" dur="9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2" fill="hold">
                      <p:stCondLst>
                        <p:cond delay="indefinite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6" dur="10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7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9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"/>
          <p:cNvSpPr/>
          <p:nvPr/>
        </p:nvSpPr>
        <p:spPr>
          <a:xfrm>
            <a:off x="3008160" y="2925720"/>
            <a:ext cx="2880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 flipH="1">
            <a:off x="5095440" y="2925720"/>
            <a:ext cx="792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 flipH="1" flipV="1">
            <a:off x="3584520" y="3573000"/>
            <a:ext cx="151128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 flipH="1" flipV="1">
            <a:off x="3002040" y="2925360"/>
            <a:ext cx="58248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 flipV="1">
            <a:off x="3564000" y="764640"/>
            <a:ext cx="81288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4376880" y="765000"/>
            <a:ext cx="699840" cy="288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4376880" y="765000"/>
            <a:ext cx="151128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flipH="1">
            <a:off x="3008160" y="765000"/>
            <a:ext cx="136872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327672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514836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594036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2627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4140360" y="47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4716360" y="907920"/>
            <a:ext cx="12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4788000" y="270828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3203640" y="177336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4859280" y="119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4932360" y="29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3059280" y="213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4859280" y="1413000"/>
            <a:ext cx="144360" cy="28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 flipH="1">
            <a:off x="3634920" y="2924280"/>
            <a:ext cx="2233800" cy="20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493236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 flipH="1">
            <a:off x="3348000" y="1413000"/>
            <a:ext cx="1511280" cy="91728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2987640" y="2924280"/>
            <a:ext cx="2879640" cy="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1619280" y="2924280"/>
            <a:ext cx="1368360" cy="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 flipH="1">
            <a:off x="1835280" y="2349360"/>
            <a:ext cx="1511280" cy="91764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2124000" y="2565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4859280" y="1484280"/>
            <a:ext cx="77760" cy="1513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611280" y="5516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CD   M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 rot="10800000">
            <a:off x="1619280" y="55141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0" dur="indefinite" restart="never" nodeType="tmRoot">
          <p:childTnLst>
            <p:seq>
              <p:cTn id="2461" dur="indefinite" nodeType="mainSeq">
                <p:childTnLst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6" dur="10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7" dur="10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9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0" fill="hold">
                      <p:stCondLst>
                        <p:cond delay="indefinite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4" dur="1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5" dur="10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6" dur="9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8" fill="hold">
                      <p:stCondLst>
                        <p:cond delay="indefinite"/>
                      </p:stCondLst>
                      <p:childTnLst>
                        <p:par>
                          <p:cTn id="2479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2" dur="10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3" dur="10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9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0" dur="10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1" dur="10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2" dur="9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3008160" y="2925720"/>
            <a:ext cx="2880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 flipH="1">
            <a:off x="5095440" y="2925720"/>
            <a:ext cx="792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 flipH="1" flipV="1">
            <a:off x="3584520" y="3573000"/>
            <a:ext cx="151128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 flipH="1" flipV="1">
            <a:off x="3002040" y="2925360"/>
            <a:ext cx="58248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 flipV="1">
            <a:off x="3564000" y="764640"/>
            <a:ext cx="81288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4376880" y="765000"/>
            <a:ext cx="699840" cy="288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4376880" y="765000"/>
            <a:ext cx="151128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 flipH="1">
            <a:off x="3008160" y="765000"/>
            <a:ext cx="136872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327672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514836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594036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2627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4140360" y="47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4716360" y="907920"/>
            <a:ext cx="12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4788000" y="270828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3203640" y="177336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4859280" y="119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4932360" y="29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3059280" y="213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4859280" y="1413000"/>
            <a:ext cx="144360" cy="28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 flipH="1">
            <a:off x="3634920" y="2924280"/>
            <a:ext cx="2233800" cy="20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493236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 flipH="1">
            <a:off x="3348000" y="1413000"/>
            <a:ext cx="1511280" cy="91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2987640" y="292428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1619280" y="292428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 flipH="1">
            <a:off x="1835280" y="2349360"/>
            <a:ext cx="1511280" cy="9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2124000" y="2565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2268360" y="2852640"/>
            <a:ext cx="935280" cy="30636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3203640" y="3141720"/>
            <a:ext cx="1512720" cy="49680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4716360" y="3645000"/>
            <a:ext cx="2305080" cy="75384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298764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4427640" y="357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4859280" y="1484280"/>
            <a:ext cx="77760" cy="1513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611280" y="551664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L= XY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   4)R=X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 rot="10800000">
            <a:off x="1763280" y="55141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 rot="10800000">
            <a:off x="3851280" y="55141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4" dur="indefinite" restart="never" nodeType="tmRoot">
          <p:childTnLst>
            <p:seq>
              <p:cTn id="2495" dur="indefinite" nodeType="mainSeq">
                <p:childTnLst>
                  <p:par>
                    <p:cTn id="2496" fill="hold">
                      <p:stCondLst>
                        <p:cond delay="indefinite"/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0" dur="10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1" dur="10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2" dur="9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8" dur="10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9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0" dur="9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fill="hold">
                      <p:stCondLst>
                        <p:cond delay="indefinite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6" dur="10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7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9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"/>
          <p:cNvSpPr/>
          <p:nvPr/>
        </p:nvSpPr>
        <p:spPr>
          <a:xfrm>
            <a:off x="3008160" y="2925720"/>
            <a:ext cx="2880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 flipH="1">
            <a:off x="5095440" y="2925720"/>
            <a:ext cx="792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 flipH="1" flipV="1">
            <a:off x="3584520" y="3573000"/>
            <a:ext cx="151128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 flipH="1" flipV="1">
            <a:off x="3002040" y="2925360"/>
            <a:ext cx="58248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 flipV="1">
            <a:off x="3564000" y="764640"/>
            <a:ext cx="81288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4376880" y="765000"/>
            <a:ext cx="699840" cy="288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4376880" y="765000"/>
            <a:ext cx="151128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3008160" y="765000"/>
            <a:ext cx="136872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327672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514836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594036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2627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4140360" y="47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4716360" y="907920"/>
            <a:ext cx="12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4788000" y="270828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3203640" y="177336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4859280" y="119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4932360" y="29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3059280" y="213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4859280" y="1413000"/>
            <a:ext cx="144360" cy="28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3634920" y="2924280"/>
            <a:ext cx="2233800" cy="20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493236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 flipH="1">
            <a:off x="3348000" y="1413000"/>
            <a:ext cx="1511280" cy="9172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2987640" y="292428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1619280" y="292428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 flipH="1">
            <a:off x="1835280" y="2349360"/>
            <a:ext cx="1511280" cy="9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2124000" y="2565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2268360" y="2852640"/>
            <a:ext cx="935280" cy="30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3203640" y="3141720"/>
            <a:ext cx="1512720" cy="4968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4716360" y="3645000"/>
            <a:ext cx="2305080" cy="75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298764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4427640" y="357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4859280" y="1484280"/>
            <a:ext cx="77760" cy="1513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4643280" y="2997000"/>
            <a:ext cx="28908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 flipH="1">
            <a:off x="3203280" y="2349360"/>
            <a:ext cx="144360" cy="792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611280" y="5516640"/>
            <a:ext cx="46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3008160" y="2925720"/>
            <a:ext cx="2880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 flipH="1">
            <a:off x="5095440" y="2925720"/>
            <a:ext cx="792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 flipH="1" flipV="1">
            <a:off x="3584520" y="3573000"/>
            <a:ext cx="151128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 flipH="1" flipV="1">
            <a:off x="3002040" y="2925360"/>
            <a:ext cx="58248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 flipV="1">
            <a:off x="3564000" y="764640"/>
            <a:ext cx="81288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4376880" y="765000"/>
            <a:ext cx="699840" cy="288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4376880" y="765000"/>
            <a:ext cx="151128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 flipH="1">
            <a:off x="3008160" y="765000"/>
            <a:ext cx="136872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327672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514836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594036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2627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4140360" y="47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4716360" y="907920"/>
            <a:ext cx="12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4788000" y="270828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3203640" y="177336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4859280" y="119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4932360" y="29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3059280" y="213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4859280" y="1413000"/>
            <a:ext cx="144360" cy="28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 flipH="1">
            <a:off x="3634920" y="2924280"/>
            <a:ext cx="2233800" cy="20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493236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 flipH="1">
            <a:off x="3348000" y="1413000"/>
            <a:ext cx="1511280" cy="9172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2987640" y="292428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1619280" y="292428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 flipH="1">
            <a:off x="1835280" y="2349360"/>
            <a:ext cx="1511280" cy="9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2124000" y="2565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2268360" y="2852640"/>
            <a:ext cx="935280" cy="30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3203640" y="3141720"/>
            <a:ext cx="1512720" cy="4968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4716360" y="3645000"/>
            <a:ext cx="2305080" cy="75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298764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4427640" y="357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4859280" y="1484280"/>
            <a:ext cx="77760" cy="1513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 flipV="1">
            <a:off x="4643280" y="2997000"/>
            <a:ext cx="28908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flipH="1">
            <a:off x="3203280" y="2349360"/>
            <a:ext cx="144360" cy="792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3276720" y="2781360"/>
            <a:ext cx="1366560" cy="788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3348000" y="2492280"/>
            <a:ext cx="1440000" cy="8319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3564000" y="2205000"/>
            <a:ext cx="1368360" cy="7905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3851280" y="2060640"/>
            <a:ext cx="1081080" cy="6238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4067280" y="1873080"/>
            <a:ext cx="865080" cy="500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4356000" y="1700280"/>
            <a:ext cx="576360" cy="3315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4643280" y="1557360"/>
            <a:ext cx="216000" cy="123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611280" y="5516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MHLRK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омое с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>
            <a:hlinkClick r:id="rId1" action="ppaction://hlinksldjump"/>
          </p:cNvPr>
          <p:cNvSpPr/>
          <p:nvPr/>
        </p:nvSpPr>
        <p:spPr>
          <a:xfrm>
            <a:off x="7740720" y="54936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10800"/>
                </a:moveTo>
                <a:lnTo>
                  <a:pt x="24566" y="3794"/>
                </a:lnTo>
                <a:lnTo>
                  <a:pt x="245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1331640" y="213372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330066"/>
                </a:solidFill>
                <a:latin typeface="Arial"/>
              </a:rPr>
              <a:t>ЗАДАЧА №4</a:t>
            </a:r>
            <a:endParaRPr b="1" lang="en-US" sz="63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0" dur="indefinite" restart="never" nodeType="tmRoot">
          <p:childTnLst>
            <p:seq>
              <p:cTn id="2521" dur="indefinite" nodeType="mainSeq">
                <p:childTnLst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6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Задача 4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роить сечение призм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ью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 которая задана следо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в плоскост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снования призмы и точкой М, принадлежащей ребр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7" dur="indefinite" restart="never" nodeType="tmRoot">
          <p:childTnLst>
            <p:seq>
              <p:cTn id="2528" dur="indefinite" nodeType="mainSeq">
                <p:childTnLst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33" dur="2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8" dur="1000"/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9" dur="1000" fill="hold"/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900" fill="hold"/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"/>
          <p:cNvSpPr/>
          <p:nvPr/>
        </p:nvSpPr>
        <p:spPr>
          <a:xfrm>
            <a:off x="3419640" y="3500280"/>
            <a:ext cx="100800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 flipV="1">
            <a:off x="4427640" y="3571920"/>
            <a:ext cx="108108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H="1" flipV="1">
            <a:off x="5076720" y="3139920"/>
            <a:ext cx="432000" cy="43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H="1">
            <a:off x="3851280" y="313992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H="1">
            <a:off x="3419280" y="3139920"/>
            <a:ext cx="43164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4427640" y="191592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5508720" y="1411200"/>
            <a:ext cx="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V="1">
            <a:off x="5076720" y="97920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flipV="1">
            <a:off x="3419640" y="133956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3851280" y="97920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3419640" y="1339920"/>
            <a:ext cx="100800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4427640" y="1410840"/>
            <a:ext cx="108108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H="1" flipV="1">
            <a:off x="5076720" y="979200"/>
            <a:ext cx="4320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H="1">
            <a:off x="3851280" y="97956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H="1">
            <a:off x="3419280" y="979560"/>
            <a:ext cx="4316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2771640" y="33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4067280" y="4149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5510520" y="3357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4718160" y="278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3564000" y="2781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2771640" y="1125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4211640" y="1844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5437080" y="112536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4875120" y="54936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3348000" y="620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4716360" y="765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4643280" y="112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3492360" y="4292640"/>
            <a:ext cx="2880000" cy="64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637236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5975280" y="333360"/>
            <a:ext cx="2989440" cy="1513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Методы исследования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4470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Изучение и анализ литературы по данной теме, проведение практических построений, анализ результат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"/>
          <p:cNvSpPr/>
          <p:nvPr/>
        </p:nvSpPr>
        <p:spPr>
          <a:xfrm flipH="1" flipV="1">
            <a:off x="5076720" y="3141360"/>
            <a:ext cx="432000" cy="43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5975280" y="333360"/>
            <a:ext cx="2989440" cy="1513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3419640" y="3500280"/>
            <a:ext cx="100800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 flipV="1">
            <a:off x="4427640" y="3571920"/>
            <a:ext cx="108108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 flipH="1" flipV="1">
            <a:off x="5076720" y="3141360"/>
            <a:ext cx="432000" cy="43164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3851280" y="313992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 flipH="1">
            <a:off x="3419280" y="3139920"/>
            <a:ext cx="43164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 flipV="1">
            <a:off x="4427640" y="191592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 flipV="1">
            <a:off x="5508720" y="1411200"/>
            <a:ext cx="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 flipV="1">
            <a:off x="5076720" y="97920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 flipV="1">
            <a:off x="3419640" y="133956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flipV="1">
            <a:off x="3851280" y="97920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419640" y="1339920"/>
            <a:ext cx="100800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 flipV="1">
            <a:off x="4427640" y="1410840"/>
            <a:ext cx="108108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 flipH="1" flipV="1">
            <a:off x="5076720" y="979200"/>
            <a:ext cx="4320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 flipH="1">
            <a:off x="3851280" y="97956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 flipH="1">
            <a:off x="3419280" y="979560"/>
            <a:ext cx="4316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2771640" y="33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4067280" y="4149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5510520" y="3357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4718160" y="278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3564000" y="2781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2771640" y="1125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4211640" y="1844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5437080" y="112536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4875120" y="54936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3348000" y="620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4716360" y="765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4643280" y="112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flipH="1">
            <a:off x="3492360" y="4292640"/>
            <a:ext cx="2880000" cy="64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637236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5940360" y="38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5867280" y="3789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3" name="" descr=""/>
          <p:cNvPicPr/>
          <p:nvPr/>
        </p:nvPicPr>
        <p:blipFill>
          <a:blip r:embed="rId1"/>
          <a:stretch/>
        </p:blipFill>
        <p:spPr>
          <a:xfrm>
            <a:off x="6300720" y="765000"/>
            <a:ext cx="2176560" cy="505080"/>
          </a:xfrm>
          <a:prstGeom prst="rect">
            <a:avLst/>
          </a:prstGeom>
          <a:ln w="0">
            <a:noFill/>
          </a:ln>
        </p:spPr>
      </p:pic>
      <p:sp>
        <p:nvSpPr>
          <p:cNvPr id="1804" name=""/>
          <p:cNvSpPr/>
          <p:nvPr/>
        </p:nvSpPr>
        <p:spPr>
          <a:xfrm>
            <a:off x="5508720" y="3573360"/>
            <a:ext cx="1008000" cy="100800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2" dur="indefinite" restart="never" nodeType="tmRoot">
          <p:childTnLst>
            <p:seq>
              <p:cTn id="2543" dur="indefinite" nodeType="mainSeq">
                <p:childTnLst>
                  <p:par>
                    <p:cTn id="2544" fill="hold">
                      <p:stCondLst>
                        <p:cond delay="indefinite"/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8" dur="10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9" dur="10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0" dur="9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fill="hold">
                      <p:stCondLst>
                        <p:cond delay="indefinite"/>
                      </p:stCondLst>
                      <p:childTnLst>
                        <p:par>
                          <p:cTn id="2553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6" dur="10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7" dur="10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8" dur="9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"/>
          <p:cNvSpPr/>
          <p:nvPr/>
        </p:nvSpPr>
        <p:spPr>
          <a:xfrm>
            <a:off x="3419640" y="3500280"/>
            <a:ext cx="100800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 flipV="1">
            <a:off x="4427640" y="3571920"/>
            <a:ext cx="108108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flipH="1" flipV="1">
            <a:off x="5076720" y="3139920"/>
            <a:ext cx="432000" cy="43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 flipH="1">
            <a:off x="3851280" y="313992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flipH="1">
            <a:off x="3419280" y="3139920"/>
            <a:ext cx="43164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V="1">
            <a:off x="4427640" y="191592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flipV="1">
            <a:off x="5508720" y="1411200"/>
            <a:ext cx="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 flipV="1">
            <a:off x="5076720" y="97920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3419640" y="133956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 flipV="1">
            <a:off x="3851280" y="97920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3419640" y="1339920"/>
            <a:ext cx="100800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 flipV="1">
            <a:off x="4427640" y="1410840"/>
            <a:ext cx="108108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 flipH="1" flipV="1">
            <a:off x="5076720" y="979200"/>
            <a:ext cx="4320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 flipH="1">
            <a:off x="3851280" y="97956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 flipH="1">
            <a:off x="3419280" y="979560"/>
            <a:ext cx="4316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2771640" y="33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4067280" y="4149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5510520" y="3357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4718160" y="278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3564000" y="2781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2771640" y="1125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4211640" y="1844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437080" y="112536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4875120" y="54936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3348000" y="620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4716360" y="765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4643280" y="112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 flipH="1">
            <a:off x="3492360" y="4292640"/>
            <a:ext cx="2880000" cy="64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637236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5508720" y="3573360"/>
            <a:ext cx="1008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5940360" y="38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5867280" y="3789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5497560" y="2421000"/>
            <a:ext cx="730080" cy="187164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5076720" y="1341360"/>
            <a:ext cx="478080" cy="122400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5292720" y="2133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5148360" y="1844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5975280" y="333360"/>
            <a:ext cx="2989440" cy="1513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2" name="" descr=""/>
          <p:cNvPicPr/>
          <p:nvPr/>
        </p:nvPicPr>
        <p:blipFill>
          <a:blip r:embed="rId1"/>
          <a:stretch/>
        </p:blipFill>
        <p:spPr>
          <a:xfrm>
            <a:off x="6084720" y="765000"/>
            <a:ext cx="26654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0" dur="indefinite" restart="never" nodeType="tmRoot">
          <p:childTnLst>
            <p:seq>
              <p:cTn id="2561" dur="indefinite" nodeType="mainSeq">
                <p:childTnLst>
                  <p:par>
                    <p:cTn id="2562" fill="hold">
                      <p:stCondLst>
                        <p:cond delay="indefinite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6" dur="10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7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9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4" dur="10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9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"/>
          <p:cNvSpPr/>
          <p:nvPr/>
        </p:nvSpPr>
        <p:spPr>
          <a:xfrm>
            <a:off x="3419640" y="3500280"/>
            <a:ext cx="100800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 flipV="1">
            <a:off x="4427640" y="3571920"/>
            <a:ext cx="108108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 flipH="1" flipV="1">
            <a:off x="5076720" y="3139920"/>
            <a:ext cx="432000" cy="43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 flipH="1">
            <a:off x="3851280" y="313992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 flipH="1">
            <a:off x="3419280" y="3139920"/>
            <a:ext cx="43164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 flipV="1">
            <a:off x="4427640" y="191592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 flipV="1">
            <a:off x="5508720" y="1411200"/>
            <a:ext cx="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 flipV="1">
            <a:off x="5076720" y="97920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 flipV="1">
            <a:off x="3419640" y="133956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 flipV="1">
            <a:off x="3851280" y="97920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3419640" y="1339920"/>
            <a:ext cx="100800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 flipV="1">
            <a:off x="4427640" y="1410840"/>
            <a:ext cx="108108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 flipH="1" flipV="1">
            <a:off x="5076720" y="979200"/>
            <a:ext cx="4320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 flipH="1">
            <a:off x="3851280" y="97956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 flipH="1">
            <a:off x="3419280" y="979560"/>
            <a:ext cx="4316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2771640" y="33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067280" y="4149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5510520" y="3357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4718160" y="278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3564000" y="2781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2771640" y="1125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211640" y="1844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5437080" y="112536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4875120" y="54936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3348000" y="620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4716360" y="765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643280" y="112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 flipH="1">
            <a:off x="1618920" y="4292640"/>
            <a:ext cx="4753080" cy="1071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637236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5508720" y="3573360"/>
            <a:ext cx="1008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5940360" y="38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5867280" y="3789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5497560" y="2421000"/>
            <a:ext cx="73008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5076720" y="1341360"/>
            <a:ext cx="420840" cy="107964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5292720" y="2133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5148360" y="1844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 flipH="1">
            <a:off x="1763280" y="3573360"/>
            <a:ext cx="3745080" cy="175752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1332000" y="5013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1476360" y="472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5975280" y="333360"/>
            <a:ext cx="2989440" cy="1513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3" name="" descr=""/>
          <p:cNvPicPr/>
          <p:nvPr/>
        </p:nvPicPr>
        <p:blipFill>
          <a:blip r:embed="rId1"/>
          <a:stretch/>
        </p:blipFill>
        <p:spPr>
          <a:xfrm>
            <a:off x="6300720" y="765000"/>
            <a:ext cx="230508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8" dur="indefinite" restart="never" nodeType="tmRoot">
          <p:childTnLst>
            <p:seq>
              <p:cTn id="2579" dur="indefinite" nodeType="mainSeq">
                <p:childTnLst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4" dur="10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5" dur="10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6" dur="9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"/>
          <p:cNvSpPr/>
          <p:nvPr/>
        </p:nvSpPr>
        <p:spPr>
          <a:xfrm>
            <a:off x="3419640" y="3500280"/>
            <a:ext cx="100800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4427640" y="3571920"/>
            <a:ext cx="108108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 flipH="1" flipV="1">
            <a:off x="5076720" y="3139920"/>
            <a:ext cx="432000" cy="43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 flipH="1">
            <a:off x="3851280" y="313992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3419280" y="3139920"/>
            <a:ext cx="43164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 flipV="1">
            <a:off x="4427640" y="191592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 flipV="1">
            <a:off x="5508720" y="1411200"/>
            <a:ext cx="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5076720" y="97920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 flipV="1">
            <a:off x="3419640" y="133956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 flipV="1">
            <a:off x="3851280" y="97920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3419640" y="1339920"/>
            <a:ext cx="100800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 flipV="1">
            <a:off x="4427640" y="1410840"/>
            <a:ext cx="108108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 flipH="1" flipV="1">
            <a:off x="5076720" y="979200"/>
            <a:ext cx="4320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 flipH="1">
            <a:off x="3851280" y="97956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 flipH="1">
            <a:off x="3419280" y="979560"/>
            <a:ext cx="4316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2771640" y="33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067280" y="4149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5510520" y="3357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4718160" y="278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3564000" y="2781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2771640" y="1125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4211640" y="1844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5437080" y="112536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4875120" y="54936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3348000" y="620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4716360" y="765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4643280" y="112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 flipH="1">
            <a:off x="1618920" y="4292640"/>
            <a:ext cx="4753080" cy="1071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637236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5508720" y="3573360"/>
            <a:ext cx="1008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5940360" y="38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5867280" y="3789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5497560" y="2421000"/>
            <a:ext cx="73008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5076720" y="1341360"/>
            <a:ext cx="420840" cy="107964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5292720" y="2133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5148360" y="1844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 flipH="1">
            <a:off x="1763280" y="3573360"/>
            <a:ext cx="3745080" cy="175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1332000" y="5013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1476360" y="472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 flipV="1">
            <a:off x="1835280" y="2420640"/>
            <a:ext cx="3673440" cy="287964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428472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4067280" y="2708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5975280" y="333360"/>
            <a:ext cx="2989440" cy="1513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7" name="" descr=""/>
          <p:cNvPicPr/>
          <p:nvPr/>
        </p:nvPicPr>
        <p:blipFill>
          <a:blip r:embed="rId1"/>
          <a:stretch/>
        </p:blipFill>
        <p:spPr>
          <a:xfrm>
            <a:off x="6156360" y="765000"/>
            <a:ext cx="259236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8" dur="indefinite" restart="never" nodeType="tmRoot">
          <p:childTnLst>
            <p:seq>
              <p:cTn id="2589" dur="indefinite" nodeType="mainSeq">
                <p:childTnLst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4" dur="10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5" dur="10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6" dur="9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"/>
          <p:cNvSpPr/>
          <p:nvPr/>
        </p:nvSpPr>
        <p:spPr>
          <a:xfrm>
            <a:off x="3419640" y="3500280"/>
            <a:ext cx="100800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4427640" y="3571920"/>
            <a:ext cx="108108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 flipH="1" flipV="1">
            <a:off x="5076720" y="3139920"/>
            <a:ext cx="432000" cy="43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 flipH="1">
            <a:off x="3851280" y="313992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 flipH="1">
            <a:off x="3419280" y="3139920"/>
            <a:ext cx="43164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V="1">
            <a:off x="4427640" y="191592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V="1">
            <a:off x="5508720" y="1411200"/>
            <a:ext cx="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5076720" y="97920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 flipV="1">
            <a:off x="3419640" y="133956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 flipV="1">
            <a:off x="3851280" y="97920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3419640" y="1339920"/>
            <a:ext cx="100800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 flipV="1">
            <a:off x="4427640" y="1410840"/>
            <a:ext cx="108108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 flipH="1" flipV="1">
            <a:off x="5076720" y="979200"/>
            <a:ext cx="4320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 flipH="1">
            <a:off x="3851280" y="97956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 flipH="1">
            <a:off x="3419280" y="979560"/>
            <a:ext cx="4316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2771640" y="33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4067280" y="4149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5510520" y="3357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4718160" y="278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3564000" y="2781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2771640" y="1125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4211640" y="1844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5437080" y="112536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4875120" y="54936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3348000" y="620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4716360" y="765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4643280" y="112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 flipH="1">
            <a:off x="1618920" y="4292640"/>
            <a:ext cx="4753080" cy="1071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637236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5508720" y="3573360"/>
            <a:ext cx="1008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5940360" y="38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5867280" y="3789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5497560" y="2421000"/>
            <a:ext cx="73008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076720" y="1341360"/>
            <a:ext cx="420840" cy="107964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5292720" y="2133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5148360" y="1844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 flipH="1">
            <a:off x="1763280" y="3573360"/>
            <a:ext cx="3745080" cy="175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1332000" y="5013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1476360" y="472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 flipV="1">
            <a:off x="1835280" y="3268800"/>
            <a:ext cx="2592360" cy="20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428472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4067280" y="2708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 flipV="1">
            <a:off x="4427640" y="2420640"/>
            <a:ext cx="1081080" cy="847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3419640" y="3500280"/>
            <a:ext cx="2520720" cy="145584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5076720" y="458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4859280" y="4005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5975280" y="333360"/>
            <a:ext cx="2989440" cy="1513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5" name="" descr=""/>
          <p:cNvPicPr/>
          <p:nvPr/>
        </p:nvPicPr>
        <p:blipFill>
          <a:blip r:embed="rId1"/>
          <a:stretch/>
        </p:blipFill>
        <p:spPr>
          <a:xfrm>
            <a:off x="6372360" y="836640"/>
            <a:ext cx="21812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8" dur="indefinite" restart="never" nodeType="tmRoot">
          <p:childTnLst>
            <p:seq>
              <p:cTn id="2599" dur="indefinite" nodeType="mainSeq">
                <p:childTnLst>
                  <p:par>
                    <p:cTn id="2600" fill="hold">
                      <p:stCondLst>
                        <p:cond delay="indefinite"/>
                      </p:stCondLst>
                      <p:childTnLst>
                        <p:par>
                          <p:cTn id="2601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4" dur="10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5" dur="10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9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"/>
          <p:cNvSpPr/>
          <p:nvPr/>
        </p:nvSpPr>
        <p:spPr>
          <a:xfrm>
            <a:off x="3419640" y="3500280"/>
            <a:ext cx="100800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 flipV="1">
            <a:off x="4427640" y="3571920"/>
            <a:ext cx="108108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 flipH="1" flipV="1">
            <a:off x="5076720" y="3139920"/>
            <a:ext cx="432000" cy="43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 flipH="1">
            <a:off x="3851280" y="313992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 flipH="1">
            <a:off x="3419280" y="3139920"/>
            <a:ext cx="43164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 flipV="1">
            <a:off x="4427640" y="191592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 flipV="1">
            <a:off x="5508720" y="1411200"/>
            <a:ext cx="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 flipV="1">
            <a:off x="5076720" y="97920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3419640" y="133956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 flipV="1">
            <a:off x="3851280" y="97920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3419640" y="1339920"/>
            <a:ext cx="100800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 flipV="1">
            <a:off x="4427640" y="1410840"/>
            <a:ext cx="108108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 flipH="1" flipV="1">
            <a:off x="5076720" y="979200"/>
            <a:ext cx="4320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 flipH="1">
            <a:off x="3851280" y="97956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 flipH="1">
            <a:off x="3419280" y="979560"/>
            <a:ext cx="4316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5975280" y="333360"/>
            <a:ext cx="2989440" cy="1513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2771640" y="33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4067280" y="4149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5510520" y="3357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4718160" y="278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3564000" y="2781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2771640" y="1125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4211640" y="1844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5437080" y="112536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4875120" y="54936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3348000" y="620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4716360" y="765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4643280" y="112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 flipH="1">
            <a:off x="1618920" y="4292640"/>
            <a:ext cx="4753080" cy="1071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637236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5508720" y="3573360"/>
            <a:ext cx="1008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5940360" y="38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5867280" y="3789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5497560" y="2421000"/>
            <a:ext cx="73008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5076720" y="1341360"/>
            <a:ext cx="420840" cy="107964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5292720" y="2133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5148360" y="1844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1763280" y="3573360"/>
            <a:ext cx="3745080" cy="175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1332000" y="5013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1476360" y="472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 flipV="1">
            <a:off x="1835280" y="3268800"/>
            <a:ext cx="2592360" cy="20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428472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4067280" y="2708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 flipV="1">
            <a:off x="4427640" y="2420640"/>
            <a:ext cx="1081080" cy="847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3419640" y="3500280"/>
            <a:ext cx="2520720" cy="145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5076720" y="458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4859280" y="4005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 flipH="1" flipV="1">
            <a:off x="3419640" y="1557360"/>
            <a:ext cx="1800000" cy="29512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3059280" y="1052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2916360" y="1413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6" name="" descr=""/>
          <p:cNvPicPr/>
          <p:nvPr/>
        </p:nvPicPr>
        <p:blipFill>
          <a:blip r:embed="rId1"/>
          <a:stretch/>
        </p:blipFill>
        <p:spPr>
          <a:xfrm>
            <a:off x="6227640" y="765000"/>
            <a:ext cx="244800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8" dur="indefinite" restart="never" nodeType="tmRoot">
          <p:childTnLst>
            <p:seq>
              <p:cTn id="2609" dur="indefinite" nodeType="mainSeq">
                <p:childTnLst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4" dur="10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9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"/>
          <p:cNvSpPr/>
          <p:nvPr/>
        </p:nvSpPr>
        <p:spPr>
          <a:xfrm>
            <a:off x="3419640" y="3500280"/>
            <a:ext cx="100800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 flipV="1">
            <a:off x="4427640" y="3571920"/>
            <a:ext cx="108108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 flipH="1" flipV="1">
            <a:off x="5076720" y="3139920"/>
            <a:ext cx="432000" cy="43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 flipH="1">
            <a:off x="3851280" y="313992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 flipH="1">
            <a:off x="3419280" y="3139920"/>
            <a:ext cx="43164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 flipV="1">
            <a:off x="4427640" y="191592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 flipV="1">
            <a:off x="5508720" y="1411200"/>
            <a:ext cx="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5076720" y="97920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 flipV="1">
            <a:off x="3419640" y="133956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3851280" y="97920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3419640" y="1339920"/>
            <a:ext cx="100800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4427640" y="1410840"/>
            <a:ext cx="108108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 flipH="1" flipV="1">
            <a:off x="5076720" y="979200"/>
            <a:ext cx="4320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 flipH="1">
            <a:off x="3851280" y="97956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 flipH="1">
            <a:off x="3419280" y="979560"/>
            <a:ext cx="4316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2771640" y="33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4067280" y="4149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5510520" y="3357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4718160" y="278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3564000" y="2781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2771640" y="1125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4211640" y="1844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5437080" y="112536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4875120" y="54936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3348000" y="620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4716360" y="765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4643280" y="112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 flipH="1">
            <a:off x="610920" y="4292640"/>
            <a:ext cx="5761080" cy="129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637236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5508720" y="3573360"/>
            <a:ext cx="1008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5940360" y="38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5867280" y="3789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5497560" y="2421000"/>
            <a:ext cx="73008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5076720" y="1341360"/>
            <a:ext cx="420840" cy="107964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5292720" y="2133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5148360" y="1844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1763280" y="3573360"/>
            <a:ext cx="3745080" cy="175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1332000" y="5013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1476360" y="472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 flipV="1">
            <a:off x="1835280" y="3268800"/>
            <a:ext cx="2592360" cy="20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428472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4067280" y="2708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 flipV="1">
            <a:off x="4427640" y="2420640"/>
            <a:ext cx="1081080" cy="847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3419640" y="3500280"/>
            <a:ext cx="2520720" cy="145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5076720" y="458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4859280" y="4005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 flipH="1" flipV="1">
            <a:off x="4431960" y="3212640"/>
            <a:ext cx="833400" cy="13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3059280" y="1052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2916360" y="1413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 flipH="1" flipV="1">
            <a:off x="3419640" y="1557360"/>
            <a:ext cx="1054080" cy="1727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 flipH="1">
            <a:off x="826920" y="3500280"/>
            <a:ext cx="259272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5975280" y="333360"/>
            <a:ext cx="2989440" cy="1513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611280" y="522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684360" y="494172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 flipV="1">
            <a:off x="3348000" y="1052280"/>
            <a:ext cx="474840" cy="64764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539640" y="1628640"/>
            <a:ext cx="2849760" cy="468000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3708360" y="98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4" name="" descr=""/>
          <p:cNvPicPr/>
          <p:nvPr/>
        </p:nvPicPr>
        <p:blipFill>
          <a:blip r:embed="rId1"/>
          <a:stretch/>
        </p:blipFill>
        <p:spPr>
          <a:xfrm>
            <a:off x="6372360" y="907920"/>
            <a:ext cx="223200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8" dur="indefinite" restart="never" nodeType="tmRoot">
          <p:childTnLst>
            <p:seq>
              <p:cTn id="2619" dur="indefinite" nodeType="mainSeq">
                <p:childTnLst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4" dur="1000"/>
                                        <p:tgtEl>
                                          <p:spTgt spid="20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5" dur="10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6" dur="9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2" dur="10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3" dur="10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4" dur="9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"/>
          <p:cNvSpPr/>
          <p:nvPr/>
        </p:nvSpPr>
        <p:spPr>
          <a:xfrm>
            <a:off x="3419640" y="3500280"/>
            <a:ext cx="100800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 flipV="1">
            <a:off x="4427640" y="3571920"/>
            <a:ext cx="108108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 flipH="1" flipV="1">
            <a:off x="5076720" y="3139920"/>
            <a:ext cx="432000" cy="43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 flipH="1">
            <a:off x="3851280" y="313992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 flipH="1">
            <a:off x="3419280" y="3139920"/>
            <a:ext cx="43164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 flipV="1">
            <a:off x="4427640" y="191592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 flipV="1">
            <a:off x="5508720" y="1411200"/>
            <a:ext cx="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 flipV="1">
            <a:off x="5076720" y="97920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 flipV="1">
            <a:off x="3419640" y="133956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 flipV="1">
            <a:off x="3851280" y="97920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3419640" y="1339920"/>
            <a:ext cx="100800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 flipV="1">
            <a:off x="4427640" y="1410840"/>
            <a:ext cx="108108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 flipH="1" flipV="1">
            <a:off x="5076720" y="979200"/>
            <a:ext cx="4320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 flipH="1">
            <a:off x="3851280" y="97956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3419280" y="979560"/>
            <a:ext cx="4316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2771640" y="33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4067280" y="4149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5510520" y="3357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4718160" y="278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3564000" y="2781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2771640" y="1125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4211640" y="1844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5437080" y="112536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4875120" y="54936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3348000" y="620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4716360" y="765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4643280" y="112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 flipH="1">
            <a:off x="610920" y="4292640"/>
            <a:ext cx="5761080" cy="129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637236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5508720" y="3573360"/>
            <a:ext cx="1008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5940360" y="38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5867280" y="3789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5497560" y="2421000"/>
            <a:ext cx="73008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5076720" y="1341360"/>
            <a:ext cx="420840" cy="107964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5292720" y="2133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5148360" y="1844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 flipH="1">
            <a:off x="1763280" y="3573360"/>
            <a:ext cx="3745080" cy="175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1332000" y="5013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1476360" y="472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 flipV="1">
            <a:off x="1835280" y="3268800"/>
            <a:ext cx="2592360" cy="20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428472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4067280" y="2708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 flipV="1">
            <a:off x="4427640" y="2420640"/>
            <a:ext cx="1081080" cy="847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3419640" y="3500280"/>
            <a:ext cx="2520720" cy="145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5076720" y="458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4859280" y="4005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 flipH="1" flipV="1">
            <a:off x="4431960" y="3212640"/>
            <a:ext cx="833400" cy="13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3059280" y="1052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2916360" y="1413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 flipH="1" flipV="1">
            <a:off x="3419640" y="1557360"/>
            <a:ext cx="1054080" cy="1727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826920" y="3500280"/>
            <a:ext cx="259272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5975280" y="333360"/>
            <a:ext cx="2989440" cy="1513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611280" y="522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684360" y="494172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V="1">
            <a:off x="3348000" y="1052280"/>
            <a:ext cx="474840" cy="64764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 flipV="1">
            <a:off x="539640" y="1628640"/>
            <a:ext cx="2849760" cy="468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3708360" y="98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3851280" y="1052640"/>
            <a:ext cx="1225440" cy="2887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"/>
          <p:cNvSpPr/>
          <p:nvPr/>
        </p:nvSpPr>
        <p:spPr>
          <a:xfrm>
            <a:off x="3419640" y="3500280"/>
            <a:ext cx="100800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 flipV="1">
            <a:off x="4427640" y="3571920"/>
            <a:ext cx="108108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 flipH="1" flipV="1">
            <a:off x="5076720" y="3139920"/>
            <a:ext cx="432000" cy="43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 flipH="1">
            <a:off x="3851280" y="313992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 flipH="1">
            <a:off x="3419280" y="3139920"/>
            <a:ext cx="43164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 flipV="1">
            <a:off x="4427640" y="191592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 flipV="1">
            <a:off x="5508720" y="1411200"/>
            <a:ext cx="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 flipV="1">
            <a:off x="5076720" y="97920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 flipV="1">
            <a:off x="3419640" y="133956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 flipV="1">
            <a:off x="3851280" y="97920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3419640" y="1339920"/>
            <a:ext cx="100800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 flipV="1">
            <a:off x="4427640" y="1410840"/>
            <a:ext cx="108108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 flipH="1" flipV="1">
            <a:off x="5076720" y="979200"/>
            <a:ext cx="4320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 flipH="1">
            <a:off x="3851280" y="97956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 flipH="1">
            <a:off x="3419280" y="979560"/>
            <a:ext cx="4316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2771640" y="33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4067280" y="4149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5510520" y="3357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4718160" y="278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3564000" y="2781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2771640" y="1125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4211640" y="1844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5437080" y="112536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4875120" y="54936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3348000" y="620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4716360" y="765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4643280" y="112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610920" y="4292640"/>
            <a:ext cx="5761080" cy="129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637236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5508720" y="3573360"/>
            <a:ext cx="1008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5940360" y="38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5867280" y="3789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5497560" y="2421000"/>
            <a:ext cx="73008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5076720" y="1341360"/>
            <a:ext cx="420840" cy="107964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5292720" y="2133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5148360" y="1844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 flipH="1">
            <a:off x="1763280" y="3573360"/>
            <a:ext cx="3745080" cy="175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1332000" y="5013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1476360" y="472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 flipV="1">
            <a:off x="1835280" y="3268800"/>
            <a:ext cx="2592360" cy="20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428472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4067280" y="2708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 flipV="1">
            <a:off x="4427640" y="2420640"/>
            <a:ext cx="1081080" cy="847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3419640" y="3500280"/>
            <a:ext cx="2520720" cy="145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5076720" y="458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4859280" y="4005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 flipH="1" flipV="1">
            <a:off x="4431960" y="3212640"/>
            <a:ext cx="833400" cy="13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3059280" y="1052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2916360" y="1413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 flipH="1" flipV="1">
            <a:off x="3419640" y="1557360"/>
            <a:ext cx="1054080" cy="1727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 flipH="1">
            <a:off x="826920" y="3500280"/>
            <a:ext cx="259272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5975280" y="333360"/>
            <a:ext cx="2989440" cy="1513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611280" y="522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684360" y="494172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 flipV="1">
            <a:off x="3348000" y="1052280"/>
            <a:ext cx="474840" cy="64764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 flipV="1">
            <a:off x="539640" y="1628640"/>
            <a:ext cx="2849760" cy="468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3708360" y="98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3851280" y="1052640"/>
            <a:ext cx="1225440" cy="2887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3564000" y="1413000"/>
            <a:ext cx="996840" cy="1728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3708360" y="1268280"/>
            <a:ext cx="998640" cy="1729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3851280" y="1052640"/>
            <a:ext cx="1039680" cy="1800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4140360" y="1125360"/>
            <a:ext cx="914400" cy="1582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4427640" y="1197000"/>
            <a:ext cx="831600" cy="1440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4716360" y="1268280"/>
            <a:ext cx="706680" cy="1224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7" name="" descr=""/>
          <p:cNvPicPr/>
          <p:nvPr/>
        </p:nvPicPr>
        <p:blipFill>
          <a:blip r:embed="rId1"/>
          <a:stretch/>
        </p:blipFill>
        <p:spPr>
          <a:xfrm>
            <a:off x="6012000" y="765000"/>
            <a:ext cx="2881080" cy="835200"/>
          </a:xfrm>
          <a:prstGeom prst="rect">
            <a:avLst/>
          </a:prstGeom>
          <a:ln w="0">
            <a:noFill/>
          </a:ln>
        </p:spPr>
      </p:pic>
      <p:sp>
        <p:nvSpPr>
          <p:cNvPr id="2208" name="">
            <a:hlinkClick r:id="rId2" action="ppaction://hlinksldjump"/>
          </p:cNvPr>
          <p:cNvSpPr/>
          <p:nvPr/>
        </p:nvSpPr>
        <p:spPr>
          <a:xfrm>
            <a:off x="7451640" y="5373720"/>
            <a:ext cx="936720" cy="57636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97" h="21600">
                <a:moveTo>
                  <a:pt x="0" y="0"/>
                </a:moveTo>
                <a:lnTo>
                  <a:pt x="35097" y="0"/>
                </a:lnTo>
                <a:lnTo>
                  <a:pt x="35097" y="21600"/>
                </a:lnTo>
                <a:lnTo>
                  <a:pt x="0" y="21600"/>
                </a:lnTo>
                <a:close/>
              </a:path>
              <a:path fill="lightenLess" w="35097" h="21600">
                <a:moveTo>
                  <a:pt x="0" y="0"/>
                </a:moveTo>
                <a:lnTo>
                  <a:pt x="35097" y="0"/>
                </a:lnTo>
                <a:lnTo>
                  <a:pt x="33697" y="1400"/>
                </a:lnTo>
                <a:lnTo>
                  <a:pt x="1400" y="1400"/>
                </a:lnTo>
                <a:close/>
              </a:path>
              <a:path fill="darken" w="35097" h="21600">
                <a:moveTo>
                  <a:pt x="35097" y="0"/>
                </a:moveTo>
                <a:lnTo>
                  <a:pt x="35097" y="21600"/>
                </a:lnTo>
                <a:lnTo>
                  <a:pt x="33697" y="20200"/>
                </a:lnTo>
                <a:lnTo>
                  <a:pt x="33697" y="1400"/>
                </a:lnTo>
                <a:close/>
              </a:path>
              <a:path fill="darkenLess" w="35097" h="21600">
                <a:moveTo>
                  <a:pt x="35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97" y="20200"/>
                </a:lnTo>
                <a:close/>
              </a:path>
              <a:path fill="lighten" w="35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97" h="21600">
                <a:moveTo>
                  <a:pt x="10542" y="10800"/>
                </a:moveTo>
                <a:lnTo>
                  <a:pt x="24555" y="3794"/>
                </a:lnTo>
                <a:lnTo>
                  <a:pt x="2455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1258560" y="227664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330066"/>
                </a:solidFill>
                <a:latin typeface="Arial"/>
              </a:rPr>
              <a:t>ЗАДАЧА №5</a:t>
            </a:r>
            <a:endParaRPr b="1" lang="en-US" sz="63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6" dur="indefinite" restart="never" nodeType="tmRoot">
          <p:childTnLst>
            <p:seq>
              <p:cTn id="2637" dur="indefinite" nodeType="mainSeq">
                <p:childTnLst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2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Гипотеза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4470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Существует общие закономерности построения сечени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ЧА 5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Постройте сечение пятиугольной пирамиды РАВС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Е плоскостью, которая задана следом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и точкой К ребра РЕ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3" dur="indefinite" restart="never" nodeType="tmRoot">
          <p:childTnLst>
            <p:seq>
              <p:cTn id="2644" dur="indefinite" nodeType="mainSeq">
                <p:childTnLst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9" dur="2000"/>
                                        <p:tgtEl>
                                          <p:spTgt spid="2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4" dur="1000"/>
                                        <p:tgtEl>
                                          <p:spTgt spid="2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5" dur="1000" fill="hold"/>
                                        <p:tgtEl>
                                          <p:spTgt spid="2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900" fill="hold"/>
                                        <p:tgtEl>
                                          <p:spTgt spid="2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"/>
          <p:cNvSpPr/>
          <p:nvPr/>
        </p:nvSpPr>
        <p:spPr>
          <a:xfrm flipH="1" flipV="1">
            <a:off x="4870080" y="747360"/>
            <a:ext cx="204840" cy="31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 flipV="1">
            <a:off x="3274920" y="765000"/>
            <a:ext cx="1584360" cy="259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 flipH="1" flipV="1">
            <a:off x="4859280" y="764640"/>
            <a:ext cx="1008000" cy="27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2843280" y="765000"/>
            <a:ext cx="2016000" cy="187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 flipV="1">
            <a:off x="4427640" y="765000"/>
            <a:ext cx="431640" cy="1944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 flipV="1">
            <a:off x="3780000" y="4005360"/>
            <a:ext cx="324000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7093080" y="386064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2482920" y="2494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4716360" y="33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5796000" y="33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3059280" y="33577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5003640" y="3789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7093080" y="3860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 flipV="1">
            <a:off x="4211640" y="1341000"/>
            <a:ext cx="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3780000" y="90792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4140360" y="227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2843280" y="2637000"/>
            <a:ext cx="4334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3276720" y="3357720"/>
            <a:ext cx="1800000" cy="50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 flipV="1">
            <a:off x="5076720" y="3499920"/>
            <a:ext cx="7905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 flipH="1" flipV="1">
            <a:off x="4427280" y="2708280"/>
            <a:ext cx="1439640" cy="79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2843280" y="2637000"/>
            <a:ext cx="158436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"/>
          <p:cNvSpPr/>
          <p:nvPr/>
        </p:nvSpPr>
        <p:spPr>
          <a:xfrm flipH="1" flipV="1">
            <a:off x="4870080" y="747360"/>
            <a:ext cx="204840" cy="31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 flipV="1">
            <a:off x="3274920" y="765000"/>
            <a:ext cx="1584360" cy="259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 flipH="1" flipV="1">
            <a:off x="4859280" y="764640"/>
            <a:ext cx="1008000" cy="27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 flipV="1">
            <a:off x="2843280" y="765000"/>
            <a:ext cx="2016000" cy="187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 flipV="1">
            <a:off x="4427640" y="765000"/>
            <a:ext cx="431640" cy="1944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 flipV="1">
            <a:off x="3780000" y="4005360"/>
            <a:ext cx="324000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7308720" y="3860640"/>
            <a:ext cx="4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2482920" y="2494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4716360" y="33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5796000" y="33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3059280" y="33577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5003640" y="3789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6948360" y="38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 flipV="1">
            <a:off x="4211640" y="1341000"/>
            <a:ext cx="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370836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 flipV="1">
            <a:off x="4067280" y="4723920"/>
            <a:ext cx="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3348000" y="4508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4140360" y="227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3276720" y="3357720"/>
            <a:ext cx="1800000" cy="50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 flipV="1">
            <a:off x="5076720" y="3499920"/>
            <a:ext cx="7905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2843280" y="2637000"/>
            <a:ext cx="4334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2843280" y="2637000"/>
            <a:ext cx="1368360" cy="230472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2843280" y="2637000"/>
            <a:ext cx="158436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 flipH="1" flipV="1">
            <a:off x="4427280" y="2708280"/>
            <a:ext cx="1439640" cy="79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539640" y="5013360"/>
            <a:ext cx="2952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468360" y="4941720"/>
            <a:ext cx="2952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468360" y="5084640"/>
            <a:ext cx="8064360" cy="1008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0" name="" descr=""/>
          <p:cNvPicPr/>
          <p:nvPr/>
        </p:nvPicPr>
        <p:blipFill>
          <a:blip r:embed="rId1"/>
          <a:stretch/>
        </p:blipFill>
        <p:spPr>
          <a:xfrm>
            <a:off x="611280" y="5229360"/>
            <a:ext cx="3384360" cy="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8" dur="indefinite" restart="never" nodeType="tmRoot">
          <p:childTnLst>
            <p:seq>
              <p:cTn id="2659" dur="indefinite" nodeType="mainSeq">
                <p:childTnLst>
                  <p:par>
                    <p:cTn id="2660" fill="hold">
                      <p:stCondLst>
                        <p:cond delay="indefinite"/>
                      </p:stCondLst>
                      <p:childTnLst>
                        <p:par>
                          <p:cTn id="2661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4" dur="1000" fill="hold"/>
                                        <p:tgtEl>
                                          <p:spTgt spid="2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5" dur="1000" fill="hold"/>
                                        <p:tgtEl>
                                          <p:spTgt spid="2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6" dur="1000"/>
                                        <p:tgtEl>
                                          <p:spTgt spid="2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"/>
          <p:cNvSpPr/>
          <p:nvPr/>
        </p:nvSpPr>
        <p:spPr>
          <a:xfrm flipH="1" flipV="1">
            <a:off x="4870080" y="747360"/>
            <a:ext cx="204840" cy="31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 flipV="1">
            <a:off x="3274920" y="765000"/>
            <a:ext cx="1584360" cy="259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 flipH="1" flipV="1">
            <a:off x="4859280" y="764640"/>
            <a:ext cx="1008000" cy="27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 flipV="1">
            <a:off x="2843280" y="765000"/>
            <a:ext cx="2016000" cy="187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 flipV="1">
            <a:off x="4427640" y="765000"/>
            <a:ext cx="431640" cy="1944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 flipV="1">
            <a:off x="3780000" y="4005360"/>
            <a:ext cx="324000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7308720" y="3860640"/>
            <a:ext cx="4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2482920" y="2494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4716360" y="33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5796000" y="33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3059280" y="33577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5003640" y="3789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6948360" y="38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 flipV="1">
            <a:off x="4211640" y="1341000"/>
            <a:ext cx="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370836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2843280" y="2637000"/>
            <a:ext cx="1368360" cy="23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 flipV="1">
            <a:off x="4067280" y="4723920"/>
            <a:ext cx="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3348000" y="4508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 flipV="1">
            <a:off x="4067280" y="1341000"/>
            <a:ext cx="144360" cy="338292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4140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4140360" y="227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3276720" y="3357720"/>
            <a:ext cx="1800000" cy="50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 flipV="1">
            <a:off x="5076720" y="3499920"/>
            <a:ext cx="7905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2843280" y="2637000"/>
            <a:ext cx="158436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 flipH="1" flipV="1">
            <a:off x="4427280" y="2708280"/>
            <a:ext cx="1439640" cy="79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539640" y="5013360"/>
            <a:ext cx="2952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539640" y="5084640"/>
            <a:ext cx="7921800" cy="1008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8" name="" descr=""/>
          <p:cNvPicPr/>
          <p:nvPr/>
        </p:nvPicPr>
        <p:blipFill>
          <a:blip r:embed="rId1"/>
          <a:stretch/>
        </p:blipFill>
        <p:spPr>
          <a:xfrm>
            <a:off x="611280" y="5300640"/>
            <a:ext cx="3313080" cy="6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7" dur="indefinite" restart="never" nodeType="tmRoot">
          <p:childTnLst>
            <p:seq>
              <p:cTn id="2668" dur="indefinite" nodeType="mainSeq">
                <p:childTnLst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3" dur="1000" fill="hold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4" dur="1000" fill="hold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5" dur="1000"/>
                                        <p:tgtEl>
                                          <p:spTgt spid="2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"/>
          <p:cNvSpPr/>
          <p:nvPr/>
        </p:nvSpPr>
        <p:spPr>
          <a:xfrm>
            <a:off x="539640" y="5084640"/>
            <a:ext cx="7921800" cy="1008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 flipH="1" flipV="1">
            <a:off x="4870080" y="747360"/>
            <a:ext cx="204840" cy="31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 flipV="1">
            <a:off x="3274920" y="765000"/>
            <a:ext cx="1584360" cy="259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 flipH="1" flipV="1">
            <a:off x="4859280" y="765000"/>
            <a:ext cx="1008000" cy="273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 flipV="1">
            <a:off x="2843280" y="765000"/>
            <a:ext cx="2016000" cy="187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 flipV="1">
            <a:off x="4427640" y="765000"/>
            <a:ext cx="431640" cy="1944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 flipV="1">
            <a:off x="3780000" y="4005360"/>
            <a:ext cx="324000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7308720" y="3860640"/>
            <a:ext cx="4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2482920" y="2494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4716360" y="33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5796000" y="33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3059280" y="33577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5003640" y="3789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6948360" y="38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 flipV="1">
            <a:off x="4211640" y="1341000"/>
            <a:ext cx="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370836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2843280" y="2637000"/>
            <a:ext cx="1368360" cy="23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 flipV="1">
            <a:off x="4067280" y="4723920"/>
            <a:ext cx="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3348000" y="4508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 flipV="1">
            <a:off x="4067280" y="1341000"/>
            <a:ext cx="144360" cy="33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4140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5940360" y="429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4211640" y="134136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4140360" y="227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 flipH="1">
            <a:off x="5076720" y="3500280"/>
            <a:ext cx="7905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3276720" y="3357720"/>
            <a:ext cx="1800000" cy="50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3276720" y="3357720"/>
            <a:ext cx="3456000" cy="100800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2843280" y="2637000"/>
            <a:ext cx="158436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 flipH="1" flipV="1">
            <a:off x="4427280" y="2708280"/>
            <a:ext cx="1439640" cy="79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539640" y="5013360"/>
            <a:ext cx="2952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468360" y="4941720"/>
            <a:ext cx="2952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0" name="" descr=""/>
          <p:cNvPicPr/>
          <p:nvPr/>
        </p:nvPicPr>
        <p:blipFill>
          <a:blip r:embed="rId1"/>
          <a:stretch/>
        </p:blipFill>
        <p:spPr>
          <a:xfrm>
            <a:off x="684360" y="5300640"/>
            <a:ext cx="295092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6" dur="indefinite" restart="never" nodeType="tmRoot">
          <p:childTnLst>
            <p:seq>
              <p:cTn id="2677" dur="indefinite" nodeType="mainSeq">
                <p:childTnLst>
                  <p:par>
                    <p:cTn id="2678" fill="hold">
                      <p:stCondLst>
                        <p:cond delay="indefinite"/>
                      </p:stCondLst>
                      <p:childTnLst>
                        <p:par>
                          <p:cTn id="2679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2" dur="1000" fill="hold"/>
                                        <p:tgtEl>
                                          <p:spTgt spid="2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3" dur="1000" fill="hold"/>
                                        <p:tgtEl>
                                          <p:spTgt spid="2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4" dur="1000"/>
                                        <p:tgtEl>
                                          <p:spTgt spid="2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"/>
          <p:cNvSpPr/>
          <p:nvPr/>
        </p:nvSpPr>
        <p:spPr>
          <a:xfrm>
            <a:off x="539640" y="5084640"/>
            <a:ext cx="7921800" cy="1008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 flipH="1" flipV="1">
            <a:off x="4870080" y="747360"/>
            <a:ext cx="204840" cy="31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 flipV="1">
            <a:off x="3274920" y="765000"/>
            <a:ext cx="1584360" cy="259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 flipH="1" flipV="1">
            <a:off x="4859280" y="764640"/>
            <a:ext cx="1008000" cy="27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 flipV="1">
            <a:off x="2843280" y="765000"/>
            <a:ext cx="2016000" cy="187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 flipV="1">
            <a:off x="4427640" y="765000"/>
            <a:ext cx="431640" cy="1944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 flipV="1">
            <a:off x="3780000" y="4005360"/>
            <a:ext cx="324000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7308720" y="3860640"/>
            <a:ext cx="4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2482920" y="2494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4716360" y="33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5796000" y="33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3059280" y="33577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5003640" y="3789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6948360" y="38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 flipV="1">
            <a:off x="4211640" y="1341000"/>
            <a:ext cx="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370836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2843280" y="2637000"/>
            <a:ext cx="1368360" cy="23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4067280" y="4723920"/>
            <a:ext cx="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3348000" y="4508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 flipV="1">
            <a:off x="4067280" y="1341000"/>
            <a:ext cx="144360" cy="33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4140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3276720" y="3357720"/>
            <a:ext cx="3456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5940360" y="429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4211640" y="1844640"/>
            <a:ext cx="1944720" cy="237636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4932360" y="2492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4211640" y="134136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4140360" y="227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 flipH="1">
            <a:off x="5076720" y="3500280"/>
            <a:ext cx="7905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2843280" y="2637000"/>
            <a:ext cx="158436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 flipH="1" flipV="1">
            <a:off x="4427280" y="2708280"/>
            <a:ext cx="1439640" cy="79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539640" y="5013360"/>
            <a:ext cx="2952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2" name="" descr=""/>
          <p:cNvPicPr/>
          <p:nvPr/>
        </p:nvPicPr>
        <p:blipFill>
          <a:blip r:embed="rId1"/>
          <a:stretch/>
        </p:blipFill>
        <p:spPr>
          <a:xfrm>
            <a:off x="684360" y="5373720"/>
            <a:ext cx="3382920" cy="5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5" dur="indefinite" restart="never" nodeType="tmRoot">
          <p:childTnLst>
            <p:seq>
              <p:cTn id="2686" dur="indefinite" nodeType="mainSeq">
                <p:childTnLst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1" dur="1000" fill="hold"/>
                                        <p:tgtEl>
                                          <p:spTgt spid="2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1000" fill="hold"/>
                                        <p:tgtEl>
                                          <p:spTgt spid="2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3" dur="1000"/>
                                        <p:tgtEl>
                                          <p:spTgt spid="2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"/>
          <p:cNvSpPr/>
          <p:nvPr/>
        </p:nvSpPr>
        <p:spPr>
          <a:xfrm>
            <a:off x="539640" y="5084640"/>
            <a:ext cx="7921800" cy="1008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 flipH="1" flipV="1">
            <a:off x="4870080" y="747360"/>
            <a:ext cx="204840" cy="31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 flipV="1">
            <a:off x="3274920" y="765000"/>
            <a:ext cx="1584360" cy="259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 flipH="1" flipV="1">
            <a:off x="4859280" y="764640"/>
            <a:ext cx="1008000" cy="27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 flipV="1">
            <a:off x="2843280" y="765000"/>
            <a:ext cx="2016000" cy="187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 flipV="1">
            <a:off x="4427640" y="765000"/>
            <a:ext cx="431640" cy="1944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2700360" y="4005360"/>
            <a:ext cx="431964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7308720" y="3860640"/>
            <a:ext cx="4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2482920" y="2494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716360" y="33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5796000" y="33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3059280" y="33577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5003640" y="3789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6948360" y="38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 flipV="1">
            <a:off x="4211640" y="1341000"/>
            <a:ext cx="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370836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2843280" y="2637000"/>
            <a:ext cx="1368360" cy="23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flipV="1">
            <a:off x="4067280" y="4723920"/>
            <a:ext cx="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4140360" y="45813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 flipV="1">
            <a:off x="4067280" y="1341000"/>
            <a:ext cx="144360" cy="33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4140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3276720" y="3357720"/>
            <a:ext cx="3456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5940360" y="429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4211640" y="1844640"/>
            <a:ext cx="1944720" cy="23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4932360" y="2492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2916360" y="4437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 flipH="1" flipV="1">
            <a:off x="4211640" y="1844640"/>
            <a:ext cx="792000" cy="1008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4211640" y="134136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4140360" y="227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 flipV="1">
            <a:off x="5076720" y="3499920"/>
            <a:ext cx="7905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 flipH="1">
            <a:off x="2627280" y="3500280"/>
            <a:ext cx="3240000" cy="158436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2843280" y="2637000"/>
            <a:ext cx="158436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 flipH="1" flipV="1">
            <a:off x="4427280" y="2708280"/>
            <a:ext cx="1439640" cy="79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539640" y="5013360"/>
            <a:ext cx="2952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7" name="" descr=""/>
          <p:cNvPicPr/>
          <p:nvPr/>
        </p:nvPicPr>
        <p:blipFill>
          <a:blip r:embed="rId1"/>
          <a:stretch/>
        </p:blipFill>
        <p:spPr>
          <a:xfrm>
            <a:off x="611280" y="5300640"/>
            <a:ext cx="309708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4" dur="indefinite" restart="never" nodeType="tmRoot">
          <p:childTnLst>
            <p:seq>
              <p:cTn id="2695" dur="indefinite" nodeType="mainSeq">
                <p:childTnLst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0" dur="1000" fill="hold"/>
                                        <p:tgtEl>
                                          <p:spTgt spid="2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1" dur="1000" fill="hold"/>
                                        <p:tgtEl>
                                          <p:spTgt spid="2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2" dur="1000"/>
                                        <p:tgtEl>
                                          <p:spTgt spid="2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"/>
          <p:cNvSpPr/>
          <p:nvPr/>
        </p:nvSpPr>
        <p:spPr>
          <a:xfrm>
            <a:off x="539640" y="5084640"/>
            <a:ext cx="7921800" cy="1008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 flipH="1" flipV="1">
            <a:off x="4870080" y="747360"/>
            <a:ext cx="204840" cy="31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 flipV="1">
            <a:off x="3274920" y="765000"/>
            <a:ext cx="1584360" cy="259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 flipH="1" flipV="1">
            <a:off x="4859280" y="764640"/>
            <a:ext cx="1008000" cy="27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 flipV="1">
            <a:off x="2843280" y="765000"/>
            <a:ext cx="2016000" cy="187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 flipV="1">
            <a:off x="4427640" y="765000"/>
            <a:ext cx="431640" cy="1944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 flipV="1">
            <a:off x="2700360" y="4005360"/>
            <a:ext cx="431964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7308720" y="3860640"/>
            <a:ext cx="4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2482920" y="2494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4716360" y="33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5796000" y="33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3059280" y="33577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5003640" y="3789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6948360" y="38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 flipV="1">
            <a:off x="4211640" y="1341000"/>
            <a:ext cx="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70836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2843280" y="2637000"/>
            <a:ext cx="1368360" cy="23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 flipV="1">
            <a:off x="4067280" y="4723920"/>
            <a:ext cx="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4140360" y="45813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 flipV="1">
            <a:off x="4067280" y="1341000"/>
            <a:ext cx="144360" cy="33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4140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3276720" y="3357720"/>
            <a:ext cx="3456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5940360" y="429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4211640" y="1844640"/>
            <a:ext cx="1944720" cy="23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>
            <a:off x="5076720" y="2565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2916360" y="4437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 flipV="1">
            <a:off x="3348000" y="2276280"/>
            <a:ext cx="2087640" cy="259236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5364000" y="1916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 flipH="1">
            <a:off x="2987280" y="3500280"/>
            <a:ext cx="2879640" cy="15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 flipH="1" flipV="1">
            <a:off x="4211640" y="1844640"/>
            <a:ext cx="792000" cy="1008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4211640" y="134136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4140360" y="227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2843280" y="2637000"/>
            <a:ext cx="158436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 flipH="1" flipV="1">
            <a:off x="4427280" y="2708280"/>
            <a:ext cx="1439640" cy="79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539640" y="5013360"/>
            <a:ext cx="2952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3" name="" descr=""/>
          <p:cNvPicPr/>
          <p:nvPr/>
        </p:nvPicPr>
        <p:blipFill>
          <a:blip r:embed="rId1"/>
          <a:stretch/>
        </p:blipFill>
        <p:spPr>
          <a:xfrm>
            <a:off x="684360" y="5300640"/>
            <a:ext cx="360036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3" dur="indefinite" restart="never" nodeType="tmRoot">
          <p:childTnLst>
            <p:seq>
              <p:cTn id="2704" dur="indefinite" nodeType="mainSeq">
                <p:childTnLst>
                  <p:par>
                    <p:cTn id="2705" fill="hold">
                      <p:stCondLst>
                        <p:cond delay="indefinite"/>
                      </p:stCondLst>
                      <p:childTnLst>
                        <p:par>
                          <p:cTn id="2706" fill="hold">
                            <p:stCondLst>
                              <p:cond delay="0"/>
                            </p:stCondLst>
                            <p:childTnLst>
                              <p:par>
                                <p:cTn id="27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9" dur="1000" fill="hold"/>
                                        <p:tgtEl>
                                          <p:spTgt spid="2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1000" fill="hold"/>
                                        <p:tgtEl>
                                          <p:spTgt spid="2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1" dur="1000"/>
                                        <p:tgtEl>
                                          <p:spTgt spid="2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"/>
          <p:cNvSpPr/>
          <p:nvPr/>
        </p:nvSpPr>
        <p:spPr>
          <a:xfrm>
            <a:off x="539640" y="5084640"/>
            <a:ext cx="7921800" cy="1008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 flipH="1" flipV="1">
            <a:off x="4870080" y="747360"/>
            <a:ext cx="204840" cy="31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 flipV="1">
            <a:off x="3274920" y="765000"/>
            <a:ext cx="1584360" cy="259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 flipH="1" flipV="1">
            <a:off x="4859280" y="764640"/>
            <a:ext cx="1008000" cy="27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 flipV="1">
            <a:off x="2843280" y="765000"/>
            <a:ext cx="2016000" cy="187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 flipV="1">
            <a:off x="4427640" y="765000"/>
            <a:ext cx="431640" cy="1944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 flipV="1">
            <a:off x="2700360" y="4005360"/>
            <a:ext cx="431964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7308720" y="3860640"/>
            <a:ext cx="4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2482920" y="2494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4716360" y="33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5796000" y="33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3059280" y="33577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5003640" y="3789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6948360" y="38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 flipV="1">
            <a:off x="4211640" y="1341000"/>
            <a:ext cx="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370836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2843280" y="2637000"/>
            <a:ext cx="1368360" cy="23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 flipV="1">
            <a:off x="4067280" y="4723920"/>
            <a:ext cx="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4140360" y="45813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 flipV="1">
            <a:off x="4067280" y="1341000"/>
            <a:ext cx="144360" cy="33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4140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3276720" y="3357720"/>
            <a:ext cx="3456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5940360" y="429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4211640" y="1844640"/>
            <a:ext cx="1944720" cy="23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5076720" y="2565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2916360" y="4437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 flipV="1">
            <a:off x="3348000" y="2276280"/>
            <a:ext cx="2087640" cy="25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>
            <a:off x="5364000" y="1916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 flipH="1">
            <a:off x="2987280" y="3429000"/>
            <a:ext cx="287964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5796000" y="3429000"/>
            <a:ext cx="1152360" cy="64764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6516720" y="3573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 flipV="1">
            <a:off x="5003640" y="2276640"/>
            <a:ext cx="432000" cy="5047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 flipH="1" flipV="1">
            <a:off x="4211640" y="1844640"/>
            <a:ext cx="792000" cy="1008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4211640" y="134136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4140360" y="227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4427640" y="2708280"/>
            <a:ext cx="1368360" cy="720720"/>
          </a:xfrm>
          <a:prstGeom prst="line">
            <a:avLst/>
          </a:prstGeom>
          <a:ln w="3816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2843280" y="2637000"/>
            <a:ext cx="158436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 flipV="1">
            <a:off x="5867280" y="34290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539640" y="5013360"/>
            <a:ext cx="2952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3" name="" descr=""/>
          <p:cNvPicPr/>
          <p:nvPr/>
        </p:nvPicPr>
        <p:blipFill>
          <a:blip r:embed="rId1"/>
          <a:stretch/>
        </p:blipFill>
        <p:spPr>
          <a:xfrm>
            <a:off x="684360" y="5229360"/>
            <a:ext cx="280800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2" dur="indefinite" restart="never" nodeType="tmRoot">
          <p:childTnLst>
            <p:seq>
              <p:cTn id="2713" dur="indefinite" nodeType="mainSeq">
                <p:childTnLst>
                  <p:par>
                    <p:cTn id="2714" fill="hold">
                      <p:stCondLst>
                        <p:cond delay="indefinite"/>
                      </p:stCondLst>
                      <p:childTnLst>
                        <p:par>
                          <p:cTn id="2715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8" dur="1000" fill="hold"/>
                                        <p:tgtEl>
                                          <p:spTgt spid="2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9" dur="1000" fill="hold"/>
                                        <p:tgtEl>
                                          <p:spTgt spid="2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0" dur="1000"/>
                                        <p:tgtEl>
                                          <p:spTgt spid="2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"/>
          <p:cNvSpPr/>
          <p:nvPr/>
        </p:nvSpPr>
        <p:spPr>
          <a:xfrm>
            <a:off x="539640" y="5084640"/>
            <a:ext cx="7921800" cy="1008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 flipH="1" flipV="1">
            <a:off x="4870080" y="747360"/>
            <a:ext cx="204840" cy="31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 flipV="1">
            <a:off x="3274920" y="765000"/>
            <a:ext cx="1584360" cy="259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 flipH="1" flipV="1">
            <a:off x="4859280" y="764640"/>
            <a:ext cx="1008000" cy="27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 flipV="1">
            <a:off x="2843280" y="765000"/>
            <a:ext cx="2016000" cy="187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 flipV="1">
            <a:off x="4427640" y="765000"/>
            <a:ext cx="431640" cy="1944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 flipV="1">
            <a:off x="2700360" y="4005360"/>
            <a:ext cx="431964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7308720" y="3860640"/>
            <a:ext cx="4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2482920" y="2494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4716360" y="33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5796000" y="33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3059280" y="33577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5003640" y="3789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6948360" y="38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 flipV="1">
            <a:off x="4211640" y="1341000"/>
            <a:ext cx="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370836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2843280" y="2637000"/>
            <a:ext cx="1368360" cy="23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 flipV="1">
            <a:off x="4067280" y="4723920"/>
            <a:ext cx="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4140360" y="45813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 flipV="1">
            <a:off x="4067280" y="1341000"/>
            <a:ext cx="144360" cy="33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4140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3276720" y="3357720"/>
            <a:ext cx="3456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5940360" y="429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4211640" y="1844640"/>
            <a:ext cx="1944720" cy="23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5076720" y="2565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2916360" y="4437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 flipV="1">
            <a:off x="3348000" y="2276280"/>
            <a:ext cx="2087640" cy="25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5364000" y="1916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 flipH="1">
            <a:off x="2987280" y="3429000"/>
            <a:ext cx="287964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5796000" y="3429000"/>
            <a:ext cx="115236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6516720" y="3573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 flipH="1" flipV="1">
            <a:off x="5435640" y="2276280"/>
            <a:ext cx="1441440" cy="180180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4572000" y="170028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 flipH="1" flipV="1">
            <a:off x="4716360" y="1412640"/>
            <a:ext cx="719280" cy="86364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 flipH="1" flipV="1">
            <a:off x="4211640" y="1844640"/>
            <a:ext cx="792000" cy="1008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 flipV="1">
            <a:off x="5003640" y="2276640"/>
            <a:ext cx="432000" cy="5047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4211640" y="134136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4140360" y="227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2843280" y="2637000"/>
            <a:ext cx="158436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 flipH="1" flipV="1">
            <a:off x="4427280" y="2708280"/>
            <a:ext cx="1439640" cy="79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539640" y="5013360"/>
            <a:ext cx="2952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5" name="" descr=""/>
          <p:cNvPicPr/>
          <p:nvPr/>
        </p:nvPicPr>
        <p:blipFill>
          <a:blip r:embed="rId1"/>
          <a:stretch/>
        </p:blipFill>
        <p:spPr>
          <a:xfrm>
            <a:off x="684360" y="5300640"/>
            <a:ext cx="338292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1" dur="indefinite" restart="never" nodeType="tmRoot">
          <p:childTnLst>
            <p:seq>
              <p:cTn id="2722" dur="indefinite" nodeType="mainSeq">
                <p:childTnLst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7" dur="1000" fill="hold"/>
                                        <p:tgtEl>
                                          <p:spTgt spid="2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1000" fill="hold"/>
                                        <p:tgtEl>
                                          <p:spTgt spid="2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9" dur="1000"/>
                                        <p:tgtEl>
                                          <p:spTgt spid="2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4" dur="1000" fill="hold"/>
                                        <p:tgtEl>
                                          <p:spTgt spid="2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1000" fill="hold"/>
                                        <p:tgtEl>
                                          <p:spTgt spid="2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6" dur="1000"/>
                                        <p:tgtEl>
                                          <p:spTgt spid="2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строение сеч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4470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строение сечений многогранников можно осуществлять на основании аксиом стереометрии и теорем о параллельности прямых и плоскост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месте с тем, существуют определенные методы построения плоских сечений многогранников. Наиболее эффективными являются следующие три метод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метод след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метод внутреннего проецирова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комбинированный мет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"/>
          <p:cNvSpPr/>
          <p:nvPr/>
        </p:nvSpPr>
        <p:spPr>
          <a:xfrm flipH="1" flipV="1">
            <a:off x="4870080" y="747360"/>
            <a:ext cx="204840" cy="31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 flipV="1">
            <a:off x="3274920" y="765000"/>
            <a:ext cx="1584360" cy="259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 flipH="1" flipV="1">
            <a:off x="4859280" y="764640"/>
            <a:ext cx="1008000" cy="27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 flipV="1">
            <a:off x="2843280" y="765000"/>
            <a:ext cx="2016000" cy="187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 flipV="1">
            <a:off x="4427640" y="765000"/>
            <a:ext cx="431640" cy="1944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 flipV="1">
            <a:off x="2700360" y="4005360"/>
            <a:ext cx="431964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7308720" y="3860640"/>
            <a:ext cx="4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2482920" y="2494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4716360" y="33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5796000" y="33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3059280" y="33577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5003640" y="3789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6948360" y="38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 flipV="1">
            <a:off x="4211640" y="1341000"/>
            <a:ext cx="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370836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2843280" y="2637000"/>
            <a:ext cx="1368360" cy="23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 flipV="1">
            <a:off x="4067280" y="4723920"/>
            <a:ext cx="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4140360" y="45813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 flipV="1">
            <a:off x="4067280" y="1341000"/>
            <a:ext cx="144360" cy="33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4140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3276720" y="3357720"/>
            <a:ext cx="3456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5940360" y="429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4211640" y="1844640"/>
            <a:ext cx="1944720" cy="23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5076720" y="2565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2916360" y="4437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 flipV="1">
            <a:off x="3348000" y="2276280"/>
            <a:ext cx="2087640" cy="25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5364000" y="1916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 flipH="1">
            <a:off x="2987280" y="3429000"/>
            <a:ext cx="287964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5796000" y="3429000"/>
            <a:ext cx="115236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6516720" y="3573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 flipH="1" flipV="1">
            <a:off x="5435640" y="2276280"/>
            <a:ext cx="1441440" cy="180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4572000" y="170028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 flipH="1" flipV="1">
            <a:off x="4716360" y="1412640"/>
            <a:ext cx="719280" cy="86364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 flipH="1" flipV="1">
            <a:off x="4211640" y="1844640"/>
            <a:ext cx="792000" cy="1008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 flipV="1">
            <a:off x="5003640" y="2276640"/>
            <a:ext cx="432000" cy="5047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4211640" y="134136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4211640" y="1341360"/>
            <a:ext cx="504720" cy="7164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4140360" y="227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2843280" y="2637000"/>
            <a:ext cx="158436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 flipH="1" flipV="1">
            <a:off x="4427280" y="2708280"/>
            <a:ext cx="1439640" cy="79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539640" y="5013360"/>
            <a:ext cx="2952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539640" y="5084640"/>
            <a:ext cx="7921800" cy="1008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"/>
          <p:cNvSpPr/>
          <p:nvPr/>
        </p:nvSpPr>
        <p:spPr>
          <a:xfrm>
            <a:off x="539640" y="5084640"/>
            <a:ext cx="7921800" cy="1008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 flipH="1" flipV="1">
            <a:off x="4870080" y="747360"/>
            <a:ext cx="204840" cy="31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 flipV="1">
            <a:off x="3274920" y="765000"/>
            <a:ext cx="1584360" cy="259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 flipH="1" flipV="1">
            <a:off x="4859280" y="764640"/>
            <a:ext cx="1008000" cy="27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 flipV="1">
            <a:off x="2843280" y="765000"/>
            <a:ext cx="2016000" cy="187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 flipV="1">
            <a:off x="4427640" y="765000"/>
            <a:ext cx="431640" cy="1944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 flipV="1">
            <a:off x="2700360" y="4005360"/>
            <a:ext cx="431964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7308720" y="3860640"/>
            <a:ext cx="4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2482920" y="2494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4716360" y="33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5796000" y="33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3059280" y="33577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5003640" y="3789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6948360" y="38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 flipV="1">
            <a:off x="4211640" y="1341000"/>
            <a:ext cx="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370836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2843280" y="2637000"/>
            <a:ext cx="1368360" cy="23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 flipV="1">
            <a:off x="4067280" y="4723920"/>
            <a:ext cx="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4140360" y="45813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 flipV="1">
            <a:off x="4067280" y="1341000"/>
            <a:ext cx="144360" cy="33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4140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3276720" y="3357720"/>
            <a:ext cx="3456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5940360" y="429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4211640" y="1844640"/>
            <a:ext cx="1944720" cy="23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5076720" y="2565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2916360" y="4437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 flipV="1">
            <a:off x="3348000" y="2276280"/>
            <a:ext cx="2087640" cy="25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5364000" y="1916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 flipH="1">
            <a:off x="2987280" y="3429000"/>
            <a:ext cx="287964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5796000" y="3429000"/>
            <a:ext cx="115236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6516720" y="3573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 flipH="1" flipV="1">
            <a:off x="5435640" y="2276280"/>
            <a:ext cx="1441440" cy="180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>
            <a:off x="4572000" y="170028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 flipH="1" flipV="1">
            <a:off x="4716360" y="1412640"/>
            <a:ext cx="719280" cy="86364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 flipH="1" flipV="1">
            <a:off x="4211640" y="1844640"/>
            <a:ext cx="792000" cy="1008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 flipV="1">
            <a:off x="5003640" y="2276640"/>
            <a:ext cx="432000" cy="5047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4211640" y="134136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>
            <a:off x="4211640" y="1341360"/>
            <a:ext cx="504720" cy="7164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4211640" y="1484280"/>
            <a:ext cx="792000" cy="1297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 flipH="1" flipV="1">
            <a:off x="4355640" y="1341000"/>
            <a:ext cx="792360" cy="129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 flipH="1" flipV="1">
            <a:off x="4643280" y="1413000"/>
            <a:ext cx="649440" cy="1079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 flipH="1" flipV="1">
            <a:off x="5076720" y="1844640"/>
            <a:ext cx="287280" cy="50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4140360" y="227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2843280" y="2637000"/>
            <a:ext cx="158436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 flipH="1" flipV="1">
            <a:off x="4427280" y="2708280"/>
            <a:ext cx="1439640" cy="79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539640" y="5013360"/>
            <a:ext cx="2952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457200" y="1600200"/>
            <a:ext cx="82296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755640" y="5229360"/>
            <a:ext cx="2952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6" name="" descr=""/>
          <p:cNvPicPr/>
          <p:nvPr/>
        </p:nvPicPr>
        <p:blipFill>
          <a:blip r:embed="rId1"/>
          <a:stretch/>
        </p:blipFill>
        <p:spPr>
          <a:xfrm>
            <a:off x="611280" y="5229360"/>
            <a:ext cx="4537080" cy="591840"/>
          </a:xfrm>
          <a:prstGeom prst="rect">
            <a:avLst/>
          </a:prstGeom>
          <a:ln w="0">
            <a:noFill/>
          </a:ln>
        </p:spPr>
      </p:pic>
      <p:pic>
        <p:nvPicPr>
          <p:cNvPr id="2597" name="" descr=""/>
          <p:cNvPicPr/>
          <p:nvPr/>
        </p:nvPicPr>
        <p:blipFill>
          <a:blip r:embed="rId2"/>
          <a:stretch/>
        </p:blipFill>
        <p:spPr>
          <a:xfrm>
            <a:off x="5219640" y="5300640"/>
            <a:ext cx="2054160" cy="555480"/>
          </a:xfrm>
          <a:prstGeom prst="rect">
            <a:avLst/>
          </a:prstGeom>
          <a:ln w="0">
            <a:noFill/>
          </a:ln>
        </p:spPr>
      </p:pic>
      <p:sp>
        <p:nvSpPr>
          <p:cNvPr id="2598" name="">
            <a:hlinkClick r:id="rId3" action="ppaction://hlinksldjump"/>
          </p:cNvPr>
          <p:cNvSpPr/>
          <p:nvPr/>
        </p:nvSpPr>
        <p:spPr>
          <a:xfrm>
            <a:off x="7740720" y="54936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10800"/>
                </a:moveTo>
                <a:lnTo>
                  <a:pt x="24566" y="3794"/>
                </a:lnTo>
                <a:lnTo>
                  <a:pt x="245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"/>
          <p:cNvSpPr/>
          <p:nvPr/>
        </p:nvSpPr>
        <p:spPr>
          <a:xfrm>
            <a:off x="1258920" y="2421000"/>
            <a:ext cx="7623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330066"/>
                </a:solidFill>
                <a:latin typeface="Arial"/>
              </a:rPr>
              <a:t>ЗАДАЧА №6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7" dur="indefinite" restart="never" nodeType="tmRoot">
          <p:childTnLst>
            <p:seq>
              <p:cTn id="2738" dur="indefinite" nodeType="mainSeq">
                <p:childTnLst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3" dur="500"/>
                                        <p:tgtEl>
                                          <p:spTgt spid="2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ча 6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ройте сечение пятиугольной пирамиды РАВ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лоскостью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Q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),гд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точки ребер соответственн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 и РС, а точ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лежит внутри гран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4" dur="indefinite" restart="never" nodeType="tmRoot">
          <p:childTnLst>
            <p:seq>
              <p:cTn id="2745" dur="indefinite" nodeType="mainSeq">
                <p:childTnLst>
                  <p:par>
                    <p:cTn id="2746" fill="hold">
                      <p:stCondLst>
                        <p:cond delay="indefinite"/>
                      </p:stCondLst>
                      <p:childTnLst>
                        <p:par>
                          <p:cTn id="2747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50" dur="20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5" dur="1000"/>
                                        <p:tgtEl>
                                          <p:spTgt spid="2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6" dur="1000" fill="hold"/>
                                        <p:tgtEl>
                                          <p:spTgt spid="2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900" fill="hold"/>
                                        <p:tgtEl>
                                          <p:spTgt spid="2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"/>
          <p:cNvSpPr/>
          <p:nvPr/>
        </p:nvSpPr>
        <p:spPr>
          <a:xfrm flipH="1" flipV="1">
            <a:off x="4140360" y="1267920"/>
            <a:ext cx="576000" cy="25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 flipV="1">
            <a:off x="3203640" y="1268280"/>
            <a:ext cx="93672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 flipH="1" flipV="1">
            <a:off x="4140360" y="1267920"/>
            <a:ext cx="107928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 flipV="1">
            <a:off x="2771640" y="1268280"/>
            <a:ext cx="136872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 flipV="1">
            <a:off x="3995640" y="1268280"/>
            <a:ext cx="144720" cy="172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3926160" y="906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5150160" y="3067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3926160" y="26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2413440" y="2995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2989800" y="36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4573800" y="378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>
            <a:off x="3708360" y="357192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5003640" y="29955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>
            <a:off x="5003640" y="2708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370836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3203640" y="1628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2771640" y="3213000"/>
            <a:ext cx="43200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>
            <a:off x="3203640" y="3716280"/>
            <a:ext cx="151272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 flipV="1">
            <a:off x="4716360" y="3355920"/>
            <a:ext cx="50328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 flipH="1" flipV="1">
            <a:off x="3995640" y="2995200"/>
            <a:ext cx="122400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 flipH="1">
            <a:off x="2771640" y="2995560"/>
            <a:ext cx="1224000" cy="217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3708360" y="1773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5975280" y="333360"/>
            <a:ext cx="2989440" cy="1513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"/>
          <p:cNvSpPr/>
          <p:nvPr/>
        </p:nvSpPr>
        <p:spPr>
          <a:xfrm flipH="1" flipV="1">
            <a:off x="4140360" y="1267920"/>
            <a:ext cx="576000" cy="25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 flipV="1">
            <a:off x="3203640" y="1268280"/>
            <a:ext cx="93672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 flipH="1" flipV="1">
            <a:off x="4140360" y="1267920"/>
            <a:ext cx="107928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 flipV="1">
            <a:off x="2771640" y="1268280"/>
            <a:ext cx="136872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 flipV="1">
            <a:off x="3995640" y="1268280"/>
            <a:ext cx="144720" cy="172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3926160" y="906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>
            <a:off x="5221440" y="292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3926160" y="26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2413440" y="2995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2989800" y="36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>
            <a:off x="4573800" y="378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>
            <a:off x="3708360" y="1773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>
            <a:off x="3708360" y="357192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5003640" y="29955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5003640" y="2708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>
            <a:off x="370836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3203640" y="1628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>
            <a:off x="2771640" y="3213000"/>
            <a:ext cx="43200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3203640" y="3716280"/>
            <a:ext cx="151272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 flipV="1">
            <a:off x="4716360" y="3355920"/>
            <a:ext cx="50328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 flipH="1" flipV="1">
            <a:off x="3995640" y="2995200"/>
            <a:ext cx="122400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"/>
          <p:cNvSpPr/>
          <p:nvPr/>
        </p:nvSpPr>
        <p:spPr>
          <a:xfrm flipH="1">
            <a:off x="2771640" y="2995560"/>
            <a:ext cx="1224000" cy="217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2771640" y="3213000"/>
            <a:ext cx="2448000" cy="15876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5219640" y="3357720"/>
            <a:ext cx="792360" cy="5220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5003640" y="2997360"/>
            <a:ext cx="648000" cy="55224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3780000" y="1844640"/>
            <a:ext cx="1223640" cy="118116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4716360" y="278136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5292720" y="3284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5975280" y="333360"/>
            <a:ext cx="2989440" cy="1513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5796000" y="83664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QK   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 rot="10800000">
            <a:off x="7524720" y="8352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9" dur="indefinite" restart="never" nodeType="tmRoot">
          <p:childTnLst>
            <p:seq>
              <p:cTn id="2760" dur="indefinite" nodeType="mainSeq">
                <p:childTnLst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5" dur="500"/>
                                        <p:tgtEl>
                                          <p:spTgt spid="2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2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2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6" dur="500" fill="hold"/>
                                        <p:tgtEl>
                                          <p:spTgt spid="2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2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2" dur="500" fill="hold"/>
                                        <p:tgtEl>
                                          <p:spTgt spid="2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3" dur="500" fill="hold"/>
                                        <p:tgtEl>
                                          <p:spTgt spid="2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"/>
          <p:cNvSpPr/>
          <p:nvPr/>
        </p:nvSpPr>
        <p:spPr>
          <a:xfrm flipH="1" flipV="1">
            <a:off x="4140360" y="1267920"/>
            <a:ext cx="576000" cy="25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 flipV="1">
            <a:off x="3203640" y="1268280"/>
            <a:ext cx="93672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 flipH="1" flipV="1">
            <a:off x="4140360" y="1267920"/>
            <a:ext cx="107928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 flipV="1">
            <a:off x="2771640" y="1268280"/>
            <a:ext cx="136872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 flipV="1">
            <a:off x="3995640" y="1268280"/>
            <a:ext cx="144720" cy="172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3926160" y="906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5221440" y="292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3926160" y="26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2413440" y="2995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2989800" y="36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4573800" y="378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3708360" y="1773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3708360" y="357192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5003640" y="29955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5003640" y="2708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370836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>
            <a:off x="3203640" y="1628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2771640" y="3213000"/>
            <a:ext cx="43200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3203640" y="3716280"/>
            <a:ext cx="151272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 flipV="1">
            <a:off x="4716360" y="3355920"/>
            <a:ext cx="50328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 flipH="1" flipV="1">
            <a:off x="3995640" y="2995200"/>
            <a:ext cx="122400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 flipH="1">
            <a:off x="2771640" y="2995560"/>
            <a:ext cx="1224000" cy="217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2771640" y="3213000"/>
            <a:ext cx="2448000" cy="158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5219640" y="3357720"/>
            <a:ext cx="792360" cy="5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>
            <a:off x="5003640" y="2997360"/>
            <a:ext cx="648000" cy="55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>
            <a:off x="3780000" y="1844640"/>
            <a:ext cx="1223640" cy="1181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4716360" y="278136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5292720" y="3284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 flipH="1">
            <a:off x="3708360" y="1268280"/>
            <a:ext cx="432000" cy="25210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3419640" y="37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5975280" y="333360"/>
            <a:ext cx="2989440" cy="1513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6084720" y="83664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F=PR  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 rot="10800000">
            <a:off x="7524720" y="8352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4" dur="indefinite" restart="never" nodeType="tmRoot">
          <p:childTnLst>
            <p:seq>
              <p:cTn id="2785" dur="indefinite" nodeType="mainSeq">
                <p:childTnLst>
                  <p:par>
                    <p:cTn id="2786" fill="hold">
                      <p:stCondLst>
                        <p:cond delay="indefinite"/>
                      </p:stCondLst>
                      <p:childTnLst>
                        <p:par>
                          <p:cTn id="2787" fill="hold">
                            <p:stCondLst>
                              <p:cond delay="0"/>
                            </p:stCondLst>
                            <p:childTnLst>
                              <p:par>
                                <p:cTn id="2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0" dur="500" fill="hold"/>
                                        <p:tgtEl>
                                          <p:spTgt spid="2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1" dur="500" fill="hold"/>
                                        <p:tgtEl>
                                          <p:spTgt spid="2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"/>
          <p:cNvSpPr/>
          <p:nvPr/>
        </p:nvSpPr>
        <p:spPr>
          <a:xfrm flipH="1" flipV="1">
            <a:off x="4140360" y="1267920"/>
            <a:ext cx="576000" cy="25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 flipV="1">
            <a:off x="3203640" y="1268280"/>
            <a:ext cx="93672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 flipH="1" flipV="1">
            <a:off x="4140360" y="1267920"/>
            <a:ext cx="107928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 flipV="1">
            <a:off x="2771640" y="1268280"/>
            <a:ext cx="136872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 flipV="1">
            <a:off x="3995640" y="1268280"/>
            <a:ext cx="144720" cy="172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3926160" y="906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5221440" y="292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3926160" y="26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2413440" y="2995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2989800" y="36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4573800" y="378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3708360" y="1773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3708360" y="357192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5003640" y="29955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5003640" y="2708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>
            <a:off x="370836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3203640" y="1628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2771640" y="3213000"/>
            <a:ext cx="43200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3203640" y="3716280"/>
            <a:ext cx="151272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 flipV="1">
            <a:off x="4716360" y="3355920"/>
            <a:ext cx="50328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 flipH="1" flipV="1">
            <a:off x="3995640" y="2995200"/>
            <a:ext cx="122400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 flipH="1">
            <a:off x="2771640" y="2995560"/>
            <a:ext cx="1224000" cy="217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2771640" y="3213000"/>
            <a:ext cx="2448000" cy="158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5219640" y="3357720"/>
            <a:ext cx="792360" cy="5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5003640" y="2997360"/>
            <a:ext cx="648000" cy="55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3780000" y="1844640"/>
            <a:ext cx="1223640" cy="1181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4716360" y="278136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5292720" y="3284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 flipH="1">
            <a:off x="3708360" y="1268280"/>
            <a:ext cx="432000" cy="252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3419640" y="37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 flipH="1">
            <a:off x="1979640" y="3605040"/>
            <a:ext cx="1728720" cy="76860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 flipH="1">
            <a:off x="3780000" y="2997360"/>
            <a:ext cx="1295280" cy="57600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 flipH="1">
            <a:off x="1907640" y="3780000"/>
            <a:ext cx="1800360" cy="44100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 flipH="1">
            <a:off x="3634920" y="3357720"/>
            <a:ext cx="1513080" cy="43164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2484360" y="4005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5975280" y="333360"/>
            <a:ext cx="2989440" cy="1513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6156360" y="836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KR   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 rot="10800000">
            <a:off x="7596360" y="8352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2" dur="indefinite" restart="never" nodeType="tmRoot">
          <p:childTnLst>
            <p:seq>
              <p:cTn id="2793" dur="indefinite" nodeType="mainSeq">
                <p:childTnLst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2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2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2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2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2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2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2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2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"/>
          <p:cNvSpPr/>
          <p:nvPr/>
        </p:nvSpPr>
        <p:spPr>
          <a:xfrm flipH="1" flipV="1">
            <a:off x="4140360" y="1267920"/>
            <a:ext cx="576000" cy="25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 flipV="1">
            <a:off x="3203640" y="1268280"/>
            <a:ext cx="93672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 flipH="1" flipV="1">
            <a:off x="4140360" y="1267920"/>
            <a:ext cx="107928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 flipV="1">
            <a:off x="2771640" y="1268280"/>
            <a:ext cx="136872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 flipV="1">
            <a:off x="3995640" y="1268280"/>
            <a:ext cx="144720" cy="172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3926160" y="906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5221440" y="292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3926160" y="26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2413440" y="2995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2989800" y="36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4573800" y="378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3708360" y="1773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3708360" y="357192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5003640" y="29955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5003640" y="2708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370836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3203640" y="1628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2771640" y="3213000"/>
            <a:ext cx="43200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3203640" y="3716280"/>
            <a:ext cx="151272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 flipV="1">
            <a:off x="4716360" y="3355920"/>
            <a:ext cx="50328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 flipH="1" flipV="1">
            <a:off x="3995640" y="2995200"/>
            <a:ext cx="122400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 flipH="1">
            <a:off x="2771640" y="2995560"/>
            <a:ext cx="1224000" cy="217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2771640" y="3213000"/>
            <a:ext cx="2448000" cy="158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5219640" y="3357720"/>
            <a:ext cx="792360" cy="5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5003640" y="2997360"/>
            <a:ext cx="648000" cy="55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3780000" y="1844640"/>
            <a:ext cx="1223640" cy="1181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>
            <a:off x="4716360" y="278136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5292720" y="3284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 flipH="1">
            <a:off x="3708360" y="1268280"/>
            <a:ext cx="432000" cy="252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3419640" y="37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 flipH="1">
            <a:off x="1979280" y="3573360"/>
            <a:ext cx="1800360" cy="839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 flipH="1">
            <a:off x="3780000" y="2997360"/>
            <a:ext cx="1295280" cy="57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 flipH="1">
            <a:off x="1907640" y="3780000"/>
            <a:ext cx="1800360" cy="44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 flipH="1">
            <a:off x="3634920" y="3357720"/>
            <a:ext cx="1513080" cy="43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2484360" y="4005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 flipV="1">
            <a:off x="5148360" y="3284280"/>
            <a:ext cx="503280" cy="12996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 flipV="1">
            <a:off x="3851280" y="3429000"/>
            <a:ext cx="1295280" cy="33984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3635280" y="378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5003640" y="3357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5975280" y="333360"/>
            <a:ext cx="2989440" cy="1513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6227640" y="765000"/>
            <a:ext cx="230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6227640" y="549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M =L  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6445800" y="1052640"/>
            <a:ext cx="20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N=L   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 rot="10800000">
            <a:off x="7451280" y="10512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 rot="10800000">
            <a:off x="7451280" y="54792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8" dur="indefinite" restart="never" nodeType="tmRoot">
          <p:childTnLst>
            <p:seq>
              <p:cTn id="2819" dur="indefinite" nodeType="mainSeq">
                <p:childTnLst>
                  <p:par>
                    <p:cTn id="2820" fill="hold">
                      <p:stCondLst>
                        <p:cond delay="indefinite"/>
                      </p:stCondLst>
                      <p:childTnLst>
                        <p:par>
                          <p:cTn id="2821" fill="hold">
                            <p:stCondLst>
                              <p:cond delay="0"/>
                            </p:stCondLst>
                            <p:childTnLst>
                              <p:par>
                                <p:cTn id="2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4" dur="500" fill="hold"/>
                                        <p:tgtEl>
                                          <p:spTgt spid="2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5" dur="500" fill="hold"/>
                                        <p:tgtEl>
                                          <p:spTgt spid="2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6" fill="hold">
                      <p:stCondLst>
                        <p:cond delay="indefinite"/>
                      </p:stCondLst>
                      <p:childTnLst>
                        <p:par>
                          <p:cTn id="2827" fill="hold">
                            <p:stCondLst>
                              <p:cond delay="0"/>
                            </p:stCondLst>
                            <p:childTnLst>
                              <p:par>
                                <p:cTn id="2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0" dur="500" fill="hold"/>
                                        <p:tgtEl>
                                          <p:spTgt spid="2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1" dur="500" fill="hold"/>
                                        <p:tgtEl>
                                          <p:spTgt spid="2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"/>
          <p:cNvSpPr/>
          <p:nvPr/>
        </p:nvSpPr>
        <p:spPr>
          <a:xfrm flipH="1" flipV="1">
            <a:off x="4140360" y="1267920"/>
            <a:ext cx="576000" cy="25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 flipV="1">
            <a:off x="3203640" y="1268280"/>
            <a:ext cx="93672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 flipH="1" flipV="1">
            <a:off x="4140360" y="1267920"/>
            <a:ext cx="107928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 flipV="1">
            <a:off x="2771640" y="1268280"/>
            <a:ext cx="136872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 flipV="1">
            <a:off x="3995640" y="1268280"/>
            <a:ext cx="144720" cy="172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3926160" y="906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5221440" y="292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3926160" y="26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2413440" y="2995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2989800" y="36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4573800" y="378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3708360" y="1773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3708360" y="357192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5003640" y="29955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5003640" y="2708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370836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3203640" y="1628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2771640" y="3213000"/>
            <a:ext cx="43200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3203640" y="3716280"/>
            <a:ext cx="151272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 flipV="1">
            <a:off x="4716360" y="3355920"/>
            <a:ext cx="50328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 flipH="1" flipV="1">
            <a:off x="3995640" y="2995560"/>
            <a:ext cx="1440000" cy="433440"/>
          </a:xfrm>
          <a:prstGeom prst="line">
            <a:avLst/>
          </a:prstGeom>
          <a:ln w="3816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 flipH="1">
            <a:off x="2771640" y="2995560"/>
            <a:ext cx="1224000" cy="217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2771640" y="3213000"/>
            <a:ext cx="2448000" cy="158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5219640" y="3357720"/>
            <a:ext cx="792360" cy="5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5003640" y="2997360"/>
            <a:ext cx="648000" cy="55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3780000" y="1844640"/>
            <a:ext cx="1223640" cy="1181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4716360" y="278136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5292720" y="3284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 flipH="1">
            <a:off x="3708360" y="1268280"/>
            <a:ext cx="432000" cy="252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3419640" y="37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 flipH="1">
            <a:off x="1979280" y="3573360"/>
            <a:ext cx="1800360" cy="839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 flipH="1">
            <a:off x="3780000" y="2997360"/>
            <a:ext cx="1295280" cy="57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 flipH="1">
            <a:off x="1907640" y="3780000"/>
            <a:ext cx="1800360" cy="44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 flipH="1">
            <a:off x="3634920" y="3357720"/>
            <a:ext cx="1513080" cy="43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2484360" y="4005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 flipV="1">
            <a:off x="5148360" y="3284280"/>
            <a:ext cx="503280" cy="129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 flipV="1">
            <a:off x="3851280" y="3429000"/>
            <a:ext cx="1295280" cy="33984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 flipV="1">
            <a:off x="2627280" y="3716280"/>
            <a:ext cx="129528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3635280" y="378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4932360" y="3429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5003640" y="2997360"/>
            <a:ext cx="144720" cy="431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 flipH="1" flipV="1">
            <a:off x="3419280" y="3068640"/>
            <a:ext cx="431640" cy="720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 flipV="1">
            <a:off x="3419640" y="1844280"/>
            <a:ext cx="288720" cy="1297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5003640" y="2997360"/>
            <a:ext cx="289080" cy="36036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5003640" y="3357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5975280" y="333360"/>
            <a:ext cx="2989440" cy="1513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6300720" y="5157720"/>
            <a:ext cx="26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2987640" y="2708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>
            <a:off x="6088320" y="549360"/>
            <a:ext cx="24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) H=MR   P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6156360" y="11970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)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L   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 rot="10800000">
            <a:off x="7451280" y="119556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 rot="10800000">
            <a:off x="7451280" y="54792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2" dur="indefinite" restart="never" nodeType="tmRoot">
          <p:childTnLst>
            <p:seq>
              <p:cTn id="2833" dur="indefinite" nodeType="mainSeq">
                <p:childTnLst>
                  <p:par>
                    <p:cTn id="2834" fill="hold">
                      <p:stCondLst>
                        <p:cond delay="indefinite"/>
                      </p:stCondLst>
                      <p:childTnLst>
                        <p:par>
                          <p:cTn id="2835" fill="hold">
                            <p:stCondLst>
                              <p:cond delay="0"/>
                            </p:stCondLst>
                            <p:childTnLst>
                              <p:par>
                                <p:cTn id="2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8" dur="500" fill="hold"/>
                                        <p:tgtEl>
                                          <p:spTgt spid="2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9" dur="500" fill="hold"/>
                                        <p:tgtEl>
                                          <p:spTgt spid="2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0" fill="hold">
                      <p:stCondLst>
                        <p:cond delay="indefinite"/>
                      </p:stCondLst>
                      <p:childTnLst>
                        <p:par>
                          <p:cTn id="2841" fill="hold">
                            <p:stCondLst>
                              <p:cond delay="0"/>
                            </p:stCondLst>
                            <p:childTnLst>
                              <p:par>
                                <p:cTn id="2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4" dur="500" fill="hold"/>
                                        <p:tgtEl>
                                          <p:spTgt spid="2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5" dur="500" fill="hold"/>
                                        <p:tgtEl>
                                          <p:spTgt spid="2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Метод внутреннего проектирования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ущность метода внутреннего проектирования заключается в нахождении по известным элементам сечения в объёмной фигуре их проекций и по проекциям элементов сечения – самих сече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"/>
          <p:cNvSpPr/>
          <p:nvPr/>
        </p:nvSpPr>
        <p:spPr>
          <a:xfrm flipH="1" flipV="1">
            <a:off x="4140360" y="1267920"/>
            <a:ext cx="576000" cy="25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 flipV="1">
            <a:off x="3203640" y="1268280"/>
            <a:ext cx="93672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 flipH="1" flipV="1">
            <a:off x="4140360" y="1267920"/>
            <a:ext cx="107928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 flipV="1">
            <a:off x="2771640" y="1268280"/>
            <a:ext cx="136872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 flipV="1">
            <a:off x="3995640" y="1268280"/>
            <a:ext cx="144720" cy="172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3926160" y="906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5221440" y="292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3926160" y="26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2413440" y="2995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2989800" y="36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>
            <a:off x="4573800" y="378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3708360" y="1773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3708360" y="357192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5003640" y="29955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/>
          <p:cNvSpPr/>
          <p:nvPr/>
        </p:nvSpPr>
        <p:spPr>
          <a:xfrm>
            <a:off x="5003640" y="2708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>
            <a:off x="370836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>
            <a:off x="3203640" y="1628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2771640" y="3213000"/>
            <a:ext cx="43200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>
            <a:off x="3203640" y="3716280"/>
            <a:ext cx="151272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 flipV="1">
            <a:off x="4716360" y="3355920"/>
            <a:ext cx="50328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 flipH="1" flipV="1">
            <a:off x="3995640" y="2995560"/>
            <a:ext cx="1440000" cy="433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 flipH="1">
            <a:off x="2771640" y="2995560"/>
            <a:ext cx="1224000" cy="217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"/>
          <p:cNvSpPr/>
          <p:nvPr/>
        </p:nvSpPr>
        <p:spPr>
          <a:xfrm>
            <a:off x="2771640" y="3213000"/>
            <a:ext cx="2448000" cy="158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"/>
          <p:cNvSpPr/>
          <p:nvPr/>
        </p:nvSpPr>
        <p:spPr>
          <a:xfrm>
            <a:off x="5219640" y="3357720"/>
            <a:ext cx="792360" cy="5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5003640" y="2997360"/>
            <a:ext cx="648000" cy="55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3780000" y="1844640"/>
            <a:ext cx="1223640" cy="1181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4716360" y="278136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>
            <a:off x="5292720" y="3284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 flipH="1">
            <a:off x="3708360" y="1268280"/>
            <a:ext cx="432000" cy="252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3419640" y="37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 flipH="1">
            <a:off x="1979280" y="3573360"/>
            <a:ext cx="1800360" cy="839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 flipH="1">
            <a:off x="3780000" y="2997360"/>
            <a:ext cx="1295280" cy="57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 flipH="1">
            <a:off x="1907640" y="3780000"/>
            <a:ext cx="1800360" cy="44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 flipH="1">
            <a:off x="3634920" y="3357720"/>
            <a:ext cx="1513080" cy="43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2484360" y="4005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 flipV="1">
            <a:off x="5148360" y="3284280"/>
            <a:ext cx="503280" cy="129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 flipV="1">
            <a:off x="3851280" y="3429000"/>
            <a:ext cx="1295280" cy="33984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 flipV="1">
            <a:off x="2627280" y="3716280"/>
            <a:ext cx="129528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>
            <a:off x="3635280" y="378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4932360" y="3429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>
            <a:off x="5027760" y="3068640"/>
            <a:ext cx="120600" cy="360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 flipH="1" flipV="1">
            <a:off x="3419280" y="3068640"/>
            <a:ext cx="431640" cy="720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 flipV="1">
            <a:off x="3419640" y="1844280"/>
            <a:ext cx="288720" cy="1297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>
            <a:off x="5003640" y="2997360"/>
            <a:ext cx="2890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5003640" y="3357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 flipH="1" flipV="1">
            <a:off x="4066920" y="1699920"/>
            <a:ext cx="958680" cy="1297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 flipV="1">
            <a:off x="3708360" y="1699920"/>
            <a:ext cx="358920" cy="144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3995640" y="17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3492360" y="2781360"/>
            <a:ext cx="498600" cy="863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3564000" y="2492280"/>
            <a:ext cx="665280" cy="1152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3635280" y="2205000"/>
            <a:ext cx="789120" cy="1368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3708360" y="1989000"/>
            <a:ext cx="914400" cy="1584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3851280" y="1773360"/>
            <a:ext cx="996840" cy="1726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4067280" y="1700280"/>
            <a:ext cx="955440" cy="1657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>
            <a:off x="5975280" y="333360"/>
            <a:ext cx="2989440" cy="1513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>
            <a:hlinkClick r:id="rId1" action="ppaction://hlinksldjump"/>
          </p:cNvPr>
          <p:cNvSpPr/>
          <p:nvPr/>
        </p:nvSpPr>
        <p:spPr>
          <a:xfrm>
            <a:off x="7451640" y="5373720"/>
            <a:ext cx="936720" cy="57636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97" h="21600">
                <a:moveTo>
                  <a:pt x="0" y="0"/>
                </a:moveTo>
                <a:lnTo>
                  <a:pt x="35097" y="0"/>
                </a:lnTo>
                <a:lnTo>
                  <a:pt x="35097" y="21600"/>
                </a:lnTo>
                <a:lnTo>
                  <a:pt x="0" y="21600"/>
                </a:lnTo>
                <a:close/>
              </a:path>
              <a:path fill="lightenLess" w="35097" h="21600">
                <a:moveTo>
                  <a:pt x="0" y="0"/>
                </a:moveTo>
                <a:lnTo>
                  <a:pt x="35097" y="0"/>
                </a:lnTo>
                <a:lnTo>
                  <a:pt x="33697" y="1400"/>
                </a:lnTo>
                <a:lnTo>
                  <a:pt x="1400" y="1400"/>
                </a:lnTo>
                <a:close/>
              </a:path>
              <a:path fill="darken" w="35097" h="21600">
                <a:moveTo>
                  <a:pt x="35097" y="0"/>
                </a:moveTo>
                <a:lnTo>
                  <a:pt x="35097" y="21600"/>
                </a:lnTo>
                <a:lnTo>
                  <a:pt x="33697" y="20200"/>
                </a:lnTo>
                <a:lnTo>
                  <a:pt x="33697" y="1400"/>
                </a:lnTo>
                <a:close/>
              </a:path>
              <a:path fill="darkenLess" w="35097" h="21600">
                <a:moveTo>
                  <a:pt x="35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97" y="20200"/>
                </a:lnTo>
                <a:close/>
              </a:path>
              <a:path fill="lighten" w="35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97" h="21600">
                <a:moveTo>
                  <a:pt x="10542" y="10800"/>
                </a:moveTo>
                <a:lnTo>
                  <a:pt x="24555" y="3794"/>
                </a:lnTo>
                <a:lnTo>
                  <a:pt x="2455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2987640" y="2708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>
            <a:off x="6156360" y="620640"/>
            <a:ext cx="244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6012000" y="404640"/>
            <a:ext cx="2809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) L =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  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KLQH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ОМОЕ С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 rot="10800000">
            <a:off x="7667640" y="4032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"/>
          <p:cNvSpPr/>
          <p:nvPr/>
        </p:nvSpPr>
        <p:spPr>
          <a:xfrm>
            <a:off x="1258920" y="2492280"/>
            <a:ext cx="7623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330066"/>
                </a:solidFill>
                <a:latin typeface="Arial"/>
              </a:rPr>
              <a:t>ЗАДАЧА №7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6" dur="indefinite" restart="never" nodeType="tmRoot">
          <p:childTnLst>
            <p:seq>
              <p:cTn id="2847" dur="indefinite" nodeType="mainSeq">
                <p:childTnLst>
                  <p:par>
                    <p:cTn id="2848" fill="hold">
                      <p:stCondLst>
                        <p:cond delay="indefinite"/>
                      </p:stCondLst>
                      <p:childTnLst>
                        <p:par>
                          <p:cTn id="2849" fill="hold">
                            <p:stCondLst>
                              <p:cond delay="0"/>
                            </p:stCondLst>
                            <p:childTnLst>
                              <p:par>
                                <p:cTn id="28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2" dur="500"/>
                                        <p:tgtEl>
                                          <p:spTgt spid="2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ча 7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ройте сечение приз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 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лоскостью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),где точк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Р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являются  точками соответственно ребер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С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Е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3" dur="indefinite" restart="never" nodeType="tmRoot">
          <p:childTnLst>
            <p:seq>
              <p:cTn id="2854" dur="indefinite" nodeType="mainSeq">
                <p:childTnLst>
                  <p:par>
                    <p:cTn id="2855" fill="hold">
                      <p:stCondLst>
                        <p:cond delay="indefinite"/>
                      </p:stCondLst>
                      <p:childTnLst>
                        <p:par>
                          <p:cTn id="2856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59" dur="2000"/>
                                        <p:tgtEl>
                                          <p:spTgt spid="2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0" fill="hold">
                      <p:stCondLst>
                        <p:cond delay="indefinite"/>
                      </p:stCondLst>
                      <p:childTnLst>
                        <p:par>
                          <p:cTn id="2861" fill="hold">
                            <p:stCondLst>
                              <p:cond delay="0"/>
                            </p:stCondLst>
                            <p:childTnLst>
                              <p:par>
                                <p:cTn id="28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4" dur="1000"/>
                                        <p:tgtEl>
                                          <p:spTgt spid="2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5" dur="1000" fill="hold"/>
                                        <p:tgtEl>
                                          <p:spTgt spid="2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6" dur="900" fill="hold"/>
                                        <p:tgtEl>
                                          <p:spTgt spid="2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2" dur="1000"/>
                                        <p:tgtEl>
                                          <p:spTgt spid="2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3" dur="1000" fill="hold"/>
                                        <p:tgtEl>
                                          <p:spTgt spid="2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4" dur="900" fill="hold"/>
                                        <p:tgtEl>
                                          <p:spTgt spid="2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"/>
          <p:cNvSpPr/>
          <p:nvPr/>
        </p:nvSpPr>
        <p:spPr>
          <a:xfrm>
            <a:off x="3852720" y="25653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5437080" y="2565360"/>
            <a:ext cx="287280" cy="28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 flipH="1">
            <a:off x="4571640" y="2852640"/>
            <a:ext cx="115236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 flipH="1" flipV="1">
            <a:off x="3060720" y="2924280"/>
            <a:ext cx="151128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 flipV="1">
            <a:off x="3060720" y="141300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 flipV="1">
            <a:off x="4572000" y="184464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 flipV="1">
            <a:off x="5724360" y="133992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 flipV="1">
            <a:off x="3852720" y="105264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 flipV="1">
            <a:off x="5437080" y="105264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3060720" y="1413000"/>
            <a:ext cx="151128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 flipV="1">
            <a:off x="4572000" y="1339920"/>
            <a:ext cx="115236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 flipV="1">
            <a:off x="3060720" y="1052280"/>
            <a:ext cx="79200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 flipH="1" flipV="1">
            <a:off x="5437080" y="1052640"/>
            <a:ext cx="2872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3852720" y="105264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>
            <a:off x="2556000" y="2781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>
            <a:off x="4140360" y="3357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5292720" y="2708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4572000" y="2205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3276720" y="2276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>
            <a:off x="2484360" y="1268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>
            <a:off x="4284720" y="1773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5364000" y="1197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4643280" y="6922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3276720" y="692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>
            <a:off x="1692360" y="1773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2195640" y="1916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4067280" y="17002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6012000" y="177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2340000" y="9079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3276720" y="105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 flipV="1">
            <a:off x="3059280" y="2565000"/>
            <a:ext cx="792000" cy="358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"/>
          <p:cNvSpPr/>
          <p:nvPr/>
        </p:nvSpPr>
        <p:spPr>
          <a:xfrm flipV="1">
            <a:off x="3059280" y="2565000"/>
            <a:ext cx="792000" cy="358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 flipV="1">
            <a:off x="3059280" y="2565000"/>
            <a:ext cx="792000" cy="35892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3852720" y="25653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5437080" y="2565360"/>
            <a:ext cx="287280" cy="28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 flipH="1">
            <a:off x="4571640" y="2852640"/>
            <a:ext cx="115236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 flipH="1" flipV="1">
            <a:off x="3060720" y="2924280"/>
            <a:ext cx="151128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 flipV="1">
            <a:off x="3060720" y="141300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 flipV="1">
            <a:off x="4572000" y="184464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 flipV="1">
            <a:off x="5724360" y="133992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 flipV="1">
            <a:off x="3852720" y="105264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 flipV="1">
            <a:off x="5437080" y="105264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>
            <a:off x="3060720" y="1413000"/>
            <a:ext cx="151128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flipV="1">
            <a:off x="4572000" y="1339920"/>
            <a:ext cx="115236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 flipV="1">
            <a:off x="3060720" y="1052280"/>
            <a:ext cx="79200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 flipH="1" flipV="1">
            <a:off x="5437080" y="1052640"/>
            <a:ext cx="2872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3852720" y="105264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>
            <a:off x="2556000" y="2781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>
            <a:off x="4140360" y="3357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>
            <a:off x="5292720" y="2708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>
            <a:off x="4572000" y="2205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3276720" y="2276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2484360" y="1268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>
            <a:off x="4284720" y="1773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5364000" y="1197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4643280" y="6922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3276720" y="692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1692360" y="1773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2195640" y="1916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4067280" y="17002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6012000" y="177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>
            <a:off x="2340000" y="9079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>
            <a:off x="3276720" y="105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flipV="1">
            <a:off x="3059280" y="1268280"/>
            <a:ext cx="792000" cy="86544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 flipV="1">
            <a:off x="1084320" y="2133360"/>
            <a:ext cx="1976400" cy="2158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 flipV="1">
            <a:off x="684360" y="2924280"/>
            <a:ext cx="2376360" cy="107640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>
            <a:off x="1258920" y="306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>
            <a:off x="684360" y="551664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MR   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/>
          <p:cNvSpPr/>
          <p:nvPr/>
        </p:nvSpPr>
        <p:spPr>
          <a:xfrm rot="10800000">
            <a:off x="2195640" y="55152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6" dur="indefinite" restart="never" nodeType="tmRoot">
          <p:childTnLst>
            <p:seq>
              <p:cTn id="2877" dur="indefinite" nodeType="mainSeq">
                <p:childTnLst>
                  <p:par>
                    <p:cTn id="2878" fill="hold">
                      <p:stCondLst>
                        <p:cond delay="indefinite"/>
                      </p:stCondLst>
                      <p:childTnLst>
                        <p:par>
                          <p:cTn id="2879" fill="hold">
                            <p:stCondLst>
                              <p:cond delay="0"/>
                            </p:stCondLst>
                            <p:childTnLst>
                              <p:par>
                                <p:cTn id="28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2" dur="500"/>
                                        <p:tgtEl>
                                          <p:spTgt spid="2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3" fill="hold">
                      <p:stCondLst>
                        <p:cond delay="indefinite"/>
                      </p:stCondLst>
                      <p:childTnLst>
                        <p:par>
                          <p:cTn id="2884" fill="hold">
                            <p:stCondLst>
                              <p:cond delay="0"/>
                            </p:stCondLst>
                            <p:childTnLst>
                              <p:par>
                                <p:cTn id="28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7" dur="500"/>
                                        <p:tgtEl>
                                          <p:spTgt spid="2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"/>
          <p:cNvSpPr/>
          <p:nvPr/>
        </p:nvSpPr>
        <p:spPr>
          <a:xfrm>
            <a:off x="3852720" y="25653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5437080" y="2565360"/>
            <a:ext cx="287280" cy="28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 flipH="1">
            <a:off x="4571640" y="2852640"/>
            <a:ext cx="115236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 flipH="1" flipV="1">
            <a:off x="3060720" y="2924280"/>
            <a:ext cx="151128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 flipV="1">
            <a:off x="3060720" y="141300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 flipV="1">
            <a:off x="4572000" y="184464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 flipV="1">
            <a:off x="5724360" y="133992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 flipV="1">
            <a:off x="3852720" y="105264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 flipV="1">
            <a:off x="5437080" y="105264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>
            <a:off x="3060720" y="1413000"/>
            <a:ext cx="151128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 flipV="1">
            <a:off x="4572000" y="1339920"/>
            <a:ext cx="115236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 flipV="1">
            <a:off x="3060720" y="1052280"/>
            <a:ext cx="79200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 flipH="1" flipV="1">
            <a:off x="5437080" y="1052640"/>
            <a:ext cx="2872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>
            <a:off x="3852720" y="105264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2556000" y="2781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>
            <a:off x="4140360" y="3357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5292720" y="2708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4572000" y="2205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>
            <a:off x="3276720" y="2276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>
            <a:off x="2484360" y="1268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4284720" y="1773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5364000" y="1197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4643280" y="6922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3276720" y="692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1692360" y="1773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2195640" y="1916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4067280" y="17002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6012000" y="177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2340000" y="9079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3276720" y="105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 flipV="1">
            <a:off x="3059280" y="2565000"/>
            <a:ext cx="792000" cy="358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 flipV="1">
            <a:off x="3059280" y="1268280"/>
            <a:ext cx="792000" cy="86544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 flipV="1">
            <a:off x="1084320" y="2133360"/>
            <a:ext cx="1976400" cy="21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 flipV="1">
            <a:off x="684360" y="2924280"/>
            <a:ext cx="2376360" cy="1076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>
            <a:off x="1258920" y="306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>
            <a:off x="3851280" y="2576520"/>
            <a:ext cx="1873080" cy="27612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>
            <a:off x="5724360" y="2852640"/>
            <a:ext cx="3095640" cy="45720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>
            <a:off x="3851280" y="1268280"/>
            <a:ext cx="1873080" cy="81468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>
            <a:off x="5724360" y="2060640"/>
            <a:ext cx="2951280" cy="12826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>
            <a:off x="8244000" y="2924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611280" y="5516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PR  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 rot="10800000">
            <a:off x="2123640" y="55152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8" dur="indefinite" restart="never" nodeType="tmRoot">
          <p:childTnLst>
            <p:seq>
              <p:cTn id="2889" dur="indefinite" nodeType="mainSeq">
                <p:childTnLst>
                  <p:par>
                    <p:cTn id="2890" fill="hold">
                      <p:stCondLst>
                        <p:cond delay="indefinite"/>
                      </p:stCondLst>
                      <p:childTnLst>
                        <p:par>
                          <p:cTn id="2891" fill="hold">
                            <p:stCondLst>
                              <p:cond delay="0"/>
                            </p:stCondLst>
                            <p:childTnLst>
                              <p:par>
                                <p:cTn id="28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4" dur="500"/>
                                        <p:tgtEl>
                                          <p:spTgt spid="2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fill="hold">
                      <p:stCondLst>
                        <p:cond delay="indefinite"/>
                      </p:stCondLst>
                      <p:childTnLst>
                        <p:par>
                          <p:cTn id="2896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9" dur="500"/>
                                        <p:tgtEl>
                                          <p:spTgt spid="2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fill="hold">
                      <p:stCondLst>
                        <p:cond delay="indefinite"/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4" dur="500"/>
                                        <p:tgtEl>
                                          <p:spTgt spid="2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5" fill="hold">
                      <p:stCondLst>
                        <p:cond delay="indefinite"/>
                      </p:stCondLst>
                      <p:childTnLst>
                        <p:par>
                          <p:cTn id="2906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9" dur="500"/>
                                        <p:tgtEl>
                                          <p:spTgt spid="2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1" name=""/>
          <p:cNvSpPr/>
          <p:nvPr/>
        </p:nvSpPr>
        <p:spPr>
          <a:xfrm>
            <a:off x="3852720" y="25653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>
            <a:off x="5437080" y="2565360"/>
            <a:ext cx="287280" cy="28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 flipH="1">
            <a:off x="4571640" y="2852640"/>
            <a:ext cx="115236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 flipH="1" flipV="1">
            <a:off x="3060720" y="2924280"/>
            <a:ext cx="151128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 flipV="1">
            <a:off x="3060720" y="141300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 flipV="1">
            <a:off x="4572000" y="184464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 flipV="1">
            <a:off x="5724360" y="133992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 flipV="1">
            <a:off x="3852720" y="105264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 flipV="1">
            <a:off x="5437080" y="105264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3060720" y="1413000"/>
            <a:ext cx="151128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 flipV="1">
            <a:off x="4572000" y="1339920"/>
            <a:ext cx="115236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 flipV="1">
            <a:off x="3060720" y="1052280"/>
            <a:ext cx="79200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 flipH="1" flipV="1">
            <a:off x="5437080" y="1052640"/>
            <a:ext cx="2872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3852720" y="105264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>
            <a:off x="2556000" y="2781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>
            <a:off x="4140360" y="3357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>
            <a:off x="5292720" y="2708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4572000" y="2205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"/>
          <p:cNvSpPr/>
          <p:nvPr/>
        </p:nvSpPr>
        <p:spPr>
          <a:xfrm>
            <a:off x="3276720" y="2276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"/>
          <p:cNvSpPr/>
          <p:nvPr/>
        </p:nvSpPr>
        <p:spPr>
          <a:xfrm>
            <a:off x="2484360" y="1268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"/>
          <p:cNvSpPr/>
          <p:nvPr/>
        </p:nvSpPr>
        <p:spPr>
          <a:xfrm>
            <a:off x="4284720" y="1773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5364000" y="1197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4643280" y="6922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3276720" y="692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1692360" y="1773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2195640" y="1916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4067280" y="17002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6012000" y="177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2340000" y="9079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3276720" y="105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 flipV="1">
            <a:off x="3059280" y="2565000"/>
            <a:ext cx="792000" cy="358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 flipV="1">
            <a:off x="3059280" y="1268280"/>
            <a:ext cx="792000" cy="86544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 flipV="1">
            <a:off x="1084320" y="2133360"/>
            <a:ext cx="1976400" cy="21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 flipV="1">
            <a:off x="684360" y="2924280"/>
            <a:ext cx="2376360" cy="1076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1258920" y="306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3851280" y="2576520"/>
            <a:ext cx="1873080" cy="276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5724360" y="2852640"/>
            <a:ext cx="30956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3851280" y="1268280"/>
            <a:ext cx="1873080" cy="81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5724360" y="2060640"/>
            <a:ext cx="2951280" cy="128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>
            <a:off x="8244000" y="2924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 flipV="1">
            <a:off x="1835280" y="3282840"/>
            <a:ext cx="6697440" cy="21744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687708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3059280" y="2924280"/>
            <a:ext cx="2520720" cy="72072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471636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>
            <a:off x="611280" y="55166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L   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 rot="10800000">
            <a:off x="1835280" y="55152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0" dur="indefinite" restart="never" nodeType="tmRoot">
          <p:childTnLst>
            <p:seq>
              <p:cTn id="2911" dur="indefinite" nodeType="mainSeq">
                <p:childTnLst>
                  <p:par>
                    <p:cTn id="2912" fill="hold">
                      <p:stCondLst>
                        <p:cond delay="indefinite"/>
                      </p:stCondLst>
                      <p:childTnLst>
                        <p:par>
                          <p:cTn id="2913" fill="hold">
                            <p:stCondLst>
                              <p:cond delay="0"/>
                            </p:stCondLst>
                            <p:childTnLst>
                              <p:par>
                                <p:cTn id="29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6" dur="500"/>
                                        <p:tgtEl>
                                          <p:spTgt spid="3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7" fill="hold">
                      <p:stCondLst>
                        <p:cond delay="indefinite"/>
                      </p:stCondLst>
                      <p:childTnLst>
                        <p:par>
                          <p:cTn id="2918" fill="hold">
                            <p:stCondLst>
                              <p:cond delay="0"/>
                            </p:stCondLst>
                            <p:childTnLst>
                              <p:par>
                                <p:cTn id="29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1" dur="500"/>
                                        <p:tgtEl>
                                          <p:spTgt spid="3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"/>
          <p:cNvSpPr/>
          <p:nvPr/>
        </p:nvSpPr>
        <p:spPr>
          <a:xfrm>
            <a:off x="3852720" y="25653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>
            <a:off x="5437080" y="2565360"/>
            <a:ext cx="287280" cy="28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"/>
          <p:cNvSpPr/>
          <p:nvPr/>
        </p:nvSpPr>
        <p:spPr>
          <a:xfrm flipH="1">
            <a:off x="4571640" y="2852640"/>
            <a:ext cx="115236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"/>
          <p:cNvSpPr/>
          <p:nvPr/>
        </p:nvSpPr>
        <p:spPr>
          <a:xfrm flipH="1" flipV="1">
            <a:off x="3060720" y="2924280"/>
            <a:ext cx="151128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"/>
          <p:cNvSpPr/>
          <p:nvPr/>
        </p:nvSpPr>
        <p:spPr>
          <a:xfrm flipV="1">
            <a:off x="3060720" y="141300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 flipV="1">
            <a:off x="4572000" y="184464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/>
          <p:cNvSpPr/>
          <p:nvPr/>
        </p:nvSpPr>
        <p:spPr>
          <a:xfrm flipV="1">
            <a:off x="5724360" y="133992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 flipV="1">
            <a:off x="3852720" y="105264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 flipV="1">
            <a:off x="5437080" y="105264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>
            <a:off x="3060720" y="1413000"/>
            <a:ext cx="151128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 flipV="1">
            <a:off x="4572000" y="1339920"/>
            <a:ext cx="115236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 flipV="1">
            <a:off x="3060720" y="1052280"/>
            <a:ext cx="79200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 flipH="1" flipV="1">
            <a:off x="5437080" y="1052640"/>
            <a:ext cx="2872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3852720" y="105264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2556000" y="2781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4140360" y="3357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5292720" y="2708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>
            <a:off x="4572000" y="2205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>
            <a:off x="3276720" y="2276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>
            <a:off x="2484360" y="1268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4284720" y="1773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5364000" y="1197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>
            <a:off x="4643280" y="6922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"/>
          <p:cNvSpPr/>
          <p:nvPr/>
        </p:nvSpPr>
        <p:spPr>
          <a:xfrm>
            <a:off x="3276720" y="692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1692360" y="1773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2195640" y="1916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>
            <a:off x="4067280" y="17002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>
            <a:off x="6012000" y="177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>
            <a:off x="2340000" y="9079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"/>
          <p:cNvSpPr/>
          <p:nvPr/>
        </p:nvSpPr>
        <p:spPr>
          <a:xfrm>
            <a:off x="3276720" y="105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 flipV="1">
            <a:off x="3059280" y="2565000"/>
            <a:ext cx="792000" cy="358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"/>
          <p:cNvSpPr/>
          <p:nvPr/>
        </p:nvSpPr>
        <p:spPr>
          <a:xfrm flipV="1">
            <a:off x="3059280" y="1268280"/>
            <a:ext cx="792000" cy="86544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"/>
          <p:cNvSpPr/>
          <p:nvPr/>
        </p:nvSpPr>
        <p:spPr>
          <a:xfrm flipV="1">
            <a:off x="1084320" y="2133360"/>
            <a:ext cx="1976400" cy="21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"/>
          <p:cNvSpPr/>
          <p:nvPr/>
        </p:nvSpPr>
        <p:spPr>
          <a:xfrm flipV="1">
            <a:off x="684360" y="2924280"/>
            <a:ext cx="2376360" cy="1076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"/>
          <p:cNvSpPr/>
          <p:nvPr/>
        </p:nvSpPr>
        <p:spPr>
          <a:xfrm>
            <a:off x="1258920" y="306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"/>
          <p:cNvSpPr/>
          <p:nvPr/>
        </p:nvSpPr>
        <p:spPr>
          <a:xfrm>
            <a:off x="3851280" y="2576520"/>
            <a:ext cx="1873080" cy="276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5724360" y="2852640"/>
            <a:ext cx="30956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3851280" y="1268280"/>
            <a:ext cx="1873080" cy="81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5724360" y="2060640"/>
            <a:ext cx="2951280" cy="128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8244000" y="2924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 flipV="1">
            <a:off x="1835280" y="3282840"/>
            <a:ext cx="669744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687708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3059280" y="2924280"/>
            <a:ext cx="2520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471636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 flipH="1" flipV="1">
            <a:off x="3059280" y="2133720"/>
            <a:ext cx="1728720" cy="12952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4284720" y="2924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684360" y="5516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N=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  B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 rot="10800000">
            <a:off x="2268000" y="55152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2" dur="indefinite" restart="never" nodeType="tmRoot">
          <p:childTnLst>
            <p:seq>
              <p:cTn id="2923" dur="indefinite" nodeType="mainSeq">
                <p:childTnLst>
                  <p:par>
                    <p:cTn id="2924" fill="hold">
                      <p:stCondLst>
                        <p:cond delay="indefinite"/>
                      </p:stCondLst>
                      <p:childTnLst>
                        <p:par>
                          <p:cTn id="2925" fill="hold">
                            <p:stCondLst>
                              <p:cond delay="0"/>
                            </p:stCondLst>
                            <p:childTnLst>
                              <p:par>
                                <p:cTn id="29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8" dur="500"/>
                                        <p:tgtEl>
                                          <p:spTgt spid="3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"/>
          <p:cNvSpPr/>
          <p:nvPr/>
        </p:nvSpPr>
        <p:spPr>
          <a:xfrm>
            <a:off x="3852720" y="25653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"/>
          <p:cNvSpPr/>
          <p:nvPr/>
        </p:nvSpPr>
        <p:spPr>
          <a:xfrm>
            <a:off x="5437080" y="2565360"/>
            <a:ext cx="287280" cy="28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"/>
          <p:cNvSpPr/>
          <p:nvPr/>
        </p:nvSpPr>
        <p:spPr>
          <a:xfrm flipH="1">
            <a:off x="4571640" y="2852640"/>
            <a:ext cx="115236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 flipH="1" flipV="1">
            <a:off x="3060720" y="2924280"/>
            <a:ext cx="151128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"/>
          <p:cNvSpPr/>
          <p:nvPr/>
        </p:nvSpPr>
        <p:spPr>
          <a:xfrm flipV="1">
            <a:off x="3060720" y="141300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"/>
          <p:cNvSpPr/>
          <p:nvPr/>
        </p:nvSpPr>
        <p:spPr>
          <a:xfrm flipV="1">
            <a:off x="4572000" y="184464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 flipV="1">
            <a:off x="5724360" y="133992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 flipV="1">
            <a:off x="3852720" y="105264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"/>
          <p:cNvSpPr/>
          <p:nvPr/>
        </p:nvSpPr>
        <p:spPr>
          <a:xfrm flipV="1">
            <a:off x="5437080" y="105264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>
            <a:off x="3060720" y="1413000"/>
            <a:ext cx="151128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 flipV="1">
            <a:off x="4572000" y="1339920"/>
            <a:ext cx="115236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 flipV="1">
            <a:off x="3060720" y="1052280"/>
            <a:ext cx="79200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 flipH="1" flipV="1">
            <a:off x="5437080" y="1052640"/>
            <a:ext cx="2872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3852720" y="105264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2556000" y="2781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>
            <a:off x="4140360" y="3357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5292720" y="2708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"/>
          <p:cNvSpPr/>
          <p:nvPr/>
        </p:nvSpPr>
        <p:spPr>
          <a:xfrm>
            <a:off x="4572000" y="2205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"/>
          <p:cNvSpPr/>
          <p:nvPr/>
        </p:nvSpPr>
        <p:spPr>
          <a:xfrm>
            <a:off x="3276720" y="2276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"/>
          <p:cNvSpPr/>
          <p:nvPr/>
        </p:nvSpPr>
        <p:spPr>
          <a:xfrm>
            <a:off x="2484360" y="1268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"/>
          <p:cNvSpPr/>
          <p:nvPr/>
        </p:nvSpPr>
        <p:spPr>
          <a:xfrm>
            <a:off x="4284720" y="1773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"/>
          <p:cNvSpPr/>
          <p:nvPr/>
        </p:nvSpPr>
        <p:spPr>
          <a:xfrm>
            <a:off x="5364000" y="1197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4643280" y="6922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3276720" y="692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1692360" y="1773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2195640" y="1916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4067280" y="17002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6012000" y="177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2340000" y="9079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3276720" y="105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 flipV="1">
            <a:off x="3059280" y="2565000"/>
            <a:ext cx="792000" cy="358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 flipV="1">
            <a:off x="3059280" y="1268280"/>
            <a:ext cx="792000" cy="86544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 flipV="1">
            <a:off x="1084320" y="2133360"/>
            <a:ext cx="1976400" cy="21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 flipV="1">
            <a:off x="684360" y="2924280"/>
            <a:ext cx="2376360" cy="1076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1258920" y="306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3851280" y="2576520"/>
            <a:ext cx="1873080" cy="276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"/>
          <p:cNvSpPr/>
          <p:nvPr/>
        </p:nvSpPr>
        <p:spPr>
          <a:xfrm>
            <a:off x="5724360" y="2852640"/>
            <a:ext cx="30956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/>
          <p:cNvSpPr/>
          <p:nvPr/>
        </p:nvSpPr>
        <p:spPr>
          <a:xfrm>
            <a:off x="3851280" y="1268280"/>
            <a:ext cx="1873080" cy="81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"/>
          <p:cNvSpPr/>
          <p:nvPr/>
        </p:nvSpPr>
        <p:spPr>
          <a:xfrm>
            <a:off x="5724360" y="2060640"/>
            <a:ext cx="2951280" cy="128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"/>
          <p:cNvSpPr/>
          <p:nvPr/>
        </p:nvSpPr>
        <p:spPr>
          <a:xfrm>
            <a:off x="8244000" y="2924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"/>
          <p:cNvSpPr/>
          <p:nvPr/>
        </p:nvSpPr>
        <p:spPr>
          <a:xfrm flipV="1">
            <a:off x="1835280" y="3282840"/>
            <a:ext cx="669744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687708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"/>
          <p:cNvSpPr/>
          <p:nvPr/>
        </p:nvSpPr>
        <p:spPr>
          <a:xfrm>
            <a:off x="3059280" y="2924280"/>
            <a:ext cx="2520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471636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 flipH="1" flipV="1">
            <a:off x="3059280" y="2133720"/>
            <a:ext cx="1512720" cy="1133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4284720" y="2924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 flipH="1">
            <a:off x="4355640" y="2565360"/>
            <a:ext cx="1079640" cy="100800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"/>
          <p:cNvSpPr/>
          <p:nvPr/>
        </p:nvSpPr>
        <p:spPr>
          <a:xfrm>
            <a:off x="392436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 flipH="1" flipV="1">
            <a:off x="4571640" y="3284640"/>
            <a:ext cx="144360" cy="1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"/>
          <p:cNvSpPr/>
          <p:nvPr/>
        </p:nvSpPr>
        <p:spPr>
          <a:xfrm flipV="1">
            <a:off x="4572000" y="2060280"/>
            <a:ext cx="1152360" cy="1152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>
            <a:off x="611280" y="551664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 rot="10800000">
            <a:off x="1835280" y="55152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9" dur="indefinite" restart="never" nodeType="tmRoot">
          <p:childTnLst>
            <p:seq>
              <p:cTn id="2930" dur="indefinite" nodeType="mainSeq">
                <p:childTnLst>
                  <p:par>
                    <p:cTn id="2931" fill="hold">
                      <p:stCondLst>
                        <p:cond delay="indefinite"/>
                      </p:stCondLst>
                      <p:childTnLst>
                        <p:par>
                          <p:cTn id="2932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5" dur="500"/>
                                        <p:tgtEl>
                                          <p:spTgt spid="3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"/>
          <p:cNvSpPr/>
          <p:nvPr/>
        </p:nvSpPr>
        <p:spPr>
          <a:xfrm>
            <a:off x="3852720" y="25653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"/>
          <p:cNvSpPr/>
          <p:nvPr/>
        </p:nvSpPr>
        <p:spPr>
          <a:xfrm>
            <a:off x="5437080" y="2565360"/>
            <a:ext cx="287280" cy="28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 flipH="1">
            <a:off x="4571640" y="2852640"/>
            <a:ext cx="115236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 flipH="1" flipV="1">
            <a:off x="3060720" y="2924280"/>
            <a:ext cx="151128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"/>
          <p:cNvSpPr/>
          <p:nvPr/>
        </p:nvSpPr>
        <p:spPr>
          <a:xfrm flipV="1">
            <a:off x="3060720" y="141300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"/>
          <p:cNvSpPr/>
          <p:nvPr/>
        </p:nvSpPr>
        <p:spPr>
          <a:xfrm flipV="1">
            <a:off x="4572000" y="184464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/>
          <p:cNvSpPr/>
          <p:nvPr/>
        </p:nvSpPr>
        <p:spPr>
          <a:xfrm flipV="1">
            <a:off x="5724360" y="133992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 flipV="1">
            <a:off x="3852720" y="105264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 flipV="1">
            <a:off x="5437080" y="105264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>
            <a:off x="3060720" y="1413000"/>
            <a:ext cx="151128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"/>
          <p:cNvSpPr/>
          <p:nvPr/>
        </p:nvSpPr>
        <p:spPr>
          <a:xfrm flipV="1">
            <a:off x="4572000" y="1339920"/>
            <a:ext cx="115236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 flipV="1">
            <a:off x="3060720" y="1052280"/>
            <a:ext cx="79200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"/>
          <p:cNvSpPr/>
          <p:nvPr/>
        </p:nvSpPr>
        <p:spPr>
          <a:xfrm flipH="1" flipV="1">
            <a:off x="5437080" y="1052640"/>
            <a:ext cx="2872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"/>
          <p:cNvSpPr/>
          <p:nvPr/>
        </p:nvSpPr>
        <p:spPr>
          <a:xfrm>
            <a:off x="3852720" y="105264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2556000" y="2781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>
            <a:off x="4140360" y="3357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>
            <a:off x="5292720" y="2708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"/>
          <p:cNvSpPr/>
          <p:nvPr/>
        </p:nvSpPr>
        <p:spPr>
          <a:xfrm>
            <a:off x="4572000" y="2205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"/>
          <p:cNvSpPr/>
          <p:nvPr/>
        </p:nvSpPr>
        <p:spPr>
          <a:xfrm>
            <a:off x="3276720" y="2276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"/>
          <p:cNvSpPr/>
          <p:nvPr/>
        </p:nvSpPr>
        <p:spPr>
          <a:xfrm>
            <a:off x="2484360" y="1268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"/>
          <p:cNvSpPr/>
          <p:nvPr/>
        </p:nvSpPr>
        <p:spPr>
          <a:xfrm>
            <a:off x="4284720" y="1773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5364000" y="1197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4643280" y="6922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>
            <a:off x="3276720" y="692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1692360" y="1773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2195640" y="1916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4067280" y="17002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6012000" y="177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2340000" y="9079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3276720" y="105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 flipV="1">
            <a:off x="3059280" y="2565000"/>
            <a:ext cx="792000" cy="358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 flipV="1">
            <a:off x="3059280" y="1268280"/>
            <a:ext cx="792000" cy="86544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 flipV="1">
            <a:off x="1084320" y="2133360"/>
            <a:ext cx="1976400" cy="21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 flipV="1">
            <a:off x="684360" y="2924280"/>
            <a:ext cx="2376360" cy="1076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1258920" y="306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3851280" y="2576520"/>
            <a:ext cx="1873080" cy="276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"/>
          <p:cNvSpPr/>
          <p:nvPr/>
        </p:nvSpPr>
        <p:spPr>
          <a:xfrm>
            <a:off x="5724360" y="2852640"/>
            <a:ext cx="30956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>
            <a:off x="3851280" y="1268280"/>
            <a:ext cx="1873080" cy="81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5724360" y="2060640"/>
            <a:ext cx="2951280" cy="128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>
            <a:off x="8244000" y="2924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 flipV="1">
            <a:off x="1835280" y="3282840"/>
            <a:ext cx="669744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>
            <a:off x="687708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"/>
          <p:cNvSpPr/>
          <p:nvPr/>
        </p:nvSpPr>
        <p:spPr>
          <a:xfrm>
            <a:off x="3059280" y="2924280"/>
            <a:ext cx="2520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"/>
          <p:cNvSpPr/>
          <p:nvPr/>
        </p:nvSpPr>
        <p:spPr>
          <a:xfrm>
            <a:off x="471636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 flipH="1" flipV="1">
            <a:off x="3059280" y="2133720"/>
            <a:ext cx="172872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/>
          <p:cNvSpPr/>
          <p:nvPr/>
        </p:nvSpPr>
        <p:spPr>
          <a:xfrm>
            <a:off x="4356000" y="2924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 flipH="1">
            <a:off x="4355640" y="2565360"/>
            <a:ext cx="107964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"/>
          <p:cNvSpPr/>
          <p:nvPr/>
        </p:nvSpPr>
        <p:spPr>
          <a:xfrm>
            <a:off x="392436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/>
          <p:nvPr/>
        </p:nvSpPr>
        <p:spPr>
          <a:xfrm flipV="1">
            <a:off x="4500720" y="1557000"/>
            <a:ext cx="934920" cy="187164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>
            <a:off x="4788000" y="1197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 flipH="1" flipV="1">
            <a:off x="3059280" y="2133720"/>
            <a:ext cx="1512720" cy="1133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 flipV="1">
            <a:off x="4572000" y="2060280"/>
            <a:ext cx="1152360" cy="1152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539640" y="5445000"/>
            <a:ext cx="8136000" cy="64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7e9ce8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684360" y="55166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) Q=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  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 rot="10800000">
            <a:off x="2195640" y="55152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6" dur="indefinite" restart="never" nodeType="tmRoot">
          <p:childTnLst>
            <p:seq>
              <p:cTn id="2937" dur="indefinite" nodeType="mainSeq">
                <p:childTnLst>
                  <p:par>
                    <p:cTn id="2938" fill="hold">
                      <p:stCondLst>
                        <p:cond delay="indefinite"/>
                      </p:stCondLst>
                      <p:childTnLst>
                        <p:par>
                          <p:cTn id="2939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2" dur="500"/>
                                        <p:tgtEl>
                                          <p:spTgt spid="3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26:56Z</dcterms:created>
  <dc:creator>школа</dc:creator>
  <dc:description/>
  <dc:language>en-US</dc:language>
  <cp:lastModifiedBy>user</cp:lastModifiedBy>
  <dcterms:modified xsi:type="dcterms:W3CDTF">2008-04-25T05:10:11Z</dcterms:modified>
  <cp:revision>25</cp:revision>
  <dc:subject/>
  <dc:title>Слайд 1</dc:title>
</cp:coreProperties>
</file>